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067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0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119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119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6E83-37D4-4DB0-B604-EC9A2D47F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4109-115A-48B9-8497-EC008AB2A6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BFCA-2A05-4C8E-A946-5572617915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00D6-3B82-41D7-AFB5-17B6FF6497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E7DD-3C0C-4C51-A0D3-650572A806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F189-A863-40D5-9DEB-102B82A75C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7882-08AA-4224-836C-0CA9211911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172B-F5D0-4E22-8286-C90BA1D9EA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2313-2481-43D6-977C-650CA36E52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7CFB-A5FA-4866-A286-2A7BEE9306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D421-13BA-44F5-A7BA-642EE5E6A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976D-A62B-4F73-B4A2-03F55CC3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0D0D-5B17-49C8-8BFF-D978819B5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D9B0-F081-4D01-955C-A01B11FDA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93AC-DCF9-41FB-91A8-70ACD5968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FE3E-B157-42A0-8347-68AFE4B9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F0DC-C4F6-4724-B7D1-5943180F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B7CF-EF40-4ACB-97B0-14189384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9B27-9295-48EF-846B-32300C67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329E-5D19-431E-B643-5FC2CD00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84A7-A0A9-4507-8080-F6F6CC02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D459-226D-4EBA-8903-89F7B04B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5399-6C88-461B-9257-4709E139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86E4-3BC0-4076-808F-18AC41D3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42DD-9F9A-4E2B-882E-F2DB0780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DE68-2366-4CD6-ABB2-20884BC1A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8404-133F-44BE-8ED5-FE72FA801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6BA9-994B-46CC-843A-90C83952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F724-7ABC-4B86-A924-3097350D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1E2B-54A5-44E9-9A59-05415D59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C03D-F50E-47C5-89F5-A92DBB96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E245-7C17-4C39-A94E-E51E31ED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CDB0-620D-42D9-9C75-520CCF32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45D3-CCFE-4A86-A6F0-1A84893D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246E-1372-4ABF-A35B-34F511C4F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C8C4-CE1A-478B-81F9-BC7D4C6B1F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488B-6775-498F-9BDA-5FAE939F88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ecff"/>
                </a:solidFill>
                <a:latin typeface="Arial"/>
              </a:rPr>
              <a:t>Motivational Theories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1828800" y="4608360"/>
            <a:ext cx="5334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P Psych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4F19-9AA2-468F-8CF0-64FC457001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slow’s Hierarchy of Need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4193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me needs take priority over oth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hysiological needs are lower &amp; must be met fir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ly when these needs are met are we prompted to move up the pyrami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152280" y="1646280"/>
            <a:ext cx="433872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IT TICK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the difference(s) between motivation and instin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your motivation to sign up for AP Psychology? (what theory is supported by this decis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C45A-D375-43AD-88BE-4FCAFD9098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E765-CF58-4098-8431-6C5F987A7C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ere Do We Begi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otiv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a psychological process that directs and maintains your behavior toward a go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otiv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e the needs, wants, interests, and desires that propel or drive people in certain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236E-4517-4757-B470-9B3603380C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otivation and Instinct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rocess that energizes and directs behavior; typically is                 learn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8e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be biological (nature) or social (nurt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in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x behavior that is rigidly patterned throughout a species and i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nlear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7" descr="Brown_bear_rearing"/>
          <p:cNvPicPr/>
          <p:nvPr/>
        </p:nvPicPr>
        <p:blipFill>
          <a:blip r:embed="rId1"/>
          <a:stretch/>
        </p:blipFill>
        <p:spPr>
          <a:xfrm>
            <a:off x="990720" y="1752480"/>
            <a:ext cx="319068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6476-6DDD-42BD-9D75-DDE7B1DB19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iological and Social Motiv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iological Mo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reto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ocial Mo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hie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no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il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8BF7-7805-4D84-898B-672C3D797E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396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stinct Theory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417680"/>
            <a:ext cx="8686800" cy="23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organisms are born with innate biological tendencies that help them surviv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97520" indent="-19116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incts drive all behavi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97520" indent="-19116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incts are goal-directed and innate patterns of behavi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65720" indent="-153000">
              <a:spcBef>
                <a:spcPts val="601"/>
              </a:spcBef>
              <a:buClr>
                <a:srgbClr val="0088e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the result of learning or 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**Replaced by evolutionary per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072080" indent="-153000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erved behavior is likely to have developed because it is adap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B407-2D98-4607-9334-F1543C64F0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396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rive Reduction Theory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1649160"/>
            <a:ext cx="9067680" cy="31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ological needs create driv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viduals are motivated to reduce dr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gage in behaviors that reduce/eliminate dr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ive theory contends that the source of motivation lies within the person (not from the environ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457200" y="4648320"/>
            <a:ext cx="8229600" cy="1313640"/>
            <a:chOff x="457200" y="4648320"/>
            <a:chExt cx="8229600" cy="1313640"/>
          </a:xfrm>
        </p:grpSpPr>
        <p:grpSp>
          <p:nvGrpSpPr>
            <p:cNvPr id="241" name="Group 5"/>
            <p:cNvGrpSpPr/>
            <p:nvPr/>
          </p:nvGrpSpPr>
          <p:grpSpPr>
            <a:xfrm>
              <a:off x="6400800" y="4648320"/>
              <a:ext cx="2286000" cy="1313640"/>
              <a:chOff x="6400800" y="4648320"/>
              <a:chExt cx="2286000" cy="1313640"/>
            </a:xfrm>
          </p:grpSpPr>
          <p:sp>
            <p:nvSpPr>
              <p:cNvPr id="242" name="Rectangle 6"/>
              <p:cNvSpPr/>
              <p:nvPr/>
            </p:nvSpPr>
            <p:spPr>
              <a:xfrm>
                <a:off x="6400800" y="4648320"/>
                <a:ext cx="2286000" cy="1066680"/>
              </a:xfrm>
              <a:prstGeom prst="rect">
                <a:avLst/>
              </a:prstGeom>
              <a:solidFill>
                <a:srgbClr val="ff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Text Box 7"/>
              <p:cNvSpPr/>
              <p:nvPr/>
            </p:nvSpPr>
            <p:spPr>
              <a:xfrm>
                <a:off x="6426360" y="4648320"/>
                <a:ext cx="2241360" cy="1313640"/>
              </a:xfrm>
              <a:prstGeom prst="rect">
                <a:avLst/>
              </a:prstGeom>
              <a:solidFill>
                <a:srgbClr val="ff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Drive-reducing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behavior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(eating, drinking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4" name="Rectangle 8"/>
            <p:cNvSpPr/>
            <p:nvPr/>
          </p:nvSpPr>
          <p:spPr>
            <a:xfrm>
              <a:off x="609480" y="4800600"/>
              <a:ext cx="18288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5" name="Group 9"/>
            <p:cNvGrpSpPr/>
            <p:nvPr/>
          </p:nvGrpSpPr>
          <p:grpSpPr>
            <a:xfrm>
              <a:off x="457200" y="4648320"/>
              <a:ext cx="2286000" cy="1066680"/>
              <a:chOff x="457200" y="4648320"/>
              <a:chExt cx="2286000" cy="1066680"/>
            </a:xfrm>
          </p:grpSpPr>
          <p:sp>
            <p:nvSpPr>
              <p:cNvPr id="246" name="Rectangle 10"/>
              <p:cNvSpPr/>
              <p:nvPr/>
            </p:nvSpPr>
            <p:spPr>
              <a:xfrm>
                <a:off x="457200" y="4648320"/>
                <a:ext cx="2286000" cy="10666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Text Box 11"/>
              <p:cNvSpPr/>
              <p:nvPr/>
            </p:nvSpPr>
            <p:spPr>
              <a:xfrm>
                <a:off x="760680" y="4659480"/>
                <a:ext cx="1623960" cy="100872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Nee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(e.g., for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food, water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2"/>
            <p:cNvGrpSpPr/>
            <p:nvPr/>
          </p:nvGrpSpPr>
          <p:grpSpPr>
            <a:xfrm>
              <a:off x="3422520" y="4648320"/>
              <a:ext cx="2292120" cy="1066680"/>
              <a:chOff x="3422520" y="4648320"/>
              <a:chExt cx="2292120" cy="1066680"/>
            </a:xfrm>
          </p:grpSpPr>
          <p:sp>
            <p:nvSpPr>
              <p:cNvPr id="249" name="Rectangle 13"/>
              <p:cNvSpPr/>
              <p:nvPr/>
            </p:nvSpPr>
            <p:spPr>
              <a:xfrm>
                <a:off x="3428640" y="4648320"/>
                <a:ext cx="2286000" cy="106668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Text Box 14"/>
              <p:cNvSpPr/>
              <p:nvPr/>
            </p:nvSpPr>
            <p:spPr>
              <a:xfrm>
                <a:off x="3422520" y="4800600"/>
                <a:ext cx="2216160" cy="70380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Driv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(hunger, thirst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1" name="Line 15"/>
            <p:cNvSpPr/>
            <p:nvPr/>
          </p:nvSpPr>
          <p:spPr>
            <a:xfrm>
              <a:off x="457200" y="4648320"/>
              <a:ext cx="22860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16"/>
            <p:cNvSpPr/>
            <p:nvPr/>
          </p:nvSpPr>
          <p:spPr>
            <a:xfrm>
              <a:off x="6400800" y="4648320"/>
              <a:ext cx="22860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17"/>
            <p:cNvSpPr/>
            <p:nvPr/>
          </p:nvSpPr>
          <p:spPr>
            <a:xfrm>
              <a:off x="3429000" y="4648320"/>
              <a:ext cx="22860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AutoShape 18"/>
            <p:cNvSpPr/>
            <p:nvPr/>
          </p:nvSpPr>
          <p:spPr>
            <a:xfrm>
              <a:off x="2895480" y="4876920"/>
              <a:ext cx="381240" cy="485640"/>
            </a:xfrm>
            <a:prstGeom prst="rightArrow">
              <a:avLst>
                <a:gd name="adj1" fmla="val 41833"/>
                <a:gd name="adj2" fmla="val 5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AutoShape 19"/>
            <p:cNvSpPr/>
            <p:nvPr/>
          </p:nvSpPr>
          <p:spPr>
            <a:xfrm>
              <a:off x="5867280" y="4876920"/>
              <a:ext cx="381240" cy="485640"/>
            </a:xfrm>
            <a:prstGeom prst="rightArrow">
              <a:avLst>
                <a:gd name="adj1" fmla="val 41833"/>
                <a:gd name="adj2" fmla="val 5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EA89-E758-4725-9C92-3F559836A1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600200"/>
            <a:ext cx="339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314880" y="1600200"/>
            <a:ext cx="582912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rive is an internal state of tension that motivates us to engage in activities that reduce this ten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bodies strive to keep a (somewhat) constant state- Homeosta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 we HAVE to reduce the drive (dying of thirst, hunger, etc.) – we might not have a choi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en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can lead us to make choices different than what we may normally mak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Money, Power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7" descr="money1"/>
          <p:cNvPicPr/>
          <p:nvPr/>
        </p:nvPicPr>
        <p:blipFill>
          <a:blip r:embed="rId1"/>
          <a:stretch/>
        </p:blipFill>
        <p:spPr>
          <a:xfrm>
            <a:off x="457200" y="1600200"/>
            <a:ext cx="2857680" cy="38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BE22-5365-4CCF-A51C-B1BEDF0B5F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centive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218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12408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entives are positive OR negative environmental stimuli that have the ability to motivate behavi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ording to incentive theory, motivation comes from the environment around yo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Internal states of tensio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sh people certain dire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External stimuli pull people i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rtain dire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entives can combine with needs to cause us to feel strongly driv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6" descr="pushpop_small"/>
          <p:cNvPicPr/>
          <p:nvPr/>
        </p:nvPicPr>
        <p:blipFill>
          <a:blip r:embed="rId1"/>
          <a:stretch/>
        </p:blipFill>
        <p:spPr>
          <a:xfrm>
            <a:off x="190440" y="1620720"/>
            <a:ext cx="293364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Arousal The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ople are motivated to maintain their optimal level of arous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ase arousal when it is too 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rease arousal when it is too hi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gulation of arous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Yerkes-Dodson Law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performance                                                      at any task varies with arousal. At                                                           low arousal, we become lethargic                                                     and perform badly. As arousal                                                                  increases, performance also                                                            increases-but only to a point, after                                                 which increasing arousal actually                                              decreases performa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4" descr="stress_graph_sm"/>
          <p:cNvPicPr/>
          <p:nvPr/>
        </p:nvPicPr>
        <p:blipFill>
          <a:blip r:embed="rId1"/>
          <a:stretch/>
        </p:blipFill>
        <p:spPr>
          <a:xfrm>
            <a:off x="5181480" y="2666880"/>
            <a:ext cx="36576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21:36:58Z</dcterms:created>
  <dc:creator>Chris Basich</dc:creator>
  <dc:description/>
  <dc:language>en-US</dc:language>
  <cp:lastModifiedBy>Debes John</cp:lastModifiedBy>
  <cp:lastPrinted>2015-01-21T13:19:44Z</cp:lastPrinted>
  <dcterms:modified xsi:type="dcterms:W3CDTF">2016-01-25T14:13:39Z</dcterms:modified>
  <cp:revision>79</cp:revision>
  <dc:subject/>
  <dc:title>Motivation and Emotion</dc:title>
</cp:coreProperties>
</file>