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83B-63F6-49C8-8A93-EA3409B0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51C-E5DD-441D-9953-64A2F3D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26C-9A24-422A-8F39-4616FCBC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F52-69C0-4B6C-9CE7-A76104CF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357-7BC9-4307-B928-207339D0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A8B-E0F1-4A1B-820A-1FC15305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6B4-9AB0-4BCA-B3A8-5D99E086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2DA-BCE0-4328-99D8-8D8500B9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0B2-C67F-4E6D-9A48-2C3A4F37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437-A2A8-48E7-9630-E4E2B14D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33A-FD1E-485F-A18B-62D364C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197-9B23-4061-B34B-D0391D8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a2f7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C4D4-AEA2-41CB-8746-DE64D5E53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69608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Unit V: States of Consciousness</a:t>
            </a:r>
            <a:br>
              <a:rPr sz="36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ule 25-Psychoactive Dru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3371760" y="3889440"/>
            <a:ext cx="22068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Effects of Methampheta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fairfaxunderground.com/forum/file.php?2,file=38164,filename=addict_faces_of_meth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llucinog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0" y="66024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or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SD (lysergic acid diethylamide)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vere, terrifying thoughts and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nic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vere depression or psych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iju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C (Delta-9-Tetrahydrocannabin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50% to 70% more cancer-causing substances than tobacco smo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ch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minished mental functions in habitu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C disrupts nerve cells in the brain affecting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673_MyersPsy8e_fig"/>
          <p:cNvPicPr/>
          <p:nvPr/>
        </p:nvPicPr>
        <p:blipFill>
          <a:blip r:embed="rId1"/>
          <a:stretch/>
        </p:blipFill>
        <p:spPr>
          <a:xfrm>
            <a:off x="131760" y="1676520"/>
            <a:ext cx="885996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-3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iopsychosocial approach to psychoactive drug 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psychoactive dru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it mean to develop tolerance to a dru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characteristics of the following types of dru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ess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lucin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lerance and Addi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ac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ugs-chemical that alters your perceptions and/or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diminishing                                                     effect of a drug at a given                                               dose, thus requiring larger                                          doses to experience its’                                            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iction-a compulsive                                          craving of a drug or                                                   substance (or certain                                      behaviors) despite known advers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drawal-discomfort &amp; distress that follows discontinuing an addictive drug/substance or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MyAP1e_fig_5_11.jpg"/>
          <p:cNvPicPr/>
          <p:nvPr/>
        </p:nvPicPr>
        <p:blipFill>
          <a:blip r:embed="rId1"/>
          <a:stretch/>
        </p:blipFill>
        <p:spPr>
          <a:xfrm>
            <a:off x="4657680" y="1366920"/>
            <a:ext cx="44798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bstance abuse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aving a particular substance, even though it may disrupt your life, or pose risks to you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2"/>
          <p:cNvSpPr/>
          <p:nvPr/>
        </p:nvSpPr>
        <p:spPr>
          <a:xfrm>
            <a:off x="2514600" y="2362320"/>
            <a:ext cx="60958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0"/>
          <p:cNvSpPr/>
          <p:nvPr/>
        </p:nvSpPr>
        <p:spPr>
          <a:xfrm>
            <a:off x="3048120" y="2743200"/>
            <a:ext cx="55623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3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4"/>
          <p:cNvSpPr/>
          <p:nvPr/>
        </p:nvSpPr>
        <p:spPr>
          <a:xfrm>
            <a:off x="228600" y="2514600"/>
            <a:ext cx="1219320" cy="0"/>
          </a:xfrm>
          <a:prstGeom prst="line">
            <a:avLst/>
          </a:prstGeom>
          <a:ln cap="rnd" w="16524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228600" y="3429000"/>
            <a:ext cx="15238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685800" y="3657600"/>
            <a:ext cx="46483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6"/>
          <p:cNvSpPr/>
          <p:nvPr/>
        </p:nvSpPr>
        <p:spPr>
          <a:xfrm>
            <a:off x="685800" y="3886200"/>
            <a:ext cx="426708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>
            <a:off x="685800" y="4114800"/>
            <a:ext cx="62485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609480" y="4267080"/>
            <a:ext cx="2057400" cy="0"/>
          </a:xfrm>
          <a:prstGeom prst="line">
            <a:avLst/>
          </a:prstGeom>
          <a:ln w="11124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8"/>
          <p:cNvSpPr/>
          <p:nvPr/>
        </p:nvSpPr>
        <p:spPr>
          <a:xfrm>
            <a:off x="228600" y="4572000"/>
            <a:ext cx="16765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9"/>
          <p:cNvSpPr/>
          <p:nvPr/>
        </p:nvSpPr>
        <p:spPr>
          <a:xfrm>
            <a:off x="380880" y="4800600"/>
            <a:ext cx="49532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1"/>
          <p:cNvSpPr/>
          <p:nvPr/>
        </p:nvSpPr>
        <p:spPr>
          <a:xfrm>
            <a:off x="380880" y="5181480"/>
            <a:ext cx="579132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2"/>
          <p:cNvSpPr/>
          <p:nvPr/>
        </p:nvSpPr>
        <p:spPr>
          <a:xfrm>
            <a:off x="380880" y="4952880"/>
            <a:ext cx="3733920" cy="0"/>
          </a:xfrm>
          <a:prstGeom prst="line">
            <a:avLst/>
          </a:prstGeom>
          <a:ln w="12708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3"/>
          <p:cNvSpPr/>
          <p:nvPr/>
        </p:nvSpPr>
        <p:spPr>
          <a:xfrm>
            <a:off x="190440" y="5486400"/>
            <a:ext cx="9525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4"/>
          <p:cNvSpPr/>
          <p:nvPr/>
        </p:nvSpPr>
        <p:spPr>
          <a:xfrm>
            <a:off x="380880" y="5715000"/>
            <a:ext cx="31244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5"/>
          <p:cNvSpPr/>
          <p:nvPr/>
        </p:nvSpPr>
        <p:spPr>
          <a:xfrm>
            <a:off x="343080" y="5867280"/>
            <a:ext cx="659124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26"/>
          <p:cNvSpPr/>
          <p:nvPr/>
        </p:nvSpPr>
        <p:spPr>
          <a:xfrm>
            <a:off x="291960" y="6172200"/>
            <a:ext cx="9525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7"/>
          <p:cNvSpPr/>
          <p:nvPr/>
        </p:nvSpPr>
        <p:spPr>
          <a:xfrm>
            <a:off x="291960" y="6400800"/>
            <a:ext cx="68709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8"/>
          <p:cNvSpPr/>
          <p:nvPr/>
        </p:nvSpPr>
        <p:spPr>
          <a:xfrm>
            <a:off x="291960" y="6629400"/>
            <a:ext cx="5270760" cy="0"/>
          </a:xfrm>
          <a:prstGeom prst="line">
            <a:avLst/>
          </a:prstGeom>
          <a:ln cap="rnd" w="146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ypes of Psychoactive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types of psychoactiv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ressants-Drugs that reduce neural activity and slow bod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imulants-Drugs that excite neural activity and speed up bod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lucinogens-drugs that distort perceptions and evoke sensory images in the absence of sensor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edelic; “mind-manifesting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press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sinhib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lowed neural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mory disru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duced self-awareness and 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rbitur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ranquiliz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KKorek\Documents\ABCFiles\2013 Myers AP 2e\Images\ImageJPGS_Module25\ImageJPGS_Module25\MyAP2e_fig_25_02.jpg"/>
          <p:cNvPicPr/>
          <p:nvPr/>
        </p:nvPicPr>
        <p:blipFill>
          <a:blip r:embed="rId1"/>
          <a:stretch/>
        </p:blipFill>
        <p:spPr>
          <a:xfrm>
            <a:off x="35812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90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imul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co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pheta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caine-c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amphe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stasy (MD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KKorek\Documents\ABCFiles\2013 Myers AP 2e\Images\ImageJPGS_Module25\ImageJPGS_Module25\MyAP2e_25UN03.jpg"/>
          <p:cNvPicPr/>
          <p:nvPr/>
        </p:nvPicPr>
        <p:blipFill>
          <a:blip r:embed="rId1"/>
          <a:stretch/>
        </p:blipFill>
        <p:spPr>
          <a:xfrm>
            <a:off x="5486400" y="1566720"/>
            <a:ext cx="331488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y Do People Smo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99864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277200" indent="-27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cially                                                                              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cotine                                                                                         takes away                                                                unpleasant                                                                                                                                                        cravings                                                                              (negative reinforcement) by triggering the release of epinephrine, norepinephrine, dopamine, &amp; endorph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otine itself is physiologically rewarding (positive reinforce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yersPsy8e_fig"/>
          <p:cNvPicPr/>
          <p:nvPr/>
        </p:nvPicPr>
        <p:blipFill>
          <a:blip r:embed="rId1"/>
          <a:stretch/>
        </p:blipFill>
        <p:spPr>
          <a:xfrm>
            <a:off x="2451240" y="838080"/>
            <a:ext cx="6705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Myers9e_fig_3_20"/>
          <p:cNvPicPr/>
          <p:nvPr/>
        </p:nvPicPr>
        <p:blipFill>
          <a:blip r:embed="rId1"/>
          <a:stretch/>
        </p:blipFill>
        <p:spPr>
          <a:xfrm>
            <a:off x="152280" y="7632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00" y="-4575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ca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0" y="990720"/>
            <a:ext cx="9158400" cy="5637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6095880" y="5638680"/>
            <a:ext cx="2971800" cy="98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"/>
          <p:cNvSpPr/>
          <p:nvPr/>
        </p:nvSpPr>
        <p:spPr>
          <a:xfrm>
            <a:off x="8001000" y="5562720"/>
            <a:ext cx="68580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5-12-15T11:30:17Z</dcterms:modified>
  <cp:revision>275</cp:revision>
  <dc:subject/>
  <dc:title>Slide 1</dc:title>
</cp:coreProperties>
</file>