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9450-4D54-416D-85DA-A097CC86F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tomatic animation for high track and low track. Click to show start of example. Click again to show the rest of the exa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9243-77C6-4A8C-987E-CE96C4E8A51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97031-C208-4E6C-AD4B-9702A83F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D7775-BF57-407B-9D10-1303548C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6258F-8C91-4018-B4B6-79A2FD00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1F89D-C1C4-4E69-BFB1-4C4CD986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B44A-B38B-4443-8F73-5093DE28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0E56-A4CA-4CDA-BB36-90B6CDE6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7E66-CAB0-4CA6-9217-9060C072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BD21-156B-4B04-B013-22A5C294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0F45-EE30-4FD8-9CC6-464F298C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5805-DE60-4B1E-A6F0-928AE6F3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203A-BBAF-40C6-86A7-0A1A09D1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812B1-8B84-4765-BB23-0F8A35F1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EFE6-DA2E-4FDE-8648-DEB2E155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D34B-5084-46F9-AA3F-A0CED1DC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0EDD-745C-4B8D-B9A2-A36B79AD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CFB1-78E6-431D-8B97-398B171F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2D97-85C2-4792-826D-4F92CB98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4465A-373E-44B1-BDB0-748E81B0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439FA-DB71-474E-BD45-029EC708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5F35A-9D67-4327-869F-632575CA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3DF4E-7EFB-4D14-9007-57408547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8B67-DA07-44DD-B022-FD2B98D4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263C0-40A7-4E45-BDB1-BF97DE0C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6EAD9-5C52-4471-AF69-E68008FF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A695-5E90-424B-82D8-695BCE92C4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CDD7-5B38-476D-9726-428D190397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660320"/>
            <a:ext cx="91440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3 (Module 13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Differences in the Brain &amp; Consciousnes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ight-Left Differences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in the Human Br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2193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Left Bra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Logica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equentia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ationa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nalytica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Objectiv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Looks at part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ight portion of bod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cademic Strengths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nguage (Written/Spoke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ience &amp; Mat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Content Placeholder 2"/>
          <p:cNvSpPr/>
          <p:nvPr/>
        </p:nvSpPr>
        <p:spPr>
          <a:xfrm>
            <a:off x="4572000" y="1241280"/>
            <a:ext cx="4572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ight Bra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ando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ntuitiv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Holistic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ynthesizin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ubjective (Emotion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Looks at whol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Left portion of bod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cademic Strengths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t &amp; Mus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eativ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oints to rememb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ile certain activities seem to be localized in one hemisphere or another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here is no activity to which only one hemisphere makes a contributio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Brain’s plasticity may allow it to compensate for damage to an area of the bra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In studies involving rats with brain damage, brain cells surrounding the damaged area underwent changes in their function &amp; shape that allowed them to take on the functions of the damaged cells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Although this phenomenon has not been widely studied in humans, data indicate that similar (though less effective) changes occur in human brains following injur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Brain and Conscious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onsciousnes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r awareness of ourselves and our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ognitive Neuroscienc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interdisciplinary study of the brain activity linked with </a:t>
            </a: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cogni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cep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n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ngua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ual Process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ual Process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inciple that information is often simultaneously processed on separate conscious and unconscious trac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-Vi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Visual perception track-enables us to think about the world (unconscious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Visual action track-guides are moment-to-moment movements (conscious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ounded Rectangle 6"/>
          <p:cNvSpPr/>
          <p:nvPr/>
        </p:nvSpPr>
        <p:spPr>
          <a:xfrm>
            <a:off x="160200" y="1093680"/>
            <a:ext cx="4124520" cy="306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ctr">
            <a:normAutofit/>
          </a:bodyPr>
          <a:p>
            <a:pPr algn="ctr">
              <a:lnSpc>
                <a:spcPts val="1998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090"/>
                </a:solidFill>
                <a:latin typeface="Calibri"/>
                <a:ea typeface="Arial"/>
              </a:rPr>
              <a:t>Conscious processing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ts val="1998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6e3"/>
                </a:solidFill>
                <a:latin typeface="Calibri"/>
                <a:ea typeface="Arial"/>
              </a:rPr>
              <a:t>our minds take deliberate  actions we know we are do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ts val="1998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6e3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8f6e3"/>
                </a:solidFill>
                <a:latin typeface="Calibri"/>
                <a:ea typeface="Arial"/>
              </a:rPr>
              <a:t>Examples: problem solving, naming an object, defining a wor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5520" y="1220760"/>
            <a:ext cx="4205520" cy="26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182880" tIns="182880" bIns="182880" anchor="ctr">
            <a:normAutofit fontScale="86000"/>
          </a:bodyPr>
          <a:p>
            <a:pPr algn="ctr">
              <a:lnSpc>
                <a:spcPts val="1998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090"/>
                </a:solidFill>
                <a:latin typeface="Garamond"/>
                <a:ea typeface="ＭＳ Ｐゴシック"/>
              </a:rPr>
              <a:t>Unconscious processing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ts val="1998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6e3"/>
                </a:solidFill>
                <a:latin typeface="Garamond"/>
                <a:ea typeface="ＭＳ Ｐゴシック"/>
              </a:rPr>
              <a:t>our minds perform automatic actions, often without being aware of th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ts val="1998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6e3"/>
                </a:solidFill>
                <a:latin typeface="Garamond"/>
                <a:ea typeface="ＭＳ Ｐゴシック"/>
              </a:rPr>
              <a:t>Examples: walking, acquiring phobias, processing sensory details into  perceptions and memor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5" descr="Myers9e_fig_6_12"/>
          <p:cNvPicPr/>
          <p:nvPr/>
        </p:nvPicPr>
        <p:blipFill>
          <a:blip r:embed="rId1"/>
          <a:srcRect l="7474" t="6307" r="0" b="4763"/>
          <a:stretch/>
        </p:blipFill>
        <p:spPr>
          <a:xfrm>
            <a:off x="3279600" y="4387680"/>
            <a:ext cx="1397160" cy="192096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12"/>
          <p:cNvGrpSpPr/>
          <p:nvPr/>
        </p:nvGrpSpPr>
        <p:grpSpPr>
          <a:xfrm>
            <a:off x="4676760" y="4387680"/>
            <a:ext cx="4273560" cy="1920960"/>
            <a:chOff x="4676760" y="4387680"/>
            <a:chExt cx="4273560" cy="1920960"/>
          </a:xfrm>
        </p:grpSpPr>
        <p:pic>
          <p:nvPicPr>
            <p:cNvPr id="140" name="Picture 5" descr="Myers9e_fig_6_12"/>
            <p:cNvPicPr/>
            <p:nvPr/>
          </p:nvPicPr>
          <p:blipFill>
            <a:blip r:embed="rId2"/>
            <a:srcRect l="0" t="6307" r="0" b="4763"/>
            <a:stretch/>
          </p:blipFill>
          <p:spPr>
            <a:xfrm>
              <a:off x="4676760" y="4387680"/>
              <a:ext cx="1423440" cy="192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Myers9e_fig_6_12"/>
            <p:cNvPicPr/>
            <p:nvPr/>
          </p:nvPicPr>
          <p:blipFill>
            <a:blip r:embed="rId3"/>
            <a:srcRect l="0" t="6307" r="0" b="4763"/>
            <a:stretch/>
          </p:blipFill>
          <p:spPr>
            <a:xfrm>
              <a:off x="6100200" y="4387680"/>
              <a:ext cx="1314000" cy="192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Myers9e_fig_6_12"/>
            <p:cNvPicPr/>
            <p:nvPr/>
          </p:nvPicPr>
          <p:blipFill>
            <a:blip r:embed="rId4"/>
            <a:srcRect l="0" t="6307" r="6478" b="4763"/>
            <a:stretch/>
          </p:blipFill>
          <p:spPr>
            <a:xfrm>
              <a:off x="7414200" y="4387680"/>
              <a:ext cx="153612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Rectangle 4"/>
          <p:cNvSpPr/>
          <p:nvPr/>
        </p:nvSpPr>
        <p:spPr>
          <a:xfrm>
            <a:off x="222120" y="4387680"/>
            <a:ext cx="2987640" cy="18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utomatic processing: Conscious “visual action” track says, “I saw a bird!”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Unconsciously, we see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Slide Number Placeholder 1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54C8-371F-4343-8398-F8361C34992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ual Process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2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Which hemisphere of the brain is usually more verbal?  Which is usually better at recognizing emo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What is “dual processing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Brain’s Plasti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lastici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rain’s ability to change, especially during childhood, by reorganizing after damage or by building new pathways based on experi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eurogenesis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formation of new neur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Divided Br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1417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Lateraliz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rain’s left and right hemispheres serve different physiological and cognitive fun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apparent after brain dam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ft hemisphere damage seemed to cause more significant/more major probl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ght hemisphere damage seemed to cause less significant/more minor probl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ft hemisphere dominant/right hemisphere subordinat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Divided Br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orpus Callosu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large band of neural fibers connects the two brain hemispheres and carries messages between th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4" descr="Myers9e_fig_2_30"/>
          <p:cNvPicPr/>
          <p:nvPr/>
        </p:nvPicPr>
        <p:blipFill>
          <a:blip r:embed="rId1"/>
          <a:stretch/>
        </p:blipFill>
        <p:spPr>
          <a:xfrm>
            <a:off x="1371600" y="3505320"/>
            <a:ext cx="64771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Divided Br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plit Bra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ndition resulting from surgery that isolates the brain’s two hemispheres by cutting the corpus callos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2" descr="http://www.holah.co.uk/images/splitbrain.png"/>
          <p:cNvPicPr/>
          <p:nvPr/>
        </p:nvPicPr>
        <p:blipFill>
          <a:blip r:embed="rId1"/>
          <a:stretch/>
        </p:blipFill>
        <p:spPr>
          <a:xfrm>
            <a:off x="2438280" y="3581280"/>
            <a:ext cx="40388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Visual Percep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4" descr="Myers9e_fig_2_31"/>
          <p:cNvPicPr/>
          <p:nvPr/>
        </p:nvPicPr>
        <p:blipFill>
          <a:blip r:embed="rId1"/>
          <a:stretch/>
        </p:blipFill>
        <p:spPr>
          <a:xfrm>
            <a:off x="2133720" y="1219320"/>
            <a:ext cx="48006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Visual Percep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114480" y="1143000"/>
            <a:ext cx="8915400" cy="61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Visual Percep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Left Visual Fiel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Right half of each ey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Right hemispher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ight Visual Fiel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Left half of each ey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Left hemispher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 two hemispheres communicate to coordinate visual information from the left &amp; right visual field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is communication doesn’t happen in individuals with split  brai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sting the Divided Br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oger Sparry &amp; Michael Gazzanig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ied split brain individuals (their corpus callosums had been severed to treat severe epileps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sented different visual images to the left &amp; right visual fiel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each hemisphere of the brain was given a chance to report what it had seen (verbally and physically indicating), each hemisphere gave a different answ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esting the Divided Br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4" descr="Myers9e_fig_2_32"/>
          <p:cNvPicPr/>
          <p:nvPr/>
        </p:nvPicPr>
        <p:blipFill>
          <a:blip r:embed="rId1"/>
          <a:stretch/>
        </p:blipFill>
        <p:spPr>
          <a:xfrm>
            <a:off x="685800" y="121932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5-11-02T22:00:02Z</dcterms:modified>
  <cp:revision>283</cp:revision>
  <dc:subject/>
  <dc:title>Chapter 8: Sensation and Perception</dc:title>
</cp:coreProperties>
</file>