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00AB-ECDA-4E70-A937-36A3A4D10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matic animation for high track and low track. Click to show start of example. Click again to show the rest of the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AE0C-7DD6-4AE6-9BC1-FB42F515D0B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32F9-3FED-4077-8684-CC076ABF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A130-C8E0-4F0F-AF96-DF021320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2293-13A2-4B15-AE87-2545C86B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1E6A-2A89-4393-9A0F-A461567A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810C-6F0E-4087-AA56-425DCD11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DF11-F1ED-40A7-9189-F15CB0E3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9B65-03E3-4E0A-B530-E624642D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0144-ECB4-4F14-A8A4-CFE88AAE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9BFC-F64B-4372-83F6-54DBED8E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51BE-CCDD-44DF-9416-3A8397E6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547E-A0EF-4051-8CD6-65C8779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549E-E40D-4B93-A72E-5362FBF1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BFCA-25FE-462A-966A-EBDEEDF4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4419-0DE0-4DD4-8DB3-A8C99A38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7292-E7BC-4BB5-BE2E-217772BA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16AD-2DF7-4F62-8A46-62805B23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70E5-CE83-40D7-A9C0-C80C41FF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5308-2418-4F25-8BF2-83E94769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CCB0-BCFF-4BA8-AFA8-20368347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2586-0797-4F8A-B554-727847DC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B7F9-70AC-4450-8606-7396355A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ECFA-292C-41A7-A535-015A4B02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A1DE-4404-4872-9524-6BF7F7E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6756-4DE8-4F3F-B842-D3F38F5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C53E-A5F9-479E-9C5C-C3586F2BFD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F667-8760-4DCD-AE1E-A817947D01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660320"/>
            <a:ext cx="91440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 (Module 13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Differences in the Brain &amp; Consciousnes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ight-Left Differences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n the Human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2193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Left Bra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gic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equenti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tion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nalytic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bjectiv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oks at par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ight portion of bo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cademic Strength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 (Written/Spoke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ience &amp; Ma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4572000" y="1241280"/>
            <a:ext cx="4572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ight Bra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ndo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tuitiv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olistic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ynthesiz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ubjective (Emotion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oks at whol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eft portion of bo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cademic Strength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t &amp; Mus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oints to rememb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ile certain activities seem to be localized in one hemisphere or another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here is no activity to which only one hemisphere makes a contributio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Brain’s plasticity may allow it to compensate for damage to an area of the br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In studies involving rats with brain damage, brain cells surrounding the damaged area underwent changes in their function &amp; shape that allowed them to take on the functions of the damaged cell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lthough this phenomenon has not been widely studied in humans, data indicate that similar (though less effective) changes occur in human brains following injur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Brain and Conscious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sciousnes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r awareness of ourselves and our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gnitive Neuroscien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disciplinary study of the brain activity linked with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gni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n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ual Process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ual Process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nciple that information is often simultaneously processed on separate conscious and unconscious tra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-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Visual perception track-enables us to think about the world (unconsciou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Visual action track-guides are moment-to-moment movements (consciou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6"/>
          <p:cNvSpPr/>
          <p:nvPr/>
        </p:nvSpPr>
        <p:spPr>
          <a:xfrm>
            <a:off x="160200" y="1093680"/>
            <a:ext cx="4124520" cy="306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ctr">
            <a:normAutofit/>
          </a:bodyPr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Calibri"/>
                <a:ea typeface="Arial"/>
              </a:rPr>
              <a:t>Conscious process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6e3"/>
                </a:solidFill>
                <a:latin typeface="Calibri"/>
                <a:ea typeface="Arial"/>
              </a:rPr>
              <a:t>our minds take deliberate  actions we know we are d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6e3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8f6e3"/>
                </a:solidFill>
                <a:latin typeface="Calibri"/>
                <a:ea typeface="Arial"/>
              </a:rPr>
              <a:t>Examples: problem solving, naming an object, defining a w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5520" y="1220760"/>
            <a:ext cx="4205520" cy="26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182880" tIns="182880" bIns="182880" anchor="ctr">
            <a:normAutofit fontScale="86000"/>
          </a:bodyPr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Garamond"/>
                <a:ea typeface="ＭＳ Ｐゴシック"/>
              </a:rPr>
              <a:t>Unconscious process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6e3"/>
                </a:solidFill>
                <a:latin typeface="Garamond"/>
                <a:ea typeface="ＭＳ Ｐゴシック"/>
              </a:rPr>
              <a:t>our minds perform automatic actions, often without being aware of th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6e3"/>
                </a:solidFill>
                <a:latin typeface="Garamond"/>
                <a:ea typeface="ＭＳ Ｐゴシック"/>
              </a:rPr>
              <a:t>Examples: walking, acquiring phobias, processing sensory details into  perceptions and memo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Myers9e_fig_6_12"/>
          <p:cNvPicPr/>
          <p:nvPr/>
        </p:nvPicPr>
        <p:blipFill>
          <a:blip r:embed="rId1"/>
          <a:srcRect l="7474" t="6307" r="0" b="4763"/>
          <a:stretch/>
        </p:blipFill>
        <p:spPr>
          <a:xfrm>
            <a:off x="3279600" y="4387680"/>
            <a:ext cx="1397160" cy="19209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4676760" y="4387680"/>
            <a:ext cx="4273560" cy="1920960"/>
            <a:chOff x="4676760" y="4387680"/>
            <a:chExt cx="4273560" cy="1920960"/>
          </a:xfrm>
        </p:grpSpPr>
        <p:pic>
          <p:nvPicPr>
            <p:cNvPr id="140" name="Picture 5" descr="Myers9e_fig_6_12"/>
            <p:cNvPicPr/>
            <p:nvPr/>
          </p:nvPicPr>
          <p:blipFill>
            <a:blip r:embed="rId2"/>
            <a:srcRect l="0" t="6307" r="0" b="4763"/>
            <a:stretch/>
          </p:blipFill>
          <p:spPr>
            <a:xfrm>
              <a:off x="4676760" y="4387680"/>
              <a:ext cx="1423440" cy="19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Myers9e_fig_6_12"/>
            <p:cNvPicPr/>
            <p:nvPr/>
          </p:nvPicPr>
          <p:blipFill>
            <a:blip r:embed="rId3"/>
            <a:srcRect l="0" t="6307" r="0" b="4763"/>
            <a:stretch/>
          </p:blipFill>
          <p:spPr>
            <a:xfrm>
              <a:off x="6100200" y="4387680"/>
              <a:ext cx="1314000" cy="19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Myers9e_fig_6_12"/>
            <p:cNvPicPr/>
            <p:nvPr/>
          </p:nvPicPr>
          <p:blipFill>
            <a:blip r:embed="rId4"/>
            <a:srcRect l="0" t="6307" r="6478" b="4763"/>
            <a:stretch/>
          </p:blipFill>
          <p:spPr>
            <a:xfrm>
              <a:off x="7414200" y="4387680"/>
              <a:ext cx="153612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4"/>
          <p:cNvSpPr/>
          <p:nvPr/>
        </p:nvSpPr>
        <p:spPr>
          <a:xfrm>
            <a:off x="222120" y="4387680"/>
            <a:ext cx="298764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utomatic processing: Conscious “visual action” track says, “I saw a bird!”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Unconsciously, we see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90C7-AF60-4ACE-AC38-B17507308C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ual Process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ich hemisphere of the brain is usually more verbal?  Which is usually better at recognizing emo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is “dual processing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Brain’s Plasti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lastic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rain’s ability to change, especially during childhood, by reorganizing after damage or by building new pathways based on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urogenesi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formation of new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417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Lateraliz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rain’s left and right hemispheres serve different physiological and cognitive fun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apparent after brain dam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ft hemisphere damage seemed to cause more significant/more major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ht hemisphere damage seemed to cause less significant/more minor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ft hemisphere dominant/right hemisphere subordinat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rpus Callosu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arge band of neural fibers connects the two brain hemispheres and carries messages between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Myers9e_fig_2_30"/>
          <p:cNvPicPr/>
          <p:nvPr/>
        </p:nvPicPr>
        <p:blipFill>
          <a:blip r:embed="rId1"/>
          <a:stretch/>
        </p:blipFill>
        <p:spPr>
          <a:xfrm>
            <a:off x="1371600" y="3505320"/>
            <a:ext cx="64771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plit Bra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ndition resulting from surgery that isolates the brain’s two hemispheres by cutting the corpus callos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2" descr="http://www.holah.co.uk/images/splitbrain.png"/>
          <p:cNvPicPr/>
          <p:nvPr/>
        </p:nvPicPr>
        <p:blipFill>
          <a:blip r:embed="rId1"/>
          <a:stretch/>
        </p:blipFill>
        <p:spPr>
          <a:xfrm>
            <a:off x="2438280" y="358128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Visual Perce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4" descr="Myers9e_fig_2_31"/>
          <p:cNvPicPr/>
          <p:nvPr/>
        </p:nvPicPr>
        <p:blipFill>
          <a:blip r:embed="rId1"/>
          <a:stretch/>
        </p:blipFill>
        <p:spPr>
          <a:xfrm>
            <a:off x="2133720" y="1219320"/>
            <a:ext cx="48006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Visual Perce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4480" y="1143000"/>
            <a:ext cx="89154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Visual Perce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eft Visual Fiel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Right half of each ey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Right hemispher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ight Visual Fiel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Left half of each ey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Left hemispher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 two hemispheres communicate to coordinate visual information from the left &amp; right visual field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is communication doesn’t happen in individuals with split  bra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ing 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oger Sparry &amp; Michael Gazzanig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d split brain individuals (their corpus callosums had been severed to treat severe epileps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ed different visual images to the left &amp; right visual f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each hemisphere of the brain was given a chance to report what it had seen (verbally and physically indicating), each hemisphere gave a different answ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esting 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Myers9e_fig_2_32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1-02T22:00:02Z</dcterms:modified>
  <cp:revision>283</cp:revision>
  <dc:subject/>
  <dc:title>Chapter 8: Sensation and Perception</dc:title>
</cp:coreProperties>
</file>