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EEFD-2FEC-4981-95E1-F97C80DDE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phobia-dislike of unfamiliar things; adaptive taste preferences: societies where milk production is typical shows survival patterns favor those with lactose tolerance &amp; hot climates like India use more spices in foods (spices inhibit the growth of bacter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uational influences: we tend to eat more at parties, social gatherings, etc.  We also see food in terms of units; a sandwich is a sandwich, even if 1 is a small sandwich on 2 regular slices of bread, and one is an 18” hoagie.  When presented with a variety of food (buffet), we eat more-adaptive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F825-AE56-484C-BDB1-F95651793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7635-D6EE-49DC-8CB9-2A7A14784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t majority of those who suffer from anorexia nervosa are w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daughter control issues-girls who feel they need to be perfect (for their mothers, typically, although it can be a father-daughter relationship) and that they have failed, use food a coping mechanism to deal with the sadness over the “failure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2600-2CB0-4A90-A4A9-38D14EC73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961B-5A3B-4557-B624-0CF6E72B1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ed to know if hunger pangs were the source of hunger; he swallowed a balloon that measured stomach contractions AND he pressed a key each time he felt hung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CFD7-0257-4D7E-8166-37A35CD5C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believe stomach pangs are a sign of hunger, not it’s cause, but some still maintain that stomach pangs are ONE CAUSE of hun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88C8-42DD-41FA-9DF8-65542C08F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s say set point theory is too rigid; slow sustained changes can “re-set” the set point; since we have access to a wide variety of tasty foods, we tend to overeat; finally, it doesn’t account for psychological factors for eating (or over/undereating)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A1E5-1A94-4F52-BFE4-AE6D93135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2F38-3A65-4DDF-AD76-4775EE1F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958-C4B2-41AC-9DAB-AC8D550F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167D-83DE-4296-8FE3-FAE32D8D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A58-AFED-4B3C-97C5-07014CB9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963C-2BCD-4A5B-ACF7-736B41A6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28D0-FC29-4736-9433-4D1DA760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2807-CB79-4260-89E3-9962AEB5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BCFB-DC6C-4632-85E9-E31C8066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6ECA-E56E-4F84-B5E0-57DB5705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0A53-C0A7-40C9-A92F-A13F94B0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033E-2ABD-4B0C-AEB5-B90A93E5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3485-925C-4971-96B5-D0AB178D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9665-DA85-431F-AE65-E4011D35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639E-618D-47F6-859E-B94A3EEF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21DB-D206-487C-8C0B-8E63A0B4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45ED-060A-45A2-AF58-A0C46A5A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257D-1959-4212-94FF-E5D97552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4BD5-858A-4097-9C01-D4ADB532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D29B-D3CC-4A60-A89E-2E3B4FDC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124C-92E4-4FD8-B98D-962B72EE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4BB1-60EA-4480-8B33-A6A04B00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4F6-87A1-4B64-854B-709A69F9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09B8-7096-4021-A582-1009505B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A98F-2C25-4C1F-8B84-CCECC428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b45a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998D-350D-4737-83F4-D919EB921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b45a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6511-F5B5-40C7-986F-9C7067C28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5WdhdjXBSKk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unger Motiv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727200" y="1523880"/>
            <a:ext cx="76546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Hung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727200" y="1143000"/>
            <a:ext cx="76546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052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Hung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te Preferences: Biology and Cul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85680" y="1371600"/>
            <a:ext cx="9067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ste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y sweet and/or salty carbs boost serotonin levels-calming                                                  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aptive taste                                                        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ituational influences on ea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eat in socia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t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od var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:\Users\KKorek\Documents\ABCFiles\2013 Myers AP 2e\Images\ImageJPGs_Module38\ImageJPGs_Module38\MyAP2e_38UN03.jpg"/>
          <p:cNvPicPr/>
          <p:nvPr/>
        </p:nvPicPr>
        <p:blipFill>
          <a:blip r:embed="rId1"/>
          <a:stretch/>
        </p:blipFill>
        <p:spPr>
          <a:xfrm>
            <a:off x="3505320" y="2362320"/>
            <a:ext cx="54100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2BF7-E172-470B-9354-DE673AFEB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3701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norexia Nervos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starvation, low body weight, frequent exercise, usually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ulimia Nervos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eating                                           binges, followed by vomiting                                                                         or lax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theories state social                                                          influences (media, peers,                                                                           sexual abuse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theories state low levels                                                      of serotonin = de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tle 4"/>
          <p:cNvSpPr/>
          <p:nvPr/>
        </p:nvSpPr>
        <p:spPr>
          <a:xfrm>
            <a:off x="9360" y="-763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Hunger: Eating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bad-mirro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438280"/>
            <a:ext cx="3657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ther Causes of Bulimia and Anorex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48769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men dissatisfied with bo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orted view of themsel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orted message from me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orted body images-celebrities/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DC440F12-06_women_compared"/>
          <p:cNvPicPr/>
          <p:nvPr/>
        </p:nvPicPr>
        <p:blipFill>
          <a:blip r:embed="rId1"/>
          <a:stretch/>
        </p:blipFill>
        <p:spPr>
          <a:xfrm>
            <a:off x="457200" y="274320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4913280" y="830160"/>
            <a:ext cx="46483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ect daughter contro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me, guilt, self contempt, anx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reatment of Eating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128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dical di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havioral Couns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lf monitoring of food in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tinction training (to end the learned behavior) must learn new behavior, instead of trying to “ignore” the stimulus that brought on the old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ve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nge the thinking patterns &amp; belief system about weight and body 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ually people need outside support and urging from fam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o 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have you been effected recently by environmental hunger facto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r 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a time where you ate when you were clearly not hungry. What was your motiv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00D9-A4C7-4368-BB2E-5D2B63B6A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24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xual Motivatio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671400" y="1523880"/>
            <a:ext cx="78631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24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xual Motivation</a:t>
            </a:r>
            <a:br>
              <a:rPr sz="4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Se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671400" y="1523880"/>
            <a:ext cx="78631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Sex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Sexual Response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Content Placeholder 2"/>
          <p:cNvSpPr/>
          <p:nvPr/>
        </p:nvSpPr>
        <p:spPr>
          <a:xfrm>
            <a:off x="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xual respons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our stages of sexual responding described by Masters and John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cite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teau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lution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fracto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esting period after orgasm, during which a man cannot achieve another org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Sex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xual Dysfunctions and Paraphil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Content Placeholder 2"/>
          <p:cNvSpPr/>
          <p:nvPr/>
        </p:nvSpPr>
        <p:spPr>
          <a:xfrm>
            <a:off x="22860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xual Dys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blem that consistently impairs sexual arousal OR func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rectile dis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emature ejac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emale orgasmic dis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araphili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xperience of intense sexual arousal to atypical objects, situations, or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hibitionism, fetishism, pedophilia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unger Motiva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27200" y="1325520"/>
            <a:ext cx="76546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28440" y="-22104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Sex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rmones and Sexual Behavi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Content Placeholder 2"/>
          <p:cNvSpPr/>
          <p:nvPr/>
        </p:nvSpPr>
        <p:spPr>
          <a:xfrm>
            <a:off x="-11160" y="1143000"/>
            <a:ext cx="9126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x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evelopment of sexual character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ctivate sexual behav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ex hormones (secreted in greater amount by females than males) contributing to female sex characteristic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sto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most important of the male sex hormone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oth males and females have 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dditional testosterone in males stimulates the growth of the male sex organs in the fetus and the development of the male sex characteristics during puber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Se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71400" y="1219320"/>
            <a:ext cx="786312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Se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ternal stimu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magined stimu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xual fantas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Users\KKorek\Documents\ABCFiles\2013 Myers AP 2e\Images\Total Images\MyAP2e_39UN04.jpg"/>
          <p:cNvPicPr/>
          <p:nvPr/>
        </p:nvPicPr>
        <p:blipFill>
          <a:blip r:embed="rId1"/>
          <a:stretch/>
        </p:blipFill>
        <p:spPr>
          <a:xfrm>
            <a:off x="4876920" y="1981080"/>
            <a:ext cx="4029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Se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723960" y="158112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Se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23960" y="158112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Se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723960" y="158112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Se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723960" y="158112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0770-7BD0-4C3D-AED1-63E510EB4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3168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Sex: Reprod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30240" y="2332080"/>
            <a:ext cx="3322440" cy="45259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15380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earch shows a difference between genders on choosing a partner for reprodu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352680" y="2025720"/>
            <a:ext cx="5791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ema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Optimize reproductive success by being very selective in their m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interested in mating with an individual that can provide adequate resources for a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Optimize reproductive success by mating with many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k young, healthy, and fertile 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&amp; briefly describe the four stages of the sexual respons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how the sex hormones estrogen &amp; testosterone are different in males &amp; fem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036D-88D5-48A9-AF03-EB77CFF4D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ontent Placeholder 2"/>
          <p:cNvSpPr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ntractions of the stom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ashburn study-confirmed stomach contractions coincided with hun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MyAP1e_fig_8a_03.jpg"/>
          <p:cNvPicPr/>
          <p:nvPr/>
        </p:nvPicPr>
        <p:blipFill>
          <a:blip r:embed="rId1"/>
          <a:stretch/>
        </p:blipFill>
        <p:spPr>
          <a:xfrm>
            <a:off x="1066680" y="3048120"/>
            <a:ext cx="70106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ontent Placeholder 2"/>
          <p:cNvSpPr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usation or corre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ats who had their stomachs removed continued to 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cer patients who                                               have had their                                                           stomachs removed                                                  also continue to 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nger is not                                              not caused by stomach                                         pa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least, not exclus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usercontent1.hubimg.com/2838230_f520.jpg"/>
          <p:cNvPicPr/>
          <p:nvPr/>
        </p:nvPicPr>
        <p:blipFill>
          <a:blip r:embed="rId1"/>
          <a:stretch/>
        </p:blipFill>
        <p:spPr>
          <a:xfrm>
            <a:off x="4191120" y="2209680"/>
            <a:ext cx="4952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840" y="1211400"/>
            <a:ext cx="91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unger does NOT                                   come from our                                        stomac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comes from our                                        b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Hypothala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tle 4"/>
          <p:cNvSpPr/>
          <p:nvPr/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KKorek\Documents\ABCFiles\2013 Myers AP 2e\Images\ImageJPGs_Module38\ImageJPGs_Module38\MyAP2e_fig_38_02.jpg"/>
          <p:cNvPicPr/>
          <p:nvPr/>
        </p:nvPicPr>
        <p:blipFill>
          <a:blip r:embed="rId1"/>
          <a:stretch/>
        </p:blipFill>
        <p:spPr>
          <a:xfrm>
            <a:off x="4800600" y="1371600"/>
            <a:ext cx="46116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520" y="3754080"/>
            <a:ext cx="38862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teral Hypothala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9800" y="4394160"/>
            <a:ext cx="41306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stimulated it makes you hung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lesioned, you will never be hungry ag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23000" y="3754080"/>
            <a:ext cx="38700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1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ntromedial Hypothala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105520" y="4381560"/>
            <a:ext cx="35049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stimulated you feel fu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lesioned you will never feel full ag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arbl.cvmbs.colostate.edu/hbooks/pathphys/digestion/pregastric/hypocenters.gif"/>
          <p:cNvPicPr/>
          <p:nvPr/>
        </p:nvPicPr>
        <p:blipFill>
          <a:blip r:embed="rId1"/>
          <a:stretch/>
        </p:blipFill>
        <p:spPr>
          <a:xfrm>
            <a:off x="990720" y="609480"/>
            <a:ext cx="7391160" cy="2941920"/>
          </a:xfrm>
          <a:prstGeom prst="rect">
            <a:avLst/>
          </a:prstGeom>
          <a:ln w="0">
            <a:noFill/>
          </a:ln>
        </p:spPr>
      </p:pic>
      <p:sp>
        <p:nvSpPr>
          <p:cNvPr id="107" name="Title 4"/>
          <p:cNvSpPr/>
          <p:nvPr/>
        </p:nvSpPr>
        <p:spPr>
          <a:xfrm>
            <a:off x="0" y="-5335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: Hypothalam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2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: Appetite Hormone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ontent Placeholder 2"/>
          <p:cNvSpPr/>
          <p:nvPr/>
        </p:nvSpPr>
        <p:spPr>
          <a:xfrm>
            <a:off x="-20520" y="914400"/>
            <a:ext cx="9185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ypothalamus monitors/responds to levels of  appetite hormones i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sul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secreted by pancreas;                                                      controls blood gluco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Ghrel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secreted by empty                               stomach; signals brain “I’m                                 hungry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rex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secreted by                                  hypothalamus; triggers hung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Y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digestive tract hormone;                                 signals brain “I’m not hungry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ept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secreted by fat cells; causes brain to increase metabolism &amp; decrease hun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3657600" cy="4496040"/>
          </a:xfrm>
          <a:prstGeom prst="rect">
            <a:avLst/>
          </a:prstGeom>
          <a:ln w="0">
            <a:noFill/>
          </a:ln>
        </p:spPr>
      </p:pic>
      <p:sp>
        <p:nvSpPr>
          <p:cNvPr id="111" name="Straight Connector 2"/>
          <p:cNvSpPr/>
          <p:nvPr/>
        </p:nvSpPr>
        <p:spPr>
          <a:xfrm>
            <a:off x="8077320" y="4419720"/>
            <a:ext cx="325440" cy="0"/>
          </a:xfrm>
          <a:prstGeom prst="line">
            <a:avLst/>
          </a:prstGeom>
          <a:ln cap="rnd" w="27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tle 4"/>
          <p:cNvSpPr/>
          <p:nvPr/>
        </p:nvSpPr>
        <p:spPr>
          <a:xfrm>
            <a:off x="0" y="-2286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ody Chemist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ontent Placeholder 2"/>
          <p:cNvSpPr/>
          <p:nvPr/>
        </p:nvSpPr>
        <p:spPr>
          <a:xfrm>
            <a:off x="38160" y="1219320"/>
            <a:ext cx="9067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orm of sugar that circulates in the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vides the major source of energy for body tissu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its level is low, we feel hungry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gly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its level is too high, we can experience increased fatigue &amp; have difficulty concentrating (among other iss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erglycemia (diabe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ypically the result of our pancreas not metabolizing carbohyd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ody Chemistry and the Bra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ontent Placeholder 2"/>
          <p:cNvSpPr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t point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othalamus acts as a “thermostat” for body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“weight thermostat” is supposedly pre-set at a specific weigh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ventromedial hypothalamus is activated when you rise over this set point-your brain tells your body you don’t need f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lateral hypothalamus is activated when you drop below this set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increase in hunger and a lowered basal metabolic rate may act to restore the lost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6-01-24T19:02:16Z</dcterms:modified>
  <cp:revision>267</cp:revision>
  <dc:subject/>
  <dc:title>Slide 1</dc:title>
</cp:coreProperties>
</file>