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C2E2-192D-4E56-8DA0-E2B165BE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74CB-C3D6-4A53-9548-4344226A3C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EA94-41FF-4BB7-BA36-13667BE31F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531C-0AFE-4744-90EF-8D8DB5B8D2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E4CC-F446-44C0-AAAE-505D41090B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493E-1557-45AC-8785-BEC090AA90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40A7-D261-4D4A-BCE9-04A72DC5E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7BA4-65F4-40C9-8758-F389CB27C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9AB5-E256-4309-BA4C-333814CE3B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1B89-9982-4174-8C8C-A447BAC567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722-1096-4F36-A6D2-7E862023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FC8-935B-4AD7-8FC5-C9FBD110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49E-F825-46F4-9A74-23E2E8E6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ADF-2619-4E82-881F-019D7A86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87DB-982A-4A7A-972F-DCC065EA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2E7E-F15F-458D-BF58-1D410099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3860-2CF5-44DA-A955-83976CDA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3D15-3A8E-4BA1-91C8-28E087A3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7F08-D4B0-4456-A386-F8911F82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5F71-AE44-402B-8E3D-2842280B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BB95-F0A6-447E-90E6-ABBEB1CA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709-0CC5-4AF4-A5C6-95AD640D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E2C9-1EA9-4F99-B790-A48E32F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1F3D-E588-4CBB-ABE4-B0AB3857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A458-22D5-437D-976C-72419BBA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16E-14A7-479B-9AFE-9DBD8FBC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381C-F823-4DEC-90AA-204A6BCC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4A8-A580-42FE-AD31-329295C6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106-72B0-428C-A875-5C6D57B3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13C-E8DF-4472-9201-D0DDA5C6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501-0DF6-4BB3-B54D-FF415FC3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B35-CDF4-4763-8EF8-B28F2A4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3BE-2436-4360-9D97-9C7DB95E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CC4-B7E0-428D-B218-FCB47E7D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5BA4-D1AF-486A-B777-A0AE83F40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AD9F-0862-41FE-8AF5-2F4BDC2D7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5EDC-6C9E-42D7-80D8-10D4584891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Arial"/>
              </a:rPr>
              <a:t>Motivational Theorie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828800" y="460836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 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8110-34E1-48ED-94AB-5B7BB74290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slow’s Hierarchy of Need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needs take priority over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ological needs are lower &amp; must be met fir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when these needs are met are we prompted to move up the pyram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43387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difference(s) between motivation and instin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your motivation to sign up for AP Psychology? (what theory is supported by this dec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6178-5A64-45BA-9303-814FE74A9B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6773-3FB8-476A-800A-70D82CAD3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Beg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psychological process that directs and maintains your behavior toward a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needs, wants, interests, and desires that propel or drive people in certain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F238-BB95-41D9-A037-AB0B9778FC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tivation and Instinc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cess that energizes and directs behavior; typically is                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biological (nature) or social (nur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behavior that is rigidly patterned throughout a species and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Brown_bear_rearing"/>
          <p:cNvPicPr/>
          <p:nvPr/>
        </p:nvPicPr>
        <p:blipFill>
          <a:blip r:embed="rId1"/>
          <a:stretch/>
        </p:blipFill>
        <p:spPr>
          <a:xfrm>
            <a:off x="990720" y="1752480"/>
            <a:ext cx="31906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9371-F2C8-438E-A35D-3116DB228B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logical and Social Mo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ologic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re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ci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l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203C-81E7-4651-976A-CA9B56C7AA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stinct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86868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rganisms are born with innate biological tendencies that help them surv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drive all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are goal-directed and innate patterns of behavi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spcBef>
                <a:spcPts val="601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he result of learning or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**Replaced by evolutionary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behavior is likely to have developed because it is adap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61ED-F7B6-4001-8CC3-7DBF78A6D4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ive Reduction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649160"/>
            <a:ext cx="90676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ological needs create dr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are motivated to reduc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age in behaviors that reduce/eliminat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 theory contends that the source of motivation lies within the person (not from the environ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457200" y="4648320"/>
            <a:ext cx="8229600" cy="1313640"/>
            <a:chOff x="457200" y="4648320"/>
            <a:chExt cx="8229600" cy="1313640"/>
          </a:xfrm>
        </p:grpSpPr>
        <p:grpSp>
          <p:nvGrpSpPr>
            <p:cNvPr id="241" name="Group 5"/>
            <p:cNvGrpSpPr/>
            <p:nvPr/>
          </p:nvGrpSpPr>
          <p:grpSpPr>
            <a:xfrm>
              <a:off x="6400800" y="4648320"/>
              <a:ext cx="2286000" cy="1313640"/>
              <a:chOff x="6400800" y="4648320"/>
              <a:chExt cx="2286000" cy="1313640"/>
            </a:xfrm>
          </p:grpSpPr>
          <p:sp>
            <p:nvSpPr>
              <p:cNvPr id="242" name="Rectangle 6"/>
              <p:cNvSpPr/>
              <p:nvPr/>
            </p:nvSpPr>
            <p:spPr>
              <a:xfrm>
                <a:off x="6400800" y="464832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6426360" y="464832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Rectangle 8"/>
            <p:cNvSpPr/>
            <p:nvPr/>
          </p:nvSpPr>
          <p:spPr>
            <a:xfrm>
              <a:off x="609480" y="480060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9"/>
            <p:cNvGrpSpPr/>
            <p:nvPr/>
          </p:nvGrpSpPr>
          <p:grpSpPr>
            <a:xfrm>
              <a:off x="457200" y="4648320"/>
              <a:ext cx="2286000" cy="1066680"/>
              <a:chOff x="457200" y="4648320"/>
              <a:chExt cx="2286000" cy="1066680"/>
            </a:xfrm>
          </p:grpSpPr>
          <p:sp>
            <p:nvSpPr>
              <p:cNvPr id="246" name="Rectangle 10"/>
              <p:cNvSpPr/>
              <p:nvPr/>
            </p:nvSpPr>
            <p:spPr>
              <a:xfrm>
                <a:off x="457200" y="464832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 Box 11"/>
              <p:cNvSpPr/>
              <p:nvPr/>
            </p:nvSpPr>
            <p:spPr>
              <a:xfrm>
                <a:off x="760680" y="465948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2"/>
            <p:cNvGrpSpPr/>
            <p:nvPr/>
          </p:nvGrpSpPr>
          <p:grpSpPr>
            <a:xfrm>
              <a:off x="3422520" y="4648320"/>
              <a:ext cx="2292120" cy="1066680"/>
              <a:chOff x="3422520" y="4648320"/>
              <a:chExt cx="2292120" cy="106668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3428640" y="464832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 Box 14"/>
              <p:cNvSpPr/>
              <p:nvPr/>
            </p:nvSpPr>
            <p:spPr>
              <a:xfrm>
                <a:off x="3422520" y="480060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15"/>
            <p:cNvSpPr/>
            <p:nvPr/>
          </p:nvSpPr>
          <p:spPr>
            <a:xfrm>
              <a:off x="4572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64008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>
              <a:off x="34290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28954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9"/>
            <p:cNvSpPr/>
            <p:nvPr/>
          </p:nvSpPr>
          <p:spPr>
            <a:xfrm>
              <a:off x="58672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0A55-6EB1-42B7-A7A4-5E2E796D8E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400040"/>
            <a:ext cx="89042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ive is an internal state of tension that motivates us to engage in activities that reduce this 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bodies strive to keep a (somewhat) constant state-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we HAVE to reduce the drive (dying of thirst, hunger, etc.) – we might not have a cho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**different than Incentives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D7D3-9E45-4889-9D23-85B972F4D7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58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entiv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an lead us to make choices different than what we may normally m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Money, Pow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are positive OR negative environmental stimuli that have the ability to motivate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incentive theory, motivation comes from the environment around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al states of tension push people certain dire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External stimuli pull people i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rtain dire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entives can combine with needs to cause us to feel strongly dr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ousal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are motivated to maintain their optimal level of arous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arousal when it is too 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ase arousal when it is too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ulation of arou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erkes-Dodson La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performance                                                      at any task varies with arousal. At                                                           low arousal, we become lethargic                                                     and perform badly. As arousal                                                                  increases, performance also                                                            increases-but only to a point, after                                                 which increasing arousal actually                                              decreases perform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stress_graph_sm"/>
          <p:cNvPicPr/>
          <p:nvPr/>
        </p:nvPicPr>
        <p:blipFill>
          <a:blip r:embed="rId1"/>
          <a:stretch/>
        </p:blipFill>
        <p:spPr>
          <a:xfrm>
            <a:off x="5181480" y="2666880"/>
            <a:ext cx="3657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36:58Z</dcterms:created>
  <dc:creator>Chris Basich</dc:creator>
  <dc:description/>
  <dc:language>en-US</dc:language>
  <cp:lastModifiedBy>Debes John</cp:lastModifiedBy>
  <cp:lastPrinted>2015-01-21T13:19:44Z</cp:lastPrinted>
  <dcterms:modified xsi:type="dcterms:W3CDTF">2017-01-12T12:51:56Z</dcterms:modified>
  <cp:revision>80</cp:revision>
  <dc:subject/>
  <dc:title>Motivation and Emotion</dc:title>
</cp:coreProperties>
</file>