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D86-1F26-4644-9FF2-295D52D9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7DF9-544A-45B7-A8D1-C091FABDC7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ED4A-B2E8-4605-88CD-FC3E98E5C0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6595-AA3E-4727-8CB0-ADCB27A4C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CDC2-A595-404B-945F-A3CA70F884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6AB-BA2A-4246-9023-C777C6C50A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2E17-576D-4393-B31C-01A12C3826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7605-9FAB-43B7-B258-E69C8FD630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1A98-E2D8-46A1-917E-CF484075F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A045-F3EC-420A-AAF7-6462EC018C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AA2-4F11-47E0-9CC4-ECA72DEA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DB0-C3DC-4677-BC07-D3F86AD9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525-D4F2-4D5E-82DF-99B84A59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294-77A3-425D-9762-EC57826E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0CF5-FA2F-4453-8714-B224184E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56EA-A964-4B5B-A6A8-26E3395E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95AA-F9EF-41B3-A1D8-CE228685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8E52-6AC0-4890-A96A-8173A964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679B-050D-4E25-BAC1-58FF608C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1FE0-9C42-4E57-A078-0306BB7B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A538-1770-4C3C-8B83-20F52ACB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07E-15EA-4FBF-8748-F96135DE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411E-0F37-404C-9B3E-F3CD513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139B-53BB-4C4C-B9DB-E2D623F4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CE7A-75FA-48D6-9096-C63D2AE1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8D55-39E4-4FB6-8190-FF4DEC3E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4AC0-3C38-4EBE-8F16-C131886F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D53-9D19-4BF3-B3CF-C7D86DD4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100-1504-4290-AABE-CF4D2CCD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0C9-5ACD-4B02-8767-4E4635FC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43F-E771-405F-81C4-956A0A84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C8B-0ECA-4431-9143-9407101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6C6-763E-4665-ADF3-BBD01AF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710-80EA-4256-BF8B-67C20FA5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06B0-BE6F-4CC9-92F3-A0C1A341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293E-68EA-4663-9F1C-E0FCA6CBF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B43D-5B57-4315-9D3B-B6FC0A8D1E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Arial"/>
              </a:rPr>
              <a:t>Motivational Theorie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828800" y="460836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 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D5D8-56D8-4BBC-B825-31E21291C3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slow’s Hierarchy of Need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needs take priority over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ological needs are lower &amp; must be met fir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when these needs are met are we prompted to move up the pyram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43387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difference(s) between motivation and instin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your motivation to sign up for AP Psychology? (what theory is supported by this dec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B74F-AD08-479A-9757-68F30DE3F5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B1EE-DADD-4482-8221-3110ACE7D9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Beg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psychological process that directs and maintains your behavior toward a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needs, wants, interests, and desires that propel or drive people in certain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DAEC-17FD-49C8-B48D-17B9CDF6B1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tivation and Instinc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cess that energizes and directs behavior; typically is                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biological (nature) or social (nur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behavior that is rigidly patterned throughout a species and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Brown_bear_rearing"/>
          <p:cNvPicPr/>
          <p:nvPr/>
        </p:nvPicPr>
        <p:blipFill>
          <a:blip r:embed="rId1"/>
          <a:stretch/>
        </p:blipFill>
        <p:spPr>
          <a:xfrm>
            <a:off x="990720" y="1752480"/>
            <a:ext cx="31906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31EA-7C4D-422F-BC34-31F2E7ECDF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logical and Social Mo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ologic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re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ci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l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2939-B572-4134-9624-A0E70EB81C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stinct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86868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rganisms are born with innate biological tendencies that help them surv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drive all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are goal-directed and innate patterns of behavi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spcBef>
                <a:spcPts val="601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he result of learning or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**Replaced by evolutionary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behavior is likely to have developed because it is adap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D3E-1AC6-4BB8-B22A-E2157803B5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ive Reduction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649160"/>
            <a:ext cx="90676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ological needs create dr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are motivated to reduc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age in behaviors that reduce/eliminat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 theory contends that the source of motivation lies within the person (not from the environ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457200" y="4648320"/>
            <a:ext cx="8229600" cy="1313640"/>
            <a:chOff x="457200" y="4648320"/>
            <a:chExt cx="8229600" cy="1313640"/>
          </a:xfrm>
        </p:grpSpPr>
        <p:grpSp>
          <p:nvGrpSpPr>
            <p:cNvPr id="241" name="Group 5"/>
            <p:cNvGrpSpPr/>
            <p:nvPr/>
          </p:nvGrpSpPr>
          <p:grpSpPr>
            <a:xfrm>
              <a:off x="6400800" y="4648320"/>
              <a:ext cx="2286000" cy="1313640"/>
              <a:chOff x="6400800" y="4648320"/>
              <a:chExt cx="2286000" cy="1313640"/>
            </a:xfrm>
          </p:grpSpPr>
          <p:sp>
            <p:nvSpPr>
              <p:cNvPr id="242" name="Rectangle 6"/>
              <p:cNvSpPr/>
              <p:nvPr/>
            </p:nvSpPr>
            <p:spPr>
              <a:xfrm>
                <a:off x="6400800" y="464832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6426360" y="464832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Rectangle 8"/>
            <p:cNvSpPr/>
            <p:nvPr/>
          </p:nvSpPr>
          <p:spPr>
            <a:xfrm>
              <a:off x="609480" y="480060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9"/>
            <p:cNvGrpSpPr/>
            <p:nvPr/>
          </p:nvGrpSpPr>
          <p:grpSpPr>
            <a:xfrm>
              <a:off x="457200" y="4648320"/>
              <a:ext cx="2286000" cy="1066680"/>
              <a:chOff x="457200" y="4648320"/>
              <a:chExt cx="2286000" cy="1066680"/>
            </a:xfrm>
          </p:grpSpPr>
          <p:sp>
            <p:nvSpPr>
              <p:cNvPr id="246" name="Rectangle 10"/>
              <p:cNvSpPr/>
              <p:nvPr/>
            </p:nvSpPr>
            <p:spPr>
              <a:xfrm>
                <a:off x="457200" y="464832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 Box 11"/>
              <p:cNvSpPr/>
              <p:nvPr/>
            </p:nvSpPr>
            <p:spPr>
              <a:xfrm>
                <a:off x="760680" y="465948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2"/>
            <p:cNvGrpSpPr/>
            <p:nvPr/>
          </p:nvGrpSpPr>
          <p:grpSpPr>
            <a:xfrm>
              <a:off x="3422520" y="4648320"/>
              <a:ext cx="2292120" cy="1066680"/>
              <a:chOff x="3422520" y="4648320"/>
              <a:chExt cx="2292120" cy="106668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3428640" y="464832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 Box 14"/>
              <p:cNvSpPr/>
              <p:nvPr/>
            </p:nvSpPr>
            <p:spPr>
              <a:xfrm>
                <a:off x="3422520" y="480060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15"/>
            <p:cNvSpPr/>
            <p:nvPr/>
          </p:nvSpPr>
          <p:spPr>
            <a:xfrm>
              <a:off x="4572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64008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>
              <a:off x="34290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28954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9"/>
            <p:cNvSpPr/>
            <p:nvPr/>
          </p:nvSpPr>
          <p:spPr>
            <a:xfrm>
              <a:off x="58672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FE76-ACB8-4766-8AD1-B97AA3E120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14880" y="1600200"/>
            <a:ext cx="582912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ive is an internal state of tension that motivates us to engage in activities that reduce this 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bodies strive to keep a (somewhat) constant state-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we HAVE to reduce the drive (dying of thirst, hunger, etc.) – we might not have a cho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an lead us to make choices different than what we may normally m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Money, Pow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money1"/>
          <p:cNvPicPr/>
          <p:nvPr/>
        </p:nvPicPr>
        <p:blipFill>
          <a:blip r:embed="rId1"/>
          <a:stretch/>
        </p:blipFill>
        <p:spPr>
          <a:xfrm>
            <a:off x="457200" y="16002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7239-3FA3-4958-9D23-8DE9C5B176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entiv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are positive OR negative environmental stimuli that have the ability to motivate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incentive theory, motivation comes from the environment around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Internal states of ten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 people certain di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External stimuli pull people 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di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can combine with needs to cause us to feel strongly dr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6" descr="pushpop_small"/>
          <p:cNvPicPr/>
          <p:nvPr/>
        </p:nvPicPr>
        <p:blipFill>
          <a:blip r:embed="rId1"/>
          <a:stretch/>
        </p:blipFill>
        <p:spPr>
          <a:xfrm>
            <a:off x="190440" y="1620720"/>
            <a:ext cx="29336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ousal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are motivated to maintain their optimal level of arous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arousal when it is too 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ase arousal when it is too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ulation of arou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erkes-Dodson La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performance                                                      at any task varies with arousal. At                                                           low arousal, we become lethargic                                                     and perform badly. As arousal                                                                  increases, performance also                                                            increases-but only to a point, after                                                 which increasing arousal actually                                              decreases perform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stress_graph_sm"/>
          <p:cNvPicPr/>
          <p:nvPr/>
        </p:nvPicPr>
        <p:blipFill>
          <a:blip r:embed="rId1"/>
          <a:stretch/>
        </p:blipFill>
        <p:spPr>
          <a:xfrm>
            <a:off x="5181480" y="2666880"/>
            <a:ext cx="3657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36:58Z</dcterms:created>
  <dc:creator>Chris Basich</dc:creator>
  <dc:description/>
  <dc:language>en-US</dc:language>
  <cp:lastModifiedBy>Debes John</cp:lastModifiedBy>
  <cp:lastPrinted>2015-01-21T13:19:44Z</cp:lastPrinted>
  <dcterms:modified xsi:type="dcterms:W3CDTF">2016-01-25T14:13:39Z</dcterms:modified>
  <cp:revision>79</cp:revision>
  <dc:subject/>
  <dc:title>Motivation and Emotion</dc:title>
</cp:coreProperties>
</file>