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D9C-10C7-4262-AB9A-B4BCA7CC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00A-FA47-4631-90C9-8D08E1F6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45D-0C73-494D-BF7A-468CC82E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055-1269-4A78-898A-9AA66168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D11-9DF7-4BD4-9085-0BDAD9AC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CFD-7246-4B4D-AF9F-1484646E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B9C-9306-499A-80E8-7F7C69F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782-462C-4E86-A9C4-0B021DC1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22B-B7B4-4894-AF68-B43FAC78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93D-5217-4BE5-8FC3-881BEB0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C5F-AC5E-425D-B981-B9FA9BF7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DBD-41DD-452D-9DDB-E85EE9F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a2f7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F04B-E107-4C3F-A5F6-10CB865D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69608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Unit V: States of Consciousness</a:t>
            </a:r>
            <a:br>
              <a:rPr sz="36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ule 25-Psychoactive Dru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3371760" y="3889440"/>
            <a:ext cx="2206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Effects of Methampheta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fairfaxunderground.com/forum/file.php?2,file=38164,filename=addict_faces_of_meth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llucinog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0" y="66024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or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SD (lysergic acid diethylamide)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e, terrifying thoughts and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nic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e depression or psych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iju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C (Delta-9-Tetrahydrocannabin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50% to 70% more cancer-causing substances than tobacco smo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ch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minished mental functions in habitu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C disrupts nerve cells in the brain affecting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673_MyersPsy8e_fig"/>
          <p:cNvPicPr/>
          <p:nvPr/>
        </p:nvPicPr>
        <p:blipFill>
          <a:blip r:embed="rId1"/>
          <a:stretch/>
        </p:blipFill>
        <p:spPr>
          <a:xfrm>
            <a:off x="131760" y="1676520"/>
            <a:ext cx="885996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-3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iopsychosocial approach to psychoactive drug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psychoactive dru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mean to develop tolerance to a dru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characteristics of the following types of dru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ess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luci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lerance and Addi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ac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ugs-chemical that alters your perceptions and/or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diminishing                                                     effect of a drug at a given                                               dose, thus requiring larger                                          doses to experience its’                                            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ction-a compulsive                                          craving of a drug or                                                   substance (or certain                                      behaviors) despite known 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drawal-discomfort &amp; distress that follows discontinuing an addictive drug/substance o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yAP1e_fig_5_11.jpg"/>
          <p:cNvPicPr/>
          <p:nvPr/>
        </p:nvPicPr>
        <p:blipFill>
          <a:blip r:embed="rId1"/>
          <a:stretch/>
        </p:blipFill>
        <p:spPr>
          <a:xfrm>
            <a:off x="4657680" y="1366920"/>
            <a:ext cx="44798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bstance abuse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aving a particular substance, even though it may disrupt your life, or pose risks to you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2"/>
          <p:cNvSpPr/>
          <p:nvPr/>
        </p:nvSpPr>
        <p:spPr>
          <a:xfrm>
            <a:off x="2514600" y="2362320"/>
            <a:ext cx="60958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0"/>
          <p:cNvSpPr/>
          <p:nvPr/>
        </p:nvSpPr>
        <p:spPr>
          <a:xfrm>
            <a:off x="3048120" y="2743200"/>
            <a:ext cx="55623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4"/>
          <p:cNvSpPr/>
          <p:nvPr/>
        </p:nvSpPr>
        <p:spPr>
          <a:xfrm>
            <a:off x="228600" y="2514600"/>
            <a:ext cx="1219320" cy="0"/>
          </a:xfrm>
          <a:prstGeom prst="line">
            <a:avLst/>
          </a:prstGeom>
          <a:ln cap="rnd" w="16524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228600" y="3429000"/>
            <a:ext cx="15238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685800" y="3657600"/>
            <a:ext cx="46483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685800" y="3886200"/>
            <a:ext cx="42670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>
            <a:off x="685800" y="4114800"/>
            <a:ext cx="62485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609480" y="4267080"/>
            <a:ext cx="2057400" cy="0"/>
          </a:xfrm>
          <a:prstGeom prst="line">
            <a:avLst/>
          </a:prstGeom>
          <a:ln w="11124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8"/>
          <p:cNvSpPr/>
          <p:nvPr/>
        </p:nvSpPr>
        <p:spPr>
          <a:xfrm>
            <a:off x="228600" y="4572000"/>
            <a:ext cx="16765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9"/>
          <p:cNvSpPr/>
          <p:nvPr/>
        </p:nvSpPr>
        <p:spPr>
          <a:xfrm>
            <a:off x="380880" y="4800600"/>
            <a:ext cx="49532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1"/>
          <p:cNvSpPr/>
          <p:nvPr/>
        </p:nvSpPr>
        <p:spPr>
          <a:xfrm>
            <a:off x="380880" y="5181480"/>
            <a:ext cx="57913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2"/>
          <p:cNvSpPr/>
          <p:nvPr/>
        </p:nvSpPr>
        <p:spPr>
          <a:xfrm>
            <a:off x="380880" y="4952880"/>
            <a:ext cx="3733920" cy="0"/>
          </a:xfrm>
          <a:prstGeom prst="line">
            <a:avLst/>
          </a:prstGeom>
          <a:ln w="12708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3"/>
          <p:cNvSpPr/>
          <p:nvPr/>
        </p:nvSpPr>
        <p:spPr>
          <a:xfrm>
            <a:off x="190440" y="5486400"/>
            <a:ext cx="9525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4"/>
          <p:cNvSpPr/>
          <p:nvPr/>
        </p:nvSpPr>
        <p:spPr>
          <a:xfrm>
            <a:off x="380880" y="5715000"/>
            <a:ext cx="31244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343080" y="5867280"/>
            <a:ext cx="65912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6"/>
          <p:cNvSpPr/>
          <p:nvPr/>
        </p:nvSpPr>
        <p:spPr>
          <a:xfrm>
            <a:off x="291960" y="6172200"/>
            <a:ext cx="9525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7"/>
          <p:cNvSpPr/>
          <p:nvPr/>
        </p:nvSpPr>
        <p:spPr>
          <a:xfrm>
            <a:off x="291960" y="6400800"/>
            <a:ext cx="68709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8"/>
          <p:cNvSpPr/>
          <p:nvPr/>
        </p:nvSpPr>
        <p:spPr>
          <a:xfrm>
            <a:off x="291960" y="6629400"/>
            <a:ext cx="52707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es of Psychoactive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types of psychoa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ressants-Drugs that reduce neural activity and slow bod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mulants-Drugs that excite neural activity and speed up bod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lucinogens-drugs that distort perceptions and evoke sensory images in the absence of sensor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edelic; “mind-manifest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ress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inhib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lowed neural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mory disru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duced self-awareness and 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rbitur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ranquiliz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KKorek\Documents\ABCFiles\2013 Myers AP 2e\Images\ImageJPGS_Module25\ImageJPGS_Module25\MyAP2e_fig_25_02.jpg"/>
          <p:cNvPicPr/>
          <p:nvPr/>
        </p:nvPicPr>
        <p:blipFill>
          <a:blip r:embed="rId1"/>
          <a:stretch/>
        </p:blipFill>
        <p:spPr>
          <a:xfrm>
            <a:off x="35812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90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imul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phet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caine-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amphe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stasy (MD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KKorek\Documents\ABCFiles\2013 Myers AP 2e\Images\ImageJPGS_Module25\ImageJPGS_Module25\MyAP2e_25UN03.jpg"/>
          <p:cNvPicPr/>
          <p:nvPr/>
        </p:nvPicPr>
        <p:blipFill>
          <a:blip r:embed="rId1"/>
          <a:stretch/>
        </p:blipFill>
        <p:spPr>
          <a:xfrm>
            <a:off x="5486400" y="1566720"/>
            <a:ext cx="331488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People Smo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99864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277200" indent="-27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ly                                                                              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cotine                                                                                         takes away                                                                unpleasant                                                                                                                                                        cravings                                                                              (negative reinforcement) by triggering the release of epinephrine, norepinephrine, dopamine, &amp; endorph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otine itself is physiologically rewarding (positive reinforce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yersPsy8e_fig"/>
          <p:cNvPicPr/>
          <p:nvPr/>
        </p:nvPicPr>
        <p:blipFill>
          <a:blip r:embed="rId1"/>
          <a:stretch/>
        </p:blipFill>
        <p:spPr>
          <a:xfrm>
            <a:off x="2451240" y="838080"/>
            <a:ext cx="6705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Myers9e_fig_3_20"/>
          <p:cNvPicPr/>
          <p:nvPr/>
        </p:nvPicPr>
        <p:blipFill>
          <a:blip r:embed="rId1"/>
          <a:stretch/>
        </p:blipFill>
        <p:spPr>
          <a:xfrm>
            <a:off x="152280" y="7632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0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ca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0" y="990720"/>
            <a:ext cx="9158400" cy="5637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6095880" y="5638680"/>
            <a:ext cx="2971800" cy="98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"/>
          <p:cNvSpPr/>
          <p:nvPr/>
        </p:nvSpPr>
        <p:spPr>
          <a:xfrm>
            <a:off x="8001000" y="5562720"/>
            <a:ext cx="68580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5-12-15T11:30:17Z</dcterms:modified>
  <cp:revision>275</cp:revision>
  <dc:subject/>
  <dc:title>Slide 1</dc:title>
</cp:coreProperties>
</file>