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41BF-D95E-49B2-8C79-98B07A5D5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matic animation for high track and low track. Click to show start of example. Click again to show the rest of the exa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33A4-0F4C-47DC-9481-A9031DEEB58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E38AE-9542-4E9C-9962-5A7A3003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049B-669A-493C-9BBF-3BBBCC64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A2BE5-1BA9-425A-8BF7-9DF25B4B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CD361-278C-42E1-8440-8BC0243A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231D-457A-4F2F-B5C2-9FB49BCC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FAA0-178B-46E1-8BB5-61235EC9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4E51-63D2-4F26-A8A5-300669C2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F2FB-C957-4C67-9CFA-451676F8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5E1C-9582-41B2-9A29-780AE2B7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B40C-4E62-413C-A9A2-486D17A4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D393-7ED1-42B7-B6E8-2AAF9C13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73B02-0BC4-4CEB-951C-B0D72200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C56E-474D-4AFA-BD10-A7258ECD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5231-9B42-4318-9609-7BE90099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02B7-7835-4B2F-8CB7-9177EDED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8105-D524-4748-8FC5-A05F0D45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9FD6-C7D8-4DEF-96EE-F61BEAB9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7630A-F7BD-4507-BFDE-8451F74A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1695F-C18C-4D93-8487-FBEC5791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9697E-CBE3-4266-96D6-1E198698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8806-776E-4576-83E8-EDD199EA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1593-FAF6-427D-805E-2F59E1D9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34B2D-46AA-4ADF-863C-89059AB3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0CFB5-78D0-4298-A854-D4C8E2F8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FBD5-69C4-4C2D-AD93-98AEED968E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7264-D513-4CA3-A938-72652B398A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660320"/>
            <a:ext cx="91440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3 (Module 13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Differences in the Brain &amp; Consciousnes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ight-Left Differences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n the Human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2193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Left Bra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ogic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equenti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ation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nalytic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bjectiv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ooks at part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ight portion of bod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cademic Strengths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nguage (Written/Spoke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ience &amp; Ma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Content Placeholder 2"/>
          <p:cNvSpPr/>
          <p:nvPr/>
        </p:nvSpPr>
        <p:spPr>
          <a:xfrm>
            <a:off x="4572000" y="1241280"/>
            <a:ext cx="4572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ight Bra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ando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ntuitiv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olistic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ynthesiz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ubjective (Emotion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ooks at whol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eft portion of bod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cademic Strengths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t &amp; Mus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oints to rememb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ile certain activities seem to be localized in one hemisphere or another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here is no activity to which only one hemisphere makes a contributio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Brain’s plasticity may allow it to compensate for damage to an area of the br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In studies involving rats with brain damage, brain cells surrounding the damaged area underwent changes in their function &amp; shape that allowed them to take on the functions of the damaged cells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lthough this phenomenon has not been widely studied in humans, data indicate that similar (though less effective) changes occur in human brains following injur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Brain and Conscious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onsciousnes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r awareness of ourselves and our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ognitive Neuroscienc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interdisciplinary study of the brain activity linked with 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ogni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cep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n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ual Process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ual Process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inciple that information is often simultaneously processed on separate conscious and unconscious trac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-Vi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Visual perception track-enables us to think about the world (unconsciou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Visual action track-guides are moment-to-moment movements (consciou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ounded Rectangle 6"/>
          <p:cNvSpPr/>
          <p:nvPr/>
        </p:nvSpPr>
        <p:spPr>
          <a:xfrm>
            <a:off x="160200" y="1093680"/>
            <a:ext cx="4124520" cy="306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ctr">
            <a:normAutofit/>
          </a:bodyPr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Calibri"/>
                <a:ea typeface="Arial"/>
              </a:rPr>
              <a:t>Conscious processing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6e3"/>
                </a:solidFill>
                <a:latin typeface="Calibri"/>
                <a:ea typeface="Arial"/>
              </a:rPr>
              <a:t>our minds take deliberate  actions we know we are do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6e3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8f6e3"/>
                </a:solidFill>
                <a:latin typeface="Calibri"/>
                <a:ea typeface="Arial"/>
              </a:rPr>
              <a:t>Examples: problem solving, naming an object, defining a wo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5520" y="1220760"/>
            <a:ext cx="4205520" cy="26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182880" tIns="182880" bIns="182880" anchor="ctr">
            <a:normAutofit fontScale="86000"/>
          </a:bodyPr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Garamond"/>
                <a:ea typeface="ＭＳ Ｐゴシック"/>
              </a:rPr>
              <a:t>Unconscious processing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6e3"/>
                </a:solidFill>
                <a:latin typeface="Garamond"/>
                <a:ea typeface="ＭＳ Ｐゴシック"/>
              </a:rPr>
              <a:t>our minds perform automatic actions, often without being aware of th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6e3"/>
                </a:solidFill>
                <a:latin typeface="Garamond"/>
                <a:ea typeface="ＭＳ Ｐゴシック"/>
              </a:rPr>
              <a:t>Examples: walking, acquiring phobias, processing sensory details into  perceptions and memor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5" descr="Myers9e_fig_6_12"/>
          <p:cNvPicPr/>
          <p:nvPr/>
        </p:nvPicPr>
        <p:blipFill>
          <a:blip r:embed="rId1"/>
          <a:srcRect l="7474" t="6307" r="0" b="4763"/>
          <a:stretch/>
        </p:blipFill>
        <p:spPr>
          <a:xfrm>
            <a:off x="3279600" y="4387680"/>
            <a:ext cx="1397160" cy="192096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2"/>
          <p:cNvGrpSpPr/>
          <p:nvPr/>
        </p:nvGrpSpPr>
        <p:grpSpPr>
          <a:xfrm>
            <a:off x="4676760" y="4387680"/>
            <a:ext cx="4273560" cy="1920960"/>
            <a:chOff x="4676760" y="4387680"/>
            <a:chExt cx="4273560" cy="1920960"/>
          </a:xfrm>
        </p:grpSpPr>
        <p:pic>
          <p:nvPicPr>
            <p:cNvPr id="140" name="Picture 5" descr="Myers9e_fig_6_12"/>
            <p:cNvPicPr/>
            <p:nvPr/>
          </p:nvPicPr>
          <p:blipFill>
            <a:blip r:embed="rId2"/>
            <a:srcRect l="0" t="6307" r="0" b="4763"/>
            <a:stretch/>
          </p:blipFill>
          <p:spPr>
            <a:xfrm>
              <a:off x="4676760" y="4387680"/>
              <a:ext cx="1423440" cy="19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Myers9e_fig_6_12"/>
            <p:cNvPicPr/>
            <p:nvPr/>
          </p:nvPicPr>
          <p:blipFill>
            <a:blip r:embed="rId3"/>
            <a:srcRect l="0" t="6307" r="0" b="4763"/>
            <a:stretch/>
          </p:blipFill>
          <p:spPr>
            <a:xfrm>
              <a:off x="6100200" y="4387680"/>
              <a:ext cx="1314000" cy="19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Myers9e_fig_6_12"/>
            <p:cNvPicPr/>
            <p:nvPr/>
          </p:nvPicPr>
          <p:blipFill>
            <a:blip r:embed="rId4"/>
            <a:srcRect l="0" t="6307" r="6478" b="4763"/>
            <a:stretch/>
          </p:blipFill>
          <p:spPr>
            <a:xfrm>
              <a:off x="7414200" y="4387680"/>
              <a:ext cx="153612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Rectangle 4"/>
          <p:cNvSpPr/>
          <p:nvPr/>
        </p:nvSpPr>
        <p:spPr>
          <a:xfrm>
            <a:off x="222120" y="4387680"/>
            <a:ext cx="2987640" cy="18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utomatic processing: Conscious “visual action” track says, “I saw a bird!”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Unconsciously, we see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Slide Number Placeholder 1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8DF2-627A-4523-941F-31BC4E953E3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ual Process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2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ich hemisphere of the brain is usually more verbal?  Which is usually better at recognizing emo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at is “dual processing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Brain’s Plasti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lastic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rain’s ability to change, especially during childhood, by reorganizing after damage or by building new pathways based on experi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eurogenesis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formation of new neu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Divided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417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Lateraliz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rain’s left and right hemispheres serve different physiological and cognitive fun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apparent after brain dam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ft hemisphere damage seemed to cause more significant/more major 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ght hemisphere damage seemed to cause less significant/more minor 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ft hemisphere dominant/right hemisphere subordinat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Divided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orpus Callosu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large band of neural fibers connects the two brain hemispheres and carries messages between th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4" descr="Myers9e_fig_2_30"/>
          <p:cNvPicPr/>
          <p:nvPr/>
        </p:nvPicPr>
        <p:blipFill>
          <a:blip r:embed="rId1"/>
          <a:stretch/>
        </p:blipFill>
        <p:spPr>
          <a:xfrm>
            <a:off x="1371600" y="3505320"/>
            <a:ext cx="64771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Divided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plit Bra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ndition resulting from surgery that isolates the brain’s two hemispheres by cutting the corpus callos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2" descr="http://www.holah.co.uk/images/splitbrain.png"/>
          <p:cNvPicPr/>
          <p:nvPr/>
        </p:nvPicPr>
        <p:blipFill>
          <a:blip r:embed="rId1"/>
          <a:stretch/>
        </p:blipFill>
        <p:spPr>
          <a:xfrm>
            <a:off x="2438280" y="3581280"/>
            <a:ext cx="40388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Visual Percep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4" descr="Myers9e_fig_2_31"/>
          <p:cNvPicPr/>
          <p:nvPr/>
        </p:nvPicPr>
        <p:blipFill>
          <a:blip r:embed="rId1"/>
          <a:stretch/>
        </p:blipFill>
        <p:spPr>
          <a:xfrm>
            <a:off x="2133720" y="1219320"/>
            <a:ext cx="48006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Visual Percep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14480" y="1143000"/>
            <a:ext cx="891540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Visual Percep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Left Visual Fiel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Right half of each ey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Right hemispher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ight Visual Fiel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Left half of each ey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Left hemispher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 two hemispheres communicate to coordinate visual information from the left &amp; right visual field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is communication doesn’t happen in individuals with split  brai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sting the Divided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oger Sparry &amp; Michael Gazzanig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ied split brain individuals (their corpus callosums had been severed to treat severe epileps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ented different visual images to the left &amp; right visual fiel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each hemisphere of the brain was given a chance to report what it had seen (verbally and physically indicating), each hemisphere gave a different answ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esting the Divided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4" descr="Myers9e_fig_2_32"/>
          <p:cNvPicPr/>
          <p:nvPr/>
        </p:nvPicPr>
        <p:blipFill>
          <a:blip r:embed="rId1"/>
          <a:stretch/>
        </p:blipFill>
        <p:spPr>
          <a:xfrm>
            <a:off x="685800" y="121932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11-02T22:00:02Z</dcterms:modified>
  <cp:revision>283</cp:revision>
  <dc:subject/>
  <dc:title>Chapter 8: Sensation and Perception</dc:title>
</cp:coreProperties>
</file>