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1C8-2887-4F3A-9F55-AF001E67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B03-1870-4D74-928D-C3EAFF6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F2B-402B-48DD-AF4C-27D28F6E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E6A-E83B-40BA-AD6A-44B80B71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04D-3A2A-4163-8290-BD8CB9F9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337F-3870-4E66-93AC-84A97C7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34C-8D67-4AD9-B13E-F19BB5D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3431-A1ED-422E-BA93-B0F3BC63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81B-C1F2-45B1-B3AB-493EF7C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11F5-502B-403B-8F67-D0B08D8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D71-4ACE-49C7-AC0D-935110B0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5CC-347E-4E13-850B-BE19A247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B1E-361A-451F-99C8-C1556CB8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1E32-E1E5-4465-A6FC-E75E73E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528-77DC-43B4-BA18-DEFCEC1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864-14B7-45F8-8B5D-3EE24EE1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A63-8306-4712-86ED-4934E48E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3C4D-8ECF-4B29-A917-A50C2BC8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ACB7-9320-4C75-BDED-89805E4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14CB-AFF0-4A54-B9C3-0ADBE04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9703-DBA8-484B-BB1C-A92E449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9FB7-40DA-4202-B60C-2795263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E19-A0B1-47B7-A8F4-B5E66D2A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F478-CC5C-4D6D-8595-A42A8D5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E155-7D6D-46A4-B029-C3B139B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2F1D-72C0-4BCE-858F-28485C6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5340-4402-41CF-94DF-6512402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495F-A42C-4024-A9D4-7FAF542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50F4-C06A-4DDF-BBD8-7CEF4374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31BF-CFE3-4388-A112-0E7A810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929D-6135-4D08-BBA4-12FDC750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BA1C-7F59-4A0B-B28F-F09421E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6292-3E1F-4D73-B1AF-4F102BF9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523-1A05-48C8-9EF5-BAEC2FF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584E-73BB-4DC4-B84E-F0B2189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3E1E-72B1-4B2A-956D-8353071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1BC8-EBA8-4649-BA4D-C2D9301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9773-87A5-49ED-801B-67E7DAC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ABF4-E977-4D78-809E-9D6B498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B0B7-DCCF-447D-B208-B1AF7EA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5C84-0120-4684-A4BF-B4E43C3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F33A-9F64-4E09-960A-2FCA33F4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822A-B736-4105-B4B9-946A7582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A28-A0E3-433E-8677-EBB2217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919-6BB2-464B-AD71-2DE752A9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765-9D20-4A24-AAA4-87A8348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2AD-3ADF-4C72-BA0D-F8E5814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179-ADD6-4169-B33E-78346BA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E73-5645-40DF-A8A9-35F4E9A96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AF67-088F-4004-9E19-F7D41A3E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6CF-2B79-4148-B585-64B16696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03E-23AD-4679-874A-44043D25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.A.I.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S &amp; NEW WEAPONS OF WW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achine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guns were one of the major new military innovations of WW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ory they could fire 400-600 small-caliber rounds per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required 4-6 men to operate, however, and were not mobile, weighing between 65 &amp; 130 lbs (without ammunition or tripod to mount them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the end of the war, they would be lighter (handheld), and more deadly, capable of firing over 800 rounds/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Vickers machine gun"/>
          <p:cNvPicPr/>
          <p:nvPr/>
        </p:nvPicPr>
        <p:blipFill>
          <a:blip r:embed="rId1"/>
          <a:stretch/>
        </p:blipFill>
        <p:spPr>
          <a:xfrm>
            <a:off x="6400800" y="3200400"/>
            <a:ext cx="2743200" cy="257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4" name="Picture 10" descr="The machine gun was one of the decisive technologies during World War I. Picture: British Vickers machine gun crew on the Western Front."/>
          <p:cNvPicPr/>
          <p:nvPr/>
        </p:nvPicPr>
        <p:blipFill>
          <a:blip r:embed="rId2"/>
          <a:stretch/>
        </p:blipFill>
        <p:spPr>
          <a:xfrm>
            <a:off x="0" y="0"/>
            <a:ext cx="2590920" cy="195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6629400" y="60199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maching gun crew on the Western Fro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This is a WWI German Maxim machine gun 7.92 mm (MG08/15). It is named after its inventor, Hiram Maxim."/>
          <p:cNvPicPr/>
          <p:nvPr/>
        </p:nvPicPr>
        <p:blipFill>
          <a:blip r:embed="rId3"/>
          <a:stretch/>
        </p:blipFill>
        <p:spPr>
          <a:xfrm>
            <a:off x="2819520" y="9907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Flamethr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31" descr="French flamethrowers"/>
          <p:cNvPicPr/>
          <p:nvPr/>
        </p:nvPicPr>
        <p:blipFill>
          <a:blip r:embed="rId1"/>
          <a:stretch/>
        </p:blipFill>
        <p:spPr>
          <a:xfrm>
            <a:off x="0" y="3898800"/>
            <a:ext cx="3200400" cy="295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FWWflameT"/>
          <p:cNvPicPr/>
          <p:nvPr/>
        </p:nvPicPr>
        <p:blipFill>
          <a:blip r:embed="rId2"/>
          <a:stretch/>
        </p:blipFill>
        <p:spPr>
          <a:xfrm>
            <a:off x="-7920" y="685800"/>
            <a:ext cx="2451240" cy="2847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429000" y="748440"/>
            <a:ext cx="561960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amethrower, which brought horror to the French and British soldiers during WWI, was first used by the German ar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pressurized air, carbon dioxide or nitrogen to force oil through a nozzle. Ignited by a small charge, the oil became a jet of fl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idea of the flamethrower was to spread flames throughout the battlefield or trench to terminate any enemy infa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arines were not considered much of a threat at the beginning of 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end, they became a major threat for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sides modified subs during the war to lay mines during covert missions off an enemy's harb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rman U-boats (subs) sunk almost 5,000 enemy ships during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A black and white photograph of British ship sinking after a U-boat attack in the North Sea, 1916"/>
          <p:cNvPicPr/>
          <p:nvPr/>
        </p:nvPicPr>
        <p:blipFill>
          <a:blip r:embed="rId1"/>
          <a:stretch/>
        </p:blipFill>
        <p:spPr>
          <a:xfrm>
            <a:off x="6172200" y="762120"/>
            <a:ext cx="297180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12"/>
          <p:cNvGraphicFramePr/>
          <p:nvPr/>
        </p:nvGraphicFramePr>
        <p:xfrm>
          <a:off x="8153280" y="304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304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7772400" y="609480"/>
          <a:ext cx="60948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6094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4"/>
          <p:cNvGraphicFramePr/>
          <p:nvPr/>
        </p:nvGraphicFramePr>
        <p:xfrm>
          <a:off x="7696080" y="533520"/>
          <a:ext cx="60984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6080" y="5335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9" descr="cvr3"/>
          <p:cNvPicPr/>
          <p:nvPr/>
        </p:nvPicPr>
        <p:blipFill>
          <a:blip r:embed="rId8"/>
          <a:stretch/>
        </p:blipFill>
        <p:spPr>
          <a:xfrm>
            <a:off x="0" y="0"/>
            <a:ext cx="2914560" cy="175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gncrew"/>
          <p:cNvPicPr/>
          <p:nvPr/>
        </p:nvPicPr>
        <p:blipFill>
          <a:blip r:embed="rId9"/>
          <a:stretch/>
        </p:blipFill>
        <p:spPr>
          <a:xfrm>
            <a:off x="6324480" y="4500720"/>
            <a:ext cx="28195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4760" y="-15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orld War I Pla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86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I was the first war to have airplanes used as weapons. This changed the way wars were f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es were quite small and were made from wood and canvas and thus were quite fragile and crashe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ly used for reconnaiss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war progressed, planes were armed with machine guns &amp; bombs, &amp; one-on-one air battles (dogfights) became mo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31"/>
          <p:cNvPicPr/>
          <p:nvPr/>
        </p:nvPicPr>
        <p:blipFill>
          <a:blip r:embed="rId1"/>
          <a:stretch/>
        </p:blipFill>
        <p:spPr>
          <a:xfrm>
            <a:off x="533520" y="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Sir Keith Park"/>
          <p:cNvPicPr/>
          <p:nvPr/>
        </p:nvPicPr>
        <p:blipFill>
          <a:blip r:embed="rId2"/>
          <a:stretch/>
        </p:blipFill>
        <p:spPr>
          <a:xfrm>
            <a:off x="6477120" y="762120"/>
            <a:ext cx="2666880" cy="1257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4"/>
          <p:cNvSpPr/>
          <p:nvPr/>
        </p:nvSpPr>
        <p:spPr>
          <a:xfrm>
            <a:off x="6477120" y="219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stol fighter bi-plane, 1917 (Briti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1" descr="Taube_Salonica"/>
          <p:cNvPicPr/>
          <p:nvPr/>
        </p:nvPicPr>
        <p:blipFill>
          <a:blip r:embed="rId3"/>
          <a:stretch/>
        </p:blipFill>
        <p:spPr>
          <a:xfrm>
            <a:off x="6862680" y="3048120"/>
            <a:ext cx="22813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1371600" y="22860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World War I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Zeppelins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13" descr="LZ127 Graf Zeppelin, one of the two zeppelins that carried passengers from Germany to the United States."/>
          <p:cNvPicPr/>
          <p:nvPr/>
        </p:nvPicPr>
        <p:blipFill>
          <a:blip r:embed="rId1"/>
          <a:stretch/>
        </p:blipFill>
        <p:spPr>
          <a:xfrm>
            <a:off x="0" y="3048120"/>
            <a:ext cx="3448080" cy="2192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3505320" y="1600200"/>
            <a:ext cx="563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8 Zeppelins were built during the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they moved so slowly, they were easily sho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prone to explosion (if the gas ign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0 were lost, roughly evenly divided between accident and enemy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,806 bombs were dropped by zeppelins, killing 557 people and injuring 1,358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weapons and technologies resulted in over 16 million deaths, and over 20 million casualties, making WWI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adliest war (at that time) in mankind’s history; the 2 deadliest, however, took place over 28 &amp; 48 years, respectively.  WWI lasted only 4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5% of the deaths in WWI were battle-related, unlike the death tolls of previous wars, which were largely due to death by disease.  This is a testament to both improved medical practices, and the deadliness of the new weapons &amp;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.A.I.N.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nation’s armed forces 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e a country’s nation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a glorification of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ar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ause of the events of the 18th &amp; 19th centuries (Expansion of trade, Seven Years’ War, American Revolution, French Revolution, etc), European nations wanted to build the strongest armies &amp; navies that they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nations saw others building large armies/navies, they were even more motivated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89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gned treaties in which each nation agree to cooperate for economic OR defensive reas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 a result of increased trade, imperialism, and war, it was almost a necessity for European nations to ally themselves with other n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two most important alliances we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Alliance (Germany, Austria-Hungary and Italy 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Entente (France, Russia, and Great Brita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ion by one country over the political, economic or cultural life of another country or region. (COLONIES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 the Age of Exploration of th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and the Industrial Revolution of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some European nations had a large portion of the world under thei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result, events in one part of the world influenced many nations, even if they were not geographically close to those places o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94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one’s nation/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ies, nationalism came to mean that people with the same ethnic origins, language, etc had the right to form independent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ly, people who had similar ethnicity, language, etc &amp; should rule themselves as a singl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“new” nationalism was especially significant in the Balkan region, where Austria-Hungary (a German ally) controlled Bosnia, &amp; newly independent Serbia felt the Bosnians should be part of Serbia, because of their shared ethnicity, language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EY WEAPONS OF WW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chine G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me Th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, Airplanes, &amp; Zeppe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4334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World War I went on, poison gas was used more often every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d by the German army in 1915 at the Battle of Ypres, the gas could be shot out of a special gun or be  bombed from pla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as was made up of many different chemicals, including Chlorine, Phosgene, and Mustard G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one breathing it could become very sick or even be killed instant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33"/>
          <p:cNvSpPr txBox="1"/>
          <p:nvPr/>
        </p:nvSpPr>
        <p:spPr>
          <a:xfrm>
            <a:off x="0" y="-85680"/>
            <a:ext cx="433404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Deadly Weap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9" name="Picture 1037" descr="Image:Australian infantry small box respirators Ypres 1917.jpg"/>
          <p:cNvPicPr/>
          <p:nvPr/>
        </p:nvPicPr>
        <p:blipFill>
          <a:blip r:embed="rId1"/>
          <a:stretch/>
        </p:blipFill>
        <p:spPr>
          <a:xfrm>
            <a:off x="5357880" y="2744640"/>
            <a:ext cx="2390760" cy="3200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38"/>
          <p:cNvSpPr/>
          <p:nvPr/>
        </p:nvSpPr>
        <p:spPr>
          <a:xfrm>
            <a:off x="5143680" y="5867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stralian infantry with gas masks, Ypres, 1917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42" descr="poison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7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46" descr="poison4"/>
          <p:cNvPicPr/>
          <p:nvPr/>
        </p:nvPicPr>
        <p:blipFill>
          <a:blip r:embed="rId3"/>
          <a:stretch/>
        </p:blipFill>
        <p:spPr>
          <a:xfrm>
            <a:off x="7800840" y="3352680"/>
            <a:ext cx="1343160" cy="3505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50"/>
          <p:cNvSpPr/>
          <p:nvPr/>
        </p:nvSpPr>
        <p:spPr>
          <a:xfrm>
            <a:off x="2705040" y="63324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662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 for the tank was inspired by farming vehicles that used caterpillar tra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vehicles were already made, but they weren’t able to cross tre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tank was us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at the Battle of So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tank came wh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tried to hi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cars in c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as “Tank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um speed 3 m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895480" y="7632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Tan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86" name="Picture 10" descr="Image:GermanphotowithEnglishTank.jpg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2362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7" name="Picture 20" descr="german-tanks1"/>
          <p:cNvPicPr/>
          <p:nvPr/>
        </p:nvPicPr>
        <p:blipFill>
          <a:blip r:embed="rId2"/>
          <a:stretch/>
        </p:blipFill>
        <p:spPr>
          <a:xfrm>
            <a:off x="6367320" y="0"/>
            <a:ext cx="2776680" cy="1635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5"/>
          <p:cNvSpPr/>
          <p:nvPr/>
        </p:nvSpPr>
        <p:spPr>
          <a:xfrm>
            <a:off x="3048120" y="198108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6781680" y="1644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Schwerer Kampfwagen A7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876920" y="601992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tank: notice how front tracks are higher; this allowed the tank to climb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1:21:03Z</dcterms:created>
  <dc:creator>Margaret S Roache</dc:creator>
  <dc:description/>
  <dc:language>en-US</dc:language>
  <cp:lastModifiedBy>Debes John</cp:lastModifiedBy>
  <dcterms:modified xsi:type="dcterms:W3CDTF">2015-05-11T10:39:57Z</dcterms:modified>
  <cp:revision>33</cp:revision>
  <dc:subject/>
  <dc:title>MAIN  CAUSES OF WWI</dc:title>
</cp:coreProperties>
</file>