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64F-93FD-4843-8CF5-F0F9395B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0A0-6208-4C6A-8833-E858D4E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EAB-5D2A-42CD-9845-3F9DBE7A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253-8462-42B7-AB7B-CFD56B8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FEE0-DD8E-4A46-876B-061154D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BA5-5D21-4271-8633-5619CB8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7EA-D0F2-4D4E-9FB4-1AF3E1C0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548F-1A5A-49F2-B9ED-C0C865A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A4B8-693D-4CD4-97E8-D5C6F891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26D-1660-4763-A13B-3E02DF5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CBB3-DE5E-4B1C-BEAB-6679879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830-2DE5-4E5F-ADB8-30581F20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B59-B1DD-4D98-A14E-1A8AD8A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5C2-D619-4F17-9FB6-E1290967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8372-D784-46FA-9ABE-7503D09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939-83E9-4627-B02F-0E25307C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7A3-046A-452E-BC88-505F1F15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4F66-77FB-45CD-AF2C-13F6BEA0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D602-A4F5-4DBC-829E-BF992D5B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405F-6679-462D-A5C8-7702E1D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CBF7-0929-465E-A3A6-191306A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3A6A-9201-41F9-A6D8-DBE5A740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D19-5C32-47A0-8AD3-977044DD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F455-964B-43DF-895E-7C8A0A3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7D9A-D3A2-41DB-B404-BFC8BD9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5970-1171-4D0B-87CF-E2B1069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E7BB-B949-499A-ADEC-5A297F4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1D11-51F3-4E4A-91F3-53357EE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264E-FADD-4AF0-9000-40C98742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AA45-FD5C-42D0-B8BB-77D26A05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F138-185A-4337-BAE5-7DFC9748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FB5E-E873-4086-A24B-E998210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7087-B4A0-497C-943D-D9F99442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A99-BB8F-4BF7-BEB8-DD44156B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15A8-0E37-42BC-B923-8FC7B10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72FD-A092-4C51-AC6D-4497173F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B33E-C570-4102-B74B-E2A8113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C8042-FABC-430A-8248-9F7F4FB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8556-517F-446E-8EB3-A778E321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125E-1B95-44D3-8EAB-AA0CA98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80E7-CC76-4E94-A122-9A39590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FE78-874A-4EAC-9D10-E99239CD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FF48A-F315-4C6A-ACDA-96B6CD82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716-666E-472D-AD65-0747EFE7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7BC-8112-46A9-ABA6-7F7E2D6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25B-20DC-4F97-9468-7FB79544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FBB-5C46-478A-901F-A9FE65E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100-AB85-4502-A5BF-E1D3F2F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1958-A70C-4210-95DE-2E89A8C3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568-403D-460A-93BF-3EBC0F18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CE6-BB51-4C90-A03C-8BB225DC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E72-FFAB-482D-A38F-81673BECB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.A.I.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S &amp; NEW WEAPONS OF WW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achine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guns were one of the major new military innovations of WW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ory they could fire 400-600 small-caliber rounds per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required 4-6 men to operate, however, and were not mobile, weighing between 65 &amp; 130 lbs (without ammunition or tripod to mount them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the end of the war, they would be lighter (handheld), and more deadly, capable of firing over 800 rounds/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Vickers machine gun"/>
          <p:cNvPicPr/>
          <p:nvPr/>
        </p:nvPicPr>
        <p:blipFill>
          <a:blip r:embed="rId1"/>
          <a:stretch/>
        </p:blipFill>
        <p:spPr>
          <a:xfrm>
            <a:off x="6400800" y="3200400"/>
            <a:ext cx="2743200" cy="257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4" name="Picture 10" descr="The machine gun was one of the decisive technologies during World War I. Picture: British Vickers machine gun crew on the Western Front."/>
          <p:cNvPicPr/>
          <p:nvPr/>
        </p:nvPicPr>
        <p:blipFill>
          <a:blip r:embed="rId2"/>
          <a:stretch/>
        </p:blipFill>
        <p:spPr>
          <a:xfrm>
            <a:off x="0" y="0"/>
            <a:ext cx="2590920" cy="195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6629400" y="60199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maching gun crew on the Western Fro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This is a WWI German Maxim machine gun 7.92 mm (MG08/15). It is named after its inventor, Hiram Maxim."/>
          <p:cNvPicPr/>
          <p:nvPr/>
        </p:nvPicPr>
        <p:blipFill>
          <a:blip r:embed="rId3"/>
          <a:stretch/>
        </p:blipFill>
        <p:spPr>
          <a:xfrm>
            <a:off x="2819520" y="9907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Flamethr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31" descr="French flamethrowers"/>
          <p:cNvPicPr/>
          <p:nvPr/>
        </p:nvPicPr>
        <p:blipFill>
          <a:blip r:embed="rId1"/>
          <a:stretch/>
        </p:blipFill>
        <p:spPr>
          <a:xfrm>
            <a:off x="0" y="3898800"/>
            <a:ext cx="3200400" cy="295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FWWflameT"/>
          <p:cNvPicPr/>
          <p:nvPr/>
        </p:nvPicPr>
        <p:blipFill>
          <a:blip r:embed="rId2"/>
          <a:stretch/>
        </p:blipFill>
        <p:spPr>
          <a:xfrm>
            <a:off x="-7920" y="685800"/>
            <a:ext cx="2451240" cy="2847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429000" y="748440"/>
            <a:ext cx="561960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amethrower, which brought horror to the French and British soldiers during WWI, was first used by the German ar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pressurized air, carbon dioxide or nitrogen to force oil through a nozzle. Ignited by a small charge, the oil became a jet of fl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idea of the flamethrower was to spread flames throughout the battlefield or trench to terminate any enemy infa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arines were not considered much of a threat at the beginning of 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end, they became a major threat for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sides modified subs during the war to lay mines during covert missions off an enemy's harb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rman U-boats (subs) sunk almost 5,000 enemy ships during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A black and white photograph of British ship sinking after a U-boat attack in the North Sea, 1916"/>
          <p:cNvPicPr/>
          <p:nvPr/>
        </p:nvPicPr>
        <p:blipFill>
          <a:blip r:embed="rId1"/>
          <a:stretch/>
        </p:blipFill>
        <p:spPr>
          <a:xfrm>
            <a:off x="6172200" y="762120"/>
            <a:ext cx="297180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12"/>
          <p:cNvGraphicFramePr/>
          <p:nvPr/>
        </p:nvGraphicFramePr>
        <p:xfrm>
          <a:off x="8153280" y="304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304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7772400" y="609480"/>
          <a:ext cx="60948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6094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4"/>
          <p:cNvGraphicFramePr/>
          <p:nvPr/>
        </p:nvGraphicFramePr>
        <p:xfrm>
          <a:off x="7696080" y="533520"/>
          <a:ext cx="60984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6080" y="5335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9" descr="cvr3"/>
          <p:cNvPicPr/>
          <p:nvPr/>
        </p:nvPicPr>
        <p:blipFill>
          <a:blip r:embed="rId8"/>
          <a:stretch/>
        </p:blipFill>
        <p:spPr>
          <a:xfrm>
            <a:off x="0" y="0"/>
            <a:ext cx="2914560" cy="175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gncrew"/>
          <p:cNvPicPr/>
          <p:nvPr/>
        </p:nvPicPr>
        <p:blipFill>
          <a:blip r:embed="rId9"/>
          <a:stretch/>
        </p:blipFill>
        <p:spPr>
          <a:xfrm>
            <a:off x="6324480" y="4500720"/>
            <a:ext cx="28195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4760" y="-15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orld War I Pla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86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I was the first war to have airplanes used as weapons. This changed the way wars were f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es were quite small and were made from wood and canvas and thus were quite fragile and crashe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ly used for reconnaiss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war progressed, planes were armed with machine guns &amp; bombs, &amp; one-on-one air battles (dogfights) became mo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31"/>
          <p:cNvPicPr/>
          <p:nvPr/>
        </p:nvPicPr>
        <p:blipFill>
          <a:blip r:embed="rId1"/>
          <a:stretch/>
        </p:blipFill>
        <p:spPr>
          <a:xfrm>
            <a:off x="533520" y="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Sir Keith Park"/>
          <p:cNvPicPr/>
          <p:nvPr/>
        </p:nvPicPr>
        <p:blipFill>
          <a:blip r:embed="rId2"/>
          <a:stretch/>
        </p:blipFill>
        <p:spPr>
          <a:xfrm>
            <a:off x="6477120" y="762120"/>
            <a:ext cx="2666880" cy="1257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4"/>
          <p:cNvSpPr/>
          <p:nvPr/>
        </p:nvSpPr>
        <p:spPr>
          <a:xfrm>
            <a:off x="6477120" y="219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stol fighter bi-plane, 1917 (Briti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1" descr="Taube_Salonica"/>
          <p:cNvPicPr/>
          <p:nvPr/>
        </p:nvPicPr>
        <p:blipFill>
          <a:blip r:embed="rId3"/>
          <a:stretch/>
        </p:blipFill>
        <p:spPr>
          <a:xfrm>
            <a:off x="6862680" y="3048120"/>
            <a:ext cx="22813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1371600" y="22860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World War I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Zeppelins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13" descr="LZ127 Graf Zeppelin, one of the two zeppelins that carried passengers from Germany to the United States."/>
          <p:cNvPicPr/>
          <p:nvPr/>
        </p:nvPicPr>
        <p:blipFill>
          <a:blip r:embed="rId1"/>
          <a:stretch/>
        </p:blipFill>
        <p:spPr>
          <a:xfrm>
            <a:off x="0" y="3048120"/>
            <a:ext cx="3448080" cy="2192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3505320" y="1600200"/>
            <a:ext cx="563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8 Zeppelins were built during the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they moved so slowly, they were easily sho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prone to explosion (if the gas ign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0 were lost, roughly evenly divided between accident and enemy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,806 bombs were dropped by zeppelins, killing 557 people and injuring 1,358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weapons and technologies resulted in over 16 million deaths, and over 20 million casualties, making WWI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adliest war (at that time) in mankind’s history; the 2 deadliest, however, took place over 28 &amp; 48 years, respectively.  WWI lasted only 4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5% of the deaths in WWI were battle-related, unlike the death tolls of previous wars, which were largely due to death by disease.  This is a testament to both improved medical practices, and the deadliness of the new weapons &amp;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.A.I.N.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nation’s armed forces 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e a country’s nation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a glorification of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ar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ause of the events of the 18th &amp; 19th centuries (Expansion of trade, Seven Years’ War, American Revolution, French Revolution, etc), European nations wanted to build the strongest armies &amp; navies that they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nations saw others building large armies/navies, they were even more motivated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89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gned treaties in which each nation agree to cooperate for economic OR defensive reas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 a result of increased trade, imperialism, and war, it was almost a necessity for European nations to ally themselves with other n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two most important alliances we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Alliance (Germany, Austria-Hungary and Italy 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Entente (France, Russia, and Great Brita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ion by one country over the political, economic or cultural life of another country or region. (COLONIES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 the Age of Exploration of th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and the Industrial Revolution of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some European nations had a large portion of the world under thei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result, events in one part of the world influenced many nations, even if they were not geographically close to those places o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94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one’s nation/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ies, nationalism came to mean that people with the same ethnic origins, language, etc had the right to form independent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ly, people who had similar ethnicity, language, etc &amp; should rule themselves as a singl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“new” nationalism was especially significant in the Balkan region, where Austria-Hungary (a German ally) controlled Bosnia, &amp; newly independent Serbia felt the Bosnians should be part of Serbia, because of their shared ethnicity, language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EY WEAPONS OF WW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chine G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me Th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, Airplanes, &amp; Zeppe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4334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World War I went on, poison gas was used more often every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d by the German army in 1915 at the Battle of Ypres, the gas could be shot out of a special gun or be  bombed from pla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as was made up of many different chemicals, including Chlorine, Phosgene, and Mustard G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one breathing it could become very sick or even be killed instant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33"/>
          <p:cNvSpPr txBox="1"/>
          <p:nvPr/>
        </p:nvSpPr>
        <p:spPr>
          <a:xfrm>
            <a:off x="0" y="-85680"/>
            <a:ext cx="433404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Deadly Weap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9" name="Picture 1037" descr="Image:Australian infantry small box respirators Ypres 1917.jpg"/>
          <p:cNvPicPr/>
          <p:nvPr/>
        </p:nvPicPr>
        <p:blipFill>
          <a:blip r:embed="rId1"/>
          <a:stretch/>
        </p:blipFill>
        <p:spPr>
          <a:xfrm>
            <a:off x="5357880" y="2744640"/>
            <a:ext cx="2390760" cy="3200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38"/>
          <p:cNvSpPr/>
          <p:nvPr/>
        </p:nvSpPr>
        <p:spPr>
          <a:xfrm>
            <a:off x="5143680" y="5867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stralian infantry with gas masks, Ypres, 1917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42" descr="poison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7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46" descr="poison4"/>
          <p:cNvPicPr/>
          <p:nvPr/>
        </p:nvPicPr>
        <p:blipFill>
          <a:blip r:embed="rId3"/>
          <a:stretch/>
        </p:blipFill>
        <p:spPr>
          <a:xfrm>
            <a:off x="7800840" y="3352680"/>
            <a:ext cx="1343160" cy="3505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50"/>
          <p:cNvSpPr/>
          <p:nvPr/>
        </p:nvSpPr>
        <p:spPr>
          <a:xfrm>
            <a:off x="2705040" y="63324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662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 for the tank was inspired by farming vehicles that used caterpillar tra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vehicles were already made, but they weren’t able to cross tre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tank was us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at the Battle of So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tank came wh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tried to hi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cars in c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as “Tank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um speed 3 m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895480" y="7632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Tan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86" name="Picture 10" descr="Image:GermanphotowithEnglishTank.jpg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2362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7" name="Picture 20" descr="german-tanks1"/>
          <p:cNvPicPr/>
          <p:nvPr/>
        </p:nvPicPr>
        <p:blipFill>
          <a:blip r:embed="rId2"/>
          <a:stretch/>
        </p:blipFill>
        <p:spPr>
          <a:xfrm>
            <a:off x="6367320" y="0"/>
            <a:ext cx="2776680" cy="1635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5"/>
          <p:cNvSpPr/>
          <p:nvPr/>
        </p:nvSpPr>
        <p:spPr>
          <a:xfrm>
            <a:off x="3048120" y="198108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6781680" y="1644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Schwerer Kampfwagen A7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876920" y="601992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tank: notice how front tracks are higher; this allowed the tank to climb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1:21:03Z</dcterms:created>
  <dc:creator>Margaret S Roache</dc:creator>
  <dc:description/>
  <dc:language>en-US</dc:language>
  <cp:lastModifiedBy>Debes John</cp:lastModifiedBy>
  <dcterms:modified xsi:type="dcterms:W3CDTF">2015-05-11T10:39:57Z</dcterms:modified>
  <cp:revision>33</cp:revision>
  <dc:subject/>
  <dc:title>MAIN  CAUSES OF WWI</dc:title>
</cp:coreProperties>
</file>