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gif" ContentType="image/gif"/>
  <Override PartName="/ppt/media/image32.jpeg" ContentType="image/jpeg"/>
  <Override PartName="/ppt/media/image23.jpeg" ContentType="image/jpeg"/>
  <Override PartName="/ppt/media/image22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jeop.wav" ContentType="audio/x-wav"/>
  <Override PartName="/ppt/media/image27.jpeg" ContentType="image/jpeg"/>
  <Override PartName="/ppt/media/image6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42A-FD3A-49EB-A277-A2B4F31A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37E-1D80-4712-A51E-FDFC0F6C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786-F85B-4CCB-B11B-8E9880D4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D71-5373-46AC-BE6E-9C5E6B47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6050-DAC9-41F3-956D-59E9CC5A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0C85-4781-4A63-8444-55D8FB6B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2A86-F848-4B58-9B04-BFA1E00C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FE1E-D666-4E10-9E80-E4C9BACF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E932-7948-408D-8CE2-9A8CBE2C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4E14-968A-4F20-989F-655610D3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17DF-AA2D-4F6E-A1E5-1FB14DD0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16D-BC73-4B24-B052-18788767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CEBC-C421-4278-9573-A111D4AF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F6A8-798A-477B-9EFF-303131EC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2EC2-5E2D-4DBA-904E-DB6A8F90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BC8-36CE-4B83-8DE0-421B9638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9C7F-3172-431C-A2DB-FBCCEC00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564-1BB9-43B8-BA56-56BA1414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B42-3815-4070-952C-4118003D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01C-9596-4A98-AD7C-ABF83D86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F59-1F33-4EB8-B35E-BFED8B41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308-8B80-45DE-8119-C83144C6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BAD-FAC5-47F0-A5A4-4A664FD0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B5E-E449-43CB-B0FD-A5007023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A319-13EA-43F0-86EE-D063B0CEB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0B1D-75E7-4936-A580-FFC0B4D01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685800" y="1523880"/>
          <a:ext cx="777564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564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38080" y="1701720"/>
            <a:ext cx="1447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600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0988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240" y="17524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9000" y="17524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1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152280" y="304812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type of research has a person watching and taking notes – no getting involved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naturalistic observat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clipboard"/>
          <p:cNvPicPr/>
          <p:nvPr/>
        </p:nvPicPr>
        <p:blipFill>
          <a:blip r:embed="rId3"/>
          <a:stretch/>
        </p:blipFill>
        <p:spPr>
          <a:xfrm>
            <a:off x="2743200" y="2095560"/>
            <a:ext cx="4572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547200" y="3276720"/>
            <a:ext cx="80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generalized belief about a group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peo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ereotype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5372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8421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BaronHilderbrandt"/>
          <p:cNvPicPr/>
          <p:nvPr/>
        </p:nvPicPr>
        <p:blipFill>
          <a:blip r:embed="rId3"/>
          <a:stretch/>
        </p:blipFill>
        <p:spPr>
          <a:xfrm>
            <a:off x="457200" y="2673360"/>
            <a:ext cx="4038480" cy="3062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emo-rule1"/>
          <p:cNvPicPr/>
          <p:nvPr/>
        </p:nvPicPr>
        <p:blipFill>
          <a:blip r:embed="rId4"/>
          <a:stretch/>
        </p:blipFill>
        <p:spPr>
          <a:xfrm>
            <a:off x="4495680" y="280044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1"/>
          <p:cNvSpPr/>
          <p:nvPr/>
        </p:nvSpPr>
        <p:spPr>
          <a:xfrm>
            <a:off x="682200" y="1870200"/>
            <a:ext cx="79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person would you go to for math tutoring? Your answ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ht be based on a stereo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73600" y="3048120"/>
            <a:ext cx="85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teacher that assumes that a student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poorly in his class is an all-around los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is lazy is committing th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57200" y="1523880"/>
            <a:ext cx="80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damental Attribution Err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5" descr="funamental attribution error.jpg"/>
          <p:cNvPicPr/>
          <p:nvPr/>
        </p:nvPicPr>
        <p:blipFill>
          <a:blip r:embed="rId3"/>
          <a:stretch/>
        </p:blipFill>
        <p:spPr>
          <a:xfrm>
            <a:off x="2286000" y="209556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0" y="281952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Kitty Genovese (28 people witnessed her murder and did nothing) is a famous example of ________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ystander effec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Content Placeholder 4" descr="Kitty%20Genovese.jpg"/>
          <p:cNvPicPr/>
          <p:nvPr/>
        </p:nvPicPr>
        <p:blipFill>
          <a:blip r:embed="rId3"/>
          <a:stretch/>
        </p:blipFill>
        <p:spPr>
          <a:xfrm>
            <a:off x="5305320" y="2332080"/>
            <a:ext cx="383868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bystander"/>
          <p:cNvPicPr/>
          <p:nvPr/>
        </p:nvPicPr>
        <p:blipFill>
          <a:blip r:embed="rId4"/>
          <a:stretch/>
        </p:blipFill>
        <p:spPr>
          <a:xfrm>
            <a:off x="838080" y="2438280"/>
            <a:ext cx="41911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0" y="1832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our attitudes do NOT match our behav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suffer ________ _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gnitive dissonanc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ook-lerners"/>
          <p:cNvPicPr/>
          <p:nvPr/>
        </p:nvPicPr>
        <p:blipFill>
          <a:blip r:embed="rId3"/>
          <a:stretch/>
        </p:blipFill>
        <p:spPr>
          <a:xfrm>
            <a:off x="1676520" y="2390760"/>
            <a:ext cx="6219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Picture 3" descr="">
            <a:hlinkClick r:id="rId1" action="ppaction://hlinksldjump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3080" y="5910120"/>
            <a:ext cx="685800" cy="685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3d">
                <a:alpha val="40000"/>
              </a:srgbClr>
            </a:outerShdw>
          </a:effectLst>
        </p:spPr>
      </p:pic>
      <p:sp>
        <p:nvSpPr>
          <p:cNvPr id="135" name="Text Box 5"/>
          <p:cNvSpPr/>
          <p:nvPr/>
        </p:nvSpPr>
        <p:spPr>
          <a:xfrm>
            <a:off x="228600" y="3071880"/>
            <a:ext cx="80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famous experiment studied how role playing can affect our attitudes and behaviors (Stanford Univers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52280" y="1981080"/>
            <a:ext cx="89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we take credit for our successes but blame outside influences for our failu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elf-serving bias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tweedles1-by-marc-scheff_sm"/>
          <p:cNvPicPr/>
          <p:nvPr/>
        </p:nvPicPr>
        <p:blipFill>
          <a:blip r:embed="rId3"/>
          <a:stretch/>
        </p:blipFill>
        <p:spPr>
          <a:xfrm>
            <a:off x="2286000" y="1981080"/>
            <a:ext cx="46483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7"/>
          <p:cNvSpPr/>
          <p:nvPr/>
        </p:nvSpPr>
        <p:spPr>
          <a:xfrm>
            <a:off x="0" y="2174760"/>
            <a:ext cx="90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group you hang out with. You think of them as unique individuals. Other people kinda creep you ou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611280" y="1523880"/>
            <a:ext cx="33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In group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5" descr="http://www.newcastle-news.com/wp-content/uploads/2009/12/dance-team-HHS-1212.jpg"/>
          <p:cNvPicPr/>
          <p:nvPr/>
        </p:nvPicPr>
        <p:blipFill>
          <a:blip r:embed="rId3"/>
          <a:stretch/>
        </p:blipFill>
        <p:spPr>
          <a:xfrm>
            <a:off x="304920" y="2819520"/>
            <a:ext cx="3984480" cy="3001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ttp://www.ukshopsonline.net/images/OC/Emo.jpg"/>
          <p:cNvPicPr/>
          <p:nvPr/>
        </p:nvPicPr>
        <p:blipFill>
          <a:blip r:embed="rId4"/>
          <a:stretch/>
        </p:blipFill>
        <p:spPr>
          <a:xfrm>
            <a:off x="5232240" y="3002040"/>
            <a:ext cx="3759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3"/>
          <p:cNvSpPr/>
          <p:nvPr/>
        </p:nvSpPr>
        <p:spPr>
          <a:xfrm>
            <a:off x="278280" y="2305080"/>
            <a:ext cx="781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erm describes how people don’t work 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in large groups as they do as individu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ocial loafing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http://www.spring.org.uk/images/ringelmann_graph32.jpg"/>
          <p:cNvPicPr/>
          <p:nvPr/>
        </p:nvPicPr>
        <p:blipFill>
          <a:blip r:embed="rId3"/>
          <a:stretch/>
        </p:blipFill>
        <p:spPr>
          <a:xfrm>
            <a:off x="4648320" y="3048120"/>
            <a:ext cx="4495680" cy="3463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t3.gstatic.com/images?q=tbn:ANd9GcSTckENpNgFMjs35IcHS_xZihlcY-WdEr7hE7rPin8_BO0959AIgg"/>
          <p:cNvPicPr/>
          <p:nvPr/>
        </p:nvPicPr>
        <p:blipFill>
          <a:blip r:embed="rId4"/>
          <a:stretch/>
        </p:blipFill>
        <p:spPr>
          <a:xfrm>
            <a:off x="152280" y="2743200"/>
            <a:ext cx="33530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0" y="2590920"/>
            <a:ext cx="95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we get swept up in a crowd. We stop being individuals. We rio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52280" y="1676520"/>
            <a:ext cx="629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individuation </a:t>
            </a: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8" descr="Riots"/>
          <p:cNvPicPr/>
          <p:nvPr/>
        </p:nvPicPr>
        <p:blipFill>
          <a:blip r:embed="rId3"/>
          <a:stretch/>
        </p:blipFill>
        <p:spPr>
          <a:xfrm>
            <a:off x="3962520" y="3200400"/>
            <a:ext cx="449568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52280" y="3168720"/>
            <a:ext cx="91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a groups’ prevailing beliefs are enhanced through discussion within the gro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79440" y="38098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 po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2" descr=""/>
          <p:cNvPicPr/>
          <p:nvPr/>
        </p:nvPicPr>
        <p:blipFill>
          <a:blip r:embed="rId3"/>
          <a:stretch/>
        </p:blipFill>
        <p:spPr>
          <a:xfrm>
            <a:off x="3276720" y="1657440"/>
            <a:ext cx="5715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609480" y="316872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imbardo’s Stanford Prison experi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MyersPsy8e_18UN04a"/>
          <p:cNvPicPr/>
          <p:nvPr/>
        </p:nvPicPr>
        <p:blipFill>
          <a:blip r:embed="rId3"/>
          <a:stretch/>
        </p:blipFill>
        <p:spPr>
          <a:xfrm>
            <a:off x="4427640" y="1905120"/>
            <a:ext cx="4716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228600" y="2482920"/>
            <a:ext cx="888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_ countries, like Japan, China, Guatemala tend to value family and community over the individu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500 collectivis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SuperStock_1566-590463"/>
          <p:cNvPicPr/>
          <p:nvPr/>
        </p:nvPicPr>
        <p:blipFill>
          <a:blip r:embed="rId3"/>
          <a:stretch/>
        </p:blipFill>
        <p:spPr>
          <a:xfrm>
            <a:off x="2905200" y="2324160"/>
            <a:ext cx="486720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52280" y="3124080"/>
            <a:ext cx="8744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persuasion technique has you ask for a small favor – THEN a larger favo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981080" y="31035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3356640" y="1600200"/>
            <a:ext cx="32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ot-in-do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9" descr="renderman02_foot_in_door"/>
          <p:cNvPicPr/>
          <p:nvPr/>
        </p:nvPicPr>
        <p:blipFill>
          <a:blip r:embed="rId3"/>
          <a:stretch/>
        </p:blipFill>
        <p:spPr>
          <a:xfrm>
            <a:off x="2286000" y="2971800"/>
            <a:ext cx="5715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228600" y="21765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28600" y="16765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80880" y="2228760"/>
            <a:ext cx="943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erfume commercial that shows images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ous models passionately in love is using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uasion effor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905120" y="2201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85800" y="220176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ripheral route persua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304920" y="22096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0" y="2330280"/>
            <a:ext cx="935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ersuasion effort occurs when people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ested in, and focus on, the arguments &amp; evidence that trigger favorable though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8"/>
          <p:cNvSpPr/>
          <p:nvPr/>
        </p:nvSpPr>
        <p:spPr>
          <a:xfrm>
            <a:off x="1477080" y="2666880"/>
            <a:ext cx="638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entral Route Persua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52280" y="31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we find people 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ractive by simply being around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ere exposure effec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FastFoodLogosM"/>
          <p:cNvPicPr/>
          <p:nvPr/>
        </p:nvPicPr>
        <p:blipFill>
          <a:blip r:embed="rId2"/>
          <a:stretch/>
        </p:blipFill>
        <p:spPr>
          <a:xfrm>
            <a:off x="2577960" y="2347920"/>
            <a:ext cx="2851200" cy="3595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1963440" y="5985000"/>
            <a:ext cx="43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h advertising works this wa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0" y="307188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famous 1960s experiment studied people’s obedience to behavio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0" y="1676520"/>
            <a:ext cx="927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______ effect is our tendency to think good-looking people are smarter and more moral than ugly peopl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2287080" y="1676520"/>
            <a:ext cx="32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alo effec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8" descr="Halo-effect2"/>
          <p:cNvPicPr/>
          <p:nvPr/>
        </p:nvPicPr>
        <p:blipFill>
          <a:blip r:embed="rId2"/>
          <a:srcRect l="0" t="1584" r="2473" b="0"/>
          <a:stretch/>
        </p:blipFill>
        <p:spPr>
          <a:xfrm>
            <a:off x="1523880" y="1828800"/>
            <a:ext cx="60199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1736640" y="316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62120" y="2711520"/>
            <a:ext cx="8296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he study of how our thoughts, feelings and behaviors are influenc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ther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1829880" y="1066680"/>
            <a:ext cx="526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ocial Psycholog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8" descr="500px-Drukstation_Social_psychology"/>
          <p:cNvPicPr/>
          <p:nvPr/>
        </p:nvPicPr>
        <p:blipFill>
          <a:blip r:embed="rId2"/>
          <a:stretch/>
        </p:blipFill>
        <p:spPr>
          <a:xfrm>
            <a:off x="2362320" y="2514600"/>
            <a:ext cx="4762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52280" y="175248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have an _______________ correlation when we think we have confirmed our preconceived beliefs/stereotypes more than we actually have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0" y="160020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lus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correl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965240" y="56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9" descr="slide6"/>
          <p:cNvPicPr/>
          <p:nvPr/>
        </p:nvPicPr>
        <p:blipFill>
          <a:blip r:embed="rId2"/>
          <a:stretch/>
        </p:blipFill>
        <p:spPr>
          <a:xfrm>
            <a:off x="2743200" y="201924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1676520"/>
            <a:ext cx="9256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term describes how what we say to others can become reality. I say you are smart; you start to act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0" y="762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f fulfilling prophesy 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reotype thr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8" descr="pluto_billboard"/>
          <p:cNvPicPr/>
          <p:nvPr/>
        </p:nvPicPr>
        <p:blipFill>
          <a:blip r:embed="rId2"/>
          <a:stretch/>
        </p:blipFill>
        <p:spPr>
          <a:xfrm>
            <a:off x="1905120" y="2057400"/>
            <a:ext cx="60004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0" y="182880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itz Heider’s attribution theory says we judge others’ behaviors by ______ and ______ attribution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ituational (external) and dispositional (internal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figure-53-01"/>
          <p:cNvPicPr/>
          <p:nvPr/>
        </p:nvPicPr>
        <p:blipFill>
          <a:blip r:embed="rId2"/>
          <a:stretch/>
        </p:blipFill>
        <p:spPr>
          <a:xfrm>
            <a:off x="1447920" y="2184480"/>
            <a:ext cx="76960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7"/>
          <p:cNvSpPr/>
          <p:nvPr/>
        </p:nvSpPr>
        <p:spPr>
          <a:xfrm>
            <a:off x="2286000" y="1371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nley Milgram’s shock experi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" descr="MyersPsy8e_fig"/>
          <p:cNvPicPr/>
          <p:nvPr/>
        </p:nvPicPr>
        <p:blipFill>
          <a:blip r:embed="rId3"/>
          <a:stretch/>
        </p:blipFill>
        <p:spPr>
          <a:xfrm>
            <a:off x="6248520" y="4495680"/>
            <a:ext cx="2568600" cy="2212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MyersPsy8e_fig"/>
          <p:cNvPicPr/>
          <p:nvPr/>
        </p:nvPicPr>
        <p:blipFill>
          <a:blip r:embed="rId4"/>
          <a:stretch/>
        </p:blipFill>
        <p:spPr>
          <a:xfrm>
            <a:off x="3971880" y="3022560"/>
            <a:ext cx="188280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228600" y="114300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udies show the best way to reduce hostility between groups is have them work toward a __________ goal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 superordinate go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17" name="Content Placeholder 4" descr="02172005-malone_stockton.jpg"/>
          <p:cNvPicPr/>
          <p:nvPr/>
        </p:nvPicPr>
        <p:blipFill>
          <a:blip r:embed="rId2"/>
          <a:stretch/>
        </p:blipFill>
        <p:spPr>
          <a:xfrm>
            <a:off x="1295280" y="2666880"/>
            <a:ext cx="2311560" cy="3581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Obama-Election-Night-2008.jpg"/>
          <p:cNvPicPr/>
          <p:nvPr/>
        </p:nvPicPr>
        <p:blipFill>
          <a:blip r:embed="rId3"/>
          <a:stretch/>
        </p:blipFill>
        <p:spPr>
          <a:xfrm>
            <a:off x="3886200" y="2133720"/>
            <a:ext cx="5386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04920" y="18288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e studied how students would say the wrong answer just to conform to the group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508040" y="2133720"/>
            <a:ext cx="47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omon As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figure 18-05-photo"/>
          <p:cNvPicPr/>
          <p:nvPr/>
        </p:nvPicPr>
        <p:blipFill>
          <a:blip r:embed="rId3"/>
          <a:stretch/>
        </p:blipFill>
        <p:spPr>
          <a:xfrm>
            <a:off x="3057480" y="2927520"/>
            <a:ext cx="6086520" cy="240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figure-54-02"/>
          <p:cNvPicPr/>
          <p:nvPr/>
        </p:nvPicPr>
        <p:blipFill>
          <a:blip r:embed="rId4"/>
          <a:stretch/>
        </p:blipFill>
        <p:spPr>
          <a:xfrm>
            <a:off x="320760" y="3552840"/>
            <a:ext cx="2373120" cy="182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76320" y="1828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ya Chartrand &amp; John Bargh nam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phenomen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ir experiment where students who worked with a confederate who would deliberately perform an action (i.e.- rubbing their face or shaking their foot) to see if the student would repeat the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828800" y="2743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meleon eff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Debes John</cp:lastModifiedBy>
  <dcterms:modified xsi:type="dcterms:W3CDTF">2016-04-13T10:20:01Z</dcterms:modified>
  <cp:revision>79</cp:revision>
  <dc:subject/>
  <dc:title>Jeopardy</dc:title>
</cp:coreProperties>
</file>