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5145088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880" cy="2629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iltrum" TargetMode="External"/><Relationship Id="rId2" Type="http://schemas.openxmlformats.org/officeDocument/2006/relationships/hyperlink" Target="https://en.wikipedia.org/wiki/Upper_lip" TargetMode="External"/><Relationship Id="rId3" Type="http://schemas.openxmlformats.org/officeDocument/2006/relationships/hyperlink" Target="https://en.wikipedia.org/wiki/Palpebral_fissure" TargetMode="External"/><Relationship Id="rId4" Type="http://schemas.openxmlformats.org/officeDocument/2006/relationships/hyperlink" Target="https://en.wikipedia.org/wiki/Human_eyeball" TargetMode="External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1"/>
              </a:rPr>
              <a:t>philtr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divot or groove between the nose and upper lip flatte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vermilion: The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2"/>
              </a:rPr>
              <a:t>upper l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n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3"/>
              </a:rPr>
              <a:t>palpebral fiss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 u="sng">
                <a:solidFill>
                  <a:srgbClr val="2200cc"/>
                </a:solidFill>
                <a:uFillTx/>
                <a:latin typeface="Arial"/>
                <a:hlinkClick r:id="rId4"/>
              </a:rPr>
              <a:t>E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dth decreases with increased prenatal alcohol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311560" y="525600"/>
            <a:ext cx="4673520" cy="2628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93240" bIns="93240" anchor="t">
            <a:noAutofit/>
          </a:bodyPr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Sensorimotor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bject Permanence-The awareness that things continue to exist even whe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t perceived-Piaget didn’t think it developed until the end of this stage, subsequent research said around 8 months, recent studies have shown it as early as 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Pre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Egocentrism-The inability of the preoperational child to take another’s point of view; ends with entrance into the concrete operation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ory of Mind-People’s ideas about their own and others’ ment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Concrete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Conservation-the principle that properties such as mass, volume, and number remain the same despite changes in the forms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Georgia"/>
              </a:rPr>
              <a:t>Formal Operational St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stage during which people begin to think logically about abstract concepts. Logic that goes beyond the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1B6-0473-4104-B063-D629E1F1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C25-6753-4459-BC94-01737763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BE7-95E0-40AC-9DE0-D1794B9D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23B-F7BE-484E-89AC-4A3622B6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771-DF07-49F4-8ED4-C72B213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949-7722-4A34-B42E-C947D2F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848-7E0F-4087-A4E2-88A515E8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C92-E2B9-4EAF-BD0E-2627544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18B-CE9B-4F82-AB99-74D8EAA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697-16C6-42F6-BF6C-664C7E5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933-6800-432B-ACCF-5111942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BBE-0571-4640-9F21-AFAD62FE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14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5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6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20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21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24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7"/>
          <p:cNvSpPr/>
          <p:nvPr/>
        </p:nvSpPr>
        <p:spPr>
          <a:xfrm flipH="1" rot="10800000">
            <a:off x="0" y="1163520"/>
            <a:ext cx="9144000" cy="39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8"/>
          <p:cNvSpPr/>
          <p:nvPr/>
        </p:nvSpPr>
        <p:spPr>
          <a:xfrm flipH="1">
            <a:off x="4525920" y="571680"/>
            <a:ext cx="4618080" cy="590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30"/>
          <p:cNvSpPr/>
          <p:nvPr/>
        </p:nvSpPr>
        <p:spPr>
          <a:xfrm rot="10800000">
            <a:off x="4525920" y="116136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hape 32"/>
          <p:cNvSpPr/>
          <p:nvPr/>
        </p:nvSpPr>
        <p:spPr>
          <a:xfrm flipH="1" rot="10800000">
            <a:off x="0" y="4412880"/>
            <a:ext cx="9144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33"/>
          <p:cNvSpPr/>
          <p:nvPr/>
        </p:nvSpPr>
        <p:spPr>
          <a:xfrm flipH="1">
            <a:off x="4525920" y="3821040"/>
            <a:ext cx="4618080" cy="59076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34"/>
          <p:cNvSpPr/>
          <p:nvPr/>
        </p:nvSpPr>
        <p:spPr>
          <a:xfrm rot="10800000">
            <a:off x="4525920" y="4411440"/>
            <a:ext cx="4618080" cy="571320"/>
          </a:xfrm>
          <a:custGeom>
            <a:avLst/>
            <a:gdLst>
              <a:gd name="textAreaLeft" fmla="*/ 0 w 4618080"/>
              <a:gd name="textAreaRight" fmla="*/ 4618440 w 4618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17373" h="1108924">
                <a:moveTo>
                  <a:pt x="1199" y="1108924"/>
                </a:moveTo>
                <a:lnTo>
                  <a:pt x="4617373" y="1108924"/>
                </a:lnTo>
                <a:lnTo>
                  <a:pt x="0" y="0"/>
                </a:lnTo>
                <a:cubicBezTo>
                  <a:pt x="400" y="369641"/>
                  <a:pt x="799" y="739283"/>
                  <a:pt x="1199" y="1108924"/>
                </a:cubicBezTo>
                <a:close/>
              </a:path>
            </a:pathLst>
          </a:custGeom>
          <a:solidFill>
            <a:srgbClr val="00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37"/>
          <p:cNvSpPr/>
          <p:nvPr/>
        </p:nvSpPr>
        <p:spPr>
          <a:xfrm>
            <a:off x="6480" y="76320"/>
            <a:ext cx="9134280" cy="5054400"/>
          </a:xfrm>
          <a:custGeom>
            <a:avLst/>
            <a:gdLst>
              <a:gd name="textAreaLeft" fmla="*/ 0 w 9134280"/>
              <a:gd name="textAreaRight" fmla="*/ 9134640 w 9134280"/>
              <a:gd name="textAreaTop" fmla="*/ 0 h 5054400"/>
              <a:gd name="textAreaBottom" fmla="*/ 5054760 h 5054400"/>
            </a:gdLst>
            <a:ahLst/>
            <a:rect l="textAreaLeft" t="textAreaTop" r="textAreaRight" b="textAreaBottom"/>
            <a:pathLst>
              <a:path w="9157023" h="6739723">
                <a:moveTo>
                  <a:pt x="1629" y="0"/>
                </a:moveTo>
                <a:lnTo>
                  <a:pt x="9157023" y="4340980"/>
                </a:lnTo>
                <a:lnTo>
                  <a:pt x="1593" y="6739723"/>
                </a:lnTo>
                <a:cubicBezTo>
                  <a:pt x="-3941" y="5123960"/>
                  <a:pt x="7163" y="1615763"/>
                  <a:pt x="1629" y="0"/>
                </a:cubicBezTo>
                <a:close/>
              </a:path>
            </a:pathLst>
          </a:cu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"/>
          </p:nvPr>
        </p:nvSpPr>
        <p:spPr>
          <a:xfrm>
            <a:off x="43164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3"/>
          </p:nvPr>
        </p:nvSpPr>
        <p:spPr>
          <a:xfrm>
            <a:off x="6730920" y="46720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A6AE-D17D-4EC2-AA1A-915F4B365B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nfancy &amp; Childhoo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Shape 53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45846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regards to development, what does “maturation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Explain the difference between assimilation &amp; accommodation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*EXPLAIN the difference, don’t just define ea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) How do Piaget and Vygotsky differ with their beliefs about how our minds g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3341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tranger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 fear of strangers that infants commonly display, beginning by about 8 months of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An emotional tie with another person; shown in young children by their seeking closeness to the caregiver and showing distress when sepa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24" descr=""/>
          <p:cNvPicPr/>
          <p:nvPr/>
        </p:nvPicPr>
        <p:blipFill>
          <a:blip r:embed="rId1"/>
          <a:stretch/>
        </p:blipFill>
        <p:spPr>
          <a:xfrm>
            <a:off x="5443560" y="1913040"/>
            <a:ext cx="314964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06280"/>
            <a:ext cx="838188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ocial Development: parent-infant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152640" y="1039680"/>
            <a:ext cx="7543800" cy="381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arry Harlow’s Experimen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ants bond with surrogate mothers because of bodily contact not because of nour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it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ptimal period shortly after birth                    when an organism's exposure to                                         certain stimuli or experiences produces                                          proper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.g.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Newborn’s exposure to 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131"/>
          <p:cNvSpPr/>
          <p:nvPr/>
        </p:nvSpPr>
        <p:spPr>
          <a:xfrm>
            <a:off x="4960800" y="1143000"/>
            <a:ext cx="40528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Shape 132" descr=""/>
          <p:cNvPicPr/>
          <p:nvPr/>
        </p:nvPicPr>
        <p:blipFill>
          <a:blip r:embed="rId1"/>
          <a:stretch/>
        </p:blipFill>
        <p:spPr>
          <a:xfrm>
            <a:off x="5745240" y="3378240"/>
            <a:ext cx="3292560" cy="1733400"/>
          </a:xfrm>
          <a:prstGeom prst="rect">
            <a:avLst/>
          </a:prstGeom>
          <a:ln w="0">
            <a:noFill/>
          </a:ln>
        </p:spPr>
      </p:pic>
      <p:pic>
        <p:nvPicPr>
          <p:cNvPr id="335" name="Shape 133" descr=""/>
          <p:cNvPicPr/>
          <p:nvPr/>
        </p:nvPicPr>
        <p:blipFill>
          <a:blip r:embed="rId2"/>
          <a:stretch/>
        </p:blipFill>
        <p:spPr>
          <a:xfrm>
            <a:off x="7013520" y="1171440"/>
            <a:ext cx="17067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mpri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563868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m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The process by which certain animals form attachments during a critical period very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Konrad Lo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iscovered imprinting by observing newl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hatched duck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Special typ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Shape 158" descr=""/>
          <p:cNvPicPr/>
          <p:nvPr/>
        </p:nvPicPr>
        <p:blipFill>
          <a:blip r:embed="rId1"/>
          <a:stretch/>
        </p:blipFill>
        <p:spPr>
          <a:xfrm>
            <a:off x="5805360" y="3132000"/>
            <a:ext cx="2833920" cy="1887840"/>
          </a:xfrm>
          <a:prstGeom prst="rect">
            <a:avLst/>
          </a:prstGeom>
          <a:ln w="0">
            <a:noFill/>
          </a:ln>
        </p:spPr>
      </p:pic>
      <p:pic>
        <p:nvPicPr>
          <p:cNvPr id="339" name="Shape 159" descr=""/>
          <p:cNvPicPr/>
          <p:nvPr/>
        </p:nvPicPr>
        <p:blipFill>
          <a:blip r:embed="rId2"/>
          <a:stretch/>
        </p:blipFill>
        <p:spPr>
          <a:xfrm>
            <a:off x="6554880" y="1243080"/>
            <a:ext cx="13348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careful sensitivity and responsiveness when the infant is very young. They grow up with a sense of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as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nse that the world is predictable and trustwo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secur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used by apathetic parenting. Tends to have a worse sense of trust, and avoid attach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ure attachment vs. Insecure attac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394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60% of infants display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unfamiliar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Infants happily explore environment in the presence of their mother; When mother leaves signs of distress are evident in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30% of infants show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secure attachment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hen placed in same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.g.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Infants cling to their mothers or caregivers and are less likely to explo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ttachment Depr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When deprived from attachment, children tend to grow into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ggres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nd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busiv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imilarly, when taken from a loved one, children have difficult times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eat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leepi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or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getting along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arenting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0638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1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rian</a:t>
            </a: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 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impose &amp; expect obe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2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Permiss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submit to their children's desires; they make few demands and use little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3. </a:t>
            </a:r>
            <a:r>
              <a:rPr b="1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Authoritative: </a:t>
            </a:r>
            <a:r>
              <a:rPr b="0" lang="en" sz="2200" spc="-1" strike="noStrike">
                <a:solidFill>
                  <a:srgbClr val="222222"/>
                </a:solidFill>
                <a:latin typeface="Cambria"/>
                <a:ea typeface="Cambria"/>
              </a:rPr>
              <a:t>Parents are both demanding &amp; responsive; they use control through rules, but also explain the reason for the control; they encourage open discussion when making rules &amp; allow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700" spc="-1" strike="noStrike">
                <a:solidFill>
                  <a:srgbClr val="222222"/>
                </a:solidFill>
                <a:latin typeface="Cambria"/>
                <a:ea typeface="Cambria"/>
              </a:rPr>
              <a:t>**association between certain parenting styles and certain childhood outcomes is CORRELATION. Correlation is not causation*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" y="1063800"/>
            <a:ext cx="9144000" cy="3713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lvl="2" marL="10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222222"/>
                </a:solidFill>
                <a:latin typeface="Cambria"/>
                <a:ea typeface="Cambria"/>
              </a:rPr>
              <a:t>Our thoughts &amp; feelings about ourselves, in answer to the question, “Who 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Based upon 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&gt;child being aware he/she is distince from ever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22222"/>
                </a:solidFill>
                <a:latin typeface="Cambria"/>
                <a:ea typeface="Cambria"/>
              </a:rPr>
              <a:t>When does self-awareness begin?</a:t>
            </a:r>
            <a:r>
              <a:rPr b="0" lang="en" sz="20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Darwin proposed it begins when children can recognize themselves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&gt;Researchers have dabbed rouge on young children’s noses in order to study the      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development of self-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lang="en" sz="1800" spc="-1" strike="noStrike">
                <a:solidFill>
                  <a:srgbClr val="222222"/>
                </a:solidFill>
                <a:latin typeface="Cambria"/>
                <a:ea typeface="Cambria"/>
              </a:rPr>
              <a:t>     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-By 15-18 months, they begin to touch their own nose when they see the rouge in the 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	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       mirror; apparently they’ve begun to become self-aware of how their face “shou</a:t>
            </a:r>
            <a:r>
              <a:rPr b="0" i="1" lang="en-US" sz="1600" spc="-1" strike="noStrike">
                <a:solidFill>
                  <a:srgbClr val="222222"/>
                </a:solidFill>
                <a:latin typeface="Cambria"/>
                <a:ea typeface="Cambria"/>
              </a:rPr>
              <a:t>ld</a:t>
            </a:r>
            <a:r>
              <a:rPr b="0" i="1" lang="en" sz="1600" spc="-1" strike="noStrike">
                <a:solidFill>
                  <a:srgbClr val="222222"/>
                </a:solidFill>
                <a:latin typeface="Cambria"/>
                <a:ea typeface="Cambria"/>
              </a:rPr>
              <a:t>” l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tages of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" y="1144080"/>
            <a:ext cx="9144000" cy="371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Infancy : attachment to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School age: more detailed description of self which includes gender, group memberships, psychological traits, similarities/differences to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Cambria"/>
              </a:rPr>
              <a:t>End of childhood (8-12 yrs old) : Awareness of Self Concept-usually quite stable; they see themselves as being skillful in some ways, but not in others; understand what traits they would like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&gt;Children's views of themselves affect thei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8899560" cy="394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Sperm and egg cells fuse into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Over time, the zygote becomes an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embryo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ere                                                         organs begin to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2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heart begins to beat during thi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X and Y Chromosomes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determine the sex of                                                   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mother ALWAYS provides an X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The father provides either an X </a:t>
            </a:r>
            <a:r>
              <a:rPr b="0" lang="en" sz="1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OR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Y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XX pair results in a female, XY pair results in a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hen, the unborn child becomes a </a:t>
            </a:r>
            <a:r>
              <a:rPr b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fetus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, which it will remain until birth. They can begin to hear outside 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Shape 66" descr=""/>
          <p:cNvPicPr/>
          <p:nvPr/>
        </p:nvPicPr>
        <p:blipFill>
          <a:blip r:embed="rId1"/>
          <a:stretch/>
        </p:blipFill>
        <p:spPr>
          <a:xfrm>
            <a:off x="5945040" y="1316160"/>
            <a:ext cx="2954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) Explain Self-Concept , &amp; why YOU THINK it’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eorgi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) Identify &amp; describe the 3 type of Paren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enatal Development &amp; the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152640" y="1047600"/>
            <a:ext cx="908676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fetus can be exposed to                                             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erat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utside chemicals or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choh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34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Fetal Alcoho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occurs if the fetus is exposed to                                                                          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alcohol </a:t>
            </a:r>
            <a:r>
              <a:rPr b="0" i="1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in u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light/occasional drinking can be harmful, persistent/heavy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drinking is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marked by lifelong physical &amp; brain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73" descr=""/>
          <p:cNvPicPr/>
          <p:nvPr/>
        </p:nvPicPr>
        <p:blipFill>
          <a:blip r:embed="rId1"/>
          <a:stretch/>
        </p:blipFill>
        <p:spPr>
          <a:xfrm>
            <a:off x="4495680" y="116208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Competent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4760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Newborns look for faces, as well turn their heads towards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Prefer signts &amp; sounds that lead to social responsivenes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They can recognize &amp; respond to familiar v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Smell, too, is an important sense for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-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week old babies can detect their mother’s 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MacFarlene (1978); when an infant is placed between a pad from hi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mother’s nursing bra &amp; that of another women, he/she usually turns 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towards his/her mother’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Hab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decreasing responsiveness with repeated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2120" y="241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hysical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0720" y="1098720"/>
            <a:ext cx="8310600" cy="387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4000"/>
          </a:bodyPr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he brain is mostly formed at birth. The frontal lobe develops the most after birth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M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-Biological growth processes that enable orderly changes in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  behavior, relatively uninfluenced by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Babies roll over first, crawl next, then walk (90% of all babies are able to walk by age 15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Due to unfinished development in the hippocampus and frontal lobes, we experienc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infantile amnesi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, which is why we cannot remember much before the age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9880"/>
            <a:ext cx="895356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9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Older we get, more </a:t>
            </a: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chemas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 w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mental concept/framework that organizes &amp; interprets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ssimil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interpreting new information with already-exist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3254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Accomodate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: adapting old schemas to incorpor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iaget’s Theory of 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1200240"/>
            <a:ext cx="8662680" cy="3729600"/>
            <a:chOff x="0" y="1200240"/>
            <a:chExt cx="8662680" cy="3729600"/>
          </a:xfrm>
        </p:grpSpPr>
        <p:sp>
          <p:nvSpPr>
            <p:cNvPr id="302" name="Text Box 4"/>
            <p:cNvSpPr/>
            <p:nvPr/>
          </p:nvSpPr>
          <p:spPr>
            <a:xfrm>
              <a:off x="216000" y="1200240"/>
              <a:ext cx="1305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ypical 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2603160" y="12002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scrip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644160" y="1200240"/>
              <a:ext cx="1591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henome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312840" y="1748880"/>
              <a:ext cx="178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rth to nearly 2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2391120" y="1748880"/>
              <a:ext cx="252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ensori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ing the world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ses and actions (looking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uching, mouth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6653880" y="1748880"/>
              <a:ext cx="16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perman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ger anx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265320" y="25894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2 to 6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"/>
            <p:cNvSpPr/>
            <p:nvPr/>
          </p:nvSpPr>
          <p:spPr>
            <a:xfrm>
              <a:off x="274680" y="3425400"/>
              <a:ext cx="159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7 to 11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268560" y="4288320"/>
              <a:ext cx="149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2 throug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ult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76680" y="1212480"/>
              <a:ext cx="8586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76680" y="175140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6680" y="2589480"/>
              <a:ext cx="858600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388600" y="258948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ing thing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words and im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 lacking logic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373440" y="2589480"/>
              <a:ext cx="193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tend 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ocentri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y of Mi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0" y="342792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2390400" y="3425400"/>
              <a:ext cx="30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e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inking logically about con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ents; grasping concrete analo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erforming arithmetica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6363000" y="34254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erv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thematical transform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0" y="4325760"/>
              <a:ext cx="8586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2383560" y="4288320"/>
              <a:ext cx="15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6363000" y="42883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stract lo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tential for moral reas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91440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 believed that our minds grow as the result of interaction with our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Piaget’s emphasis on the cognitive milestones &amp; developmental stages is sequentially accurate, even if timing is not </a:t>
            </a:r>
            <a:r>
              <a:rPr b="0" lang="en" sz="2400" spc="-1" strike="noStrike">
                <a:solidFill>
                  <a:srgbClr val="ffffff"/>
                </a:solidFill>
                <a:latin typeface="Georgia"/>
                <a:ea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oday’s researchers see developments as more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Georgia"/>
              </a:rPr>
              <a:t>he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beginnings of each type of thinking has been identified at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earlier times than Piaget b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Studies around the world have confirmed 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Georgia"/>
              </a:rPr>
              <a:t>ha</a:t>
            </a: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t human cognition unfolds in the sequence that Piage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gni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055520"/>
            <a:ext cx="91440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19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eorgia"/>
                <a:ea typeface="Georgia"/>
              </a:rPr>
              <a:t>Lev Vygot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Believed language was important for social men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words are the building blocks for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children’s minds grow by interacting with the social </a:t>
            </a:r>
            <a:r>
              <a:rPr b="0" lang="en" sz="2000" spc="-1" strike="noStrike">
                <a:solidFill>
                  <a:srgbClr val="000000"/>
                </a:solidFill>
                <a:latin typeface="Georgia"/>
                <a:ea typeface="Georgi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by mentoring children and giving them new words,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parents allow children to step up to higher levels of thinking 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i="1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(scaffolding)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-zone of proxim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" sz="1800" spc="-1" strike="noStrike">
                <a:solidFill>
                  <a:srgbClr val="000000"/>
                </a:solidFill>
                <a:latin typeface="Georgia"/>
                <a:ea typeface="Georgia"/>
              </a:rPr>
              <a:t>-zone between what a child can &amp; can’t do-what they can do with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McCormick</dc:creator>
  <dc:description/>
  <dc:language>en-US</dc:language>
  <cp:lastModifiedBy>Debes John</cp:lastModifiedBy>
  <cp:lastPrinted>2016-02-11T17:14:39Z</cp:lastPrinted>
  <dcterms:modified xsi:type="dcterms:W3CDTF">2017-02-15T15:32:13Z</dcterms:modified>
  <cp:revision>25</cp:revision>
  <dc:subject/>
  <dc:title>Developmental Psychology</dc:title>
</cp:coreProperties>
</file>