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F70-427D-45A3-92B6-56E053BC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74C-1F3F-4E8A-A351-8419C58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2C0-62CA-46AE-A60C-B9388496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52A-9D88-42ED-A832-E77599FB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425-3246-4CB8-B015-4F3C6D00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008-65EF-4A78-8D05-EA0C835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A57-8E06-4E49-A113-AF52816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016-663E-44C1-B36C-AFFA350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FB3-4B36-41E4-9B58-BC51C23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96B-375E-497E-987B-69CB569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085-3F5D-4F17-9BEC-56C3A6E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856-4539-4DF8-B1AB-12C84B21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B7E-EAA1-4EB5-9DFB-C36A1F93C6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7-02-15T15:32:13Z</dcterms:modified>
  <cp:revision>25</cp:revision>
  <dc:subject/>
  <dc:title>Developmental Psychology</dc:title>
</cp:coreProperties>
</file>