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1BE-605A-4589-97D5-7DD422C5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B2D-87C1-4218-873D-0BC955B7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449-305C-4D9B-AA00-CD2F9B1B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4CC-CC08-4B2B-AF99-E321EEF1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A18-C6AB-4B5E-98F2-9223A374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E51-A762-4230-B387-2367102B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3F0-7E28-4627-A61D-A399452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161-DA9F-4B1D-8DF1-740C4F6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E3D-238F-42CC-A753-C5CF623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60A-EE94-4A7F-A6E3-FCC4970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3BF-D058-4496-8670-C86A03CD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6F2-6EDD-436C-8D89-28F2607F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DF92-0FB2-45A0-B8DC-DD6715A2A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7086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44316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_________ of strangers that                                           infants commonly display, beginning by                                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                                    shown in young children by their seeking ___________ to the caregiver and showing __________________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6000"/>
          </a:bodyPr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fants bond with surrogate mothers because of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 _____________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not beca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 nour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 optimal period shortly after birth when an                              organism's exposure to certai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_____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duc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p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Shape 132" descr=""/>
          <p:cNvPicPr/>
          <p:nvPr/>
        </p:nvPicPr>
        <p:blipFill>
          <a:blip r:embed="rId1"/>
          <a:stretch/>
        </p:blipFill>
        <p:spPr>
          <a:xfrm>
            <a:off x="5864400" y="3409920"/>
            <a:ext cx="3292200" cy="1733760"/>
          </a:xfrm>
          <a:prstGeom prst="rect">
            <a:avLst/>
          </a:prstGeom>
          <a:ln w="0">
            <a:noFill/>
          </a:ln>
        </p:spPr>
      </p:pic>
      <p:pic>
        <p:nvPicPr>
          <p:cNvPr id="333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"/>
          <p:cNvSpPr/>
          <p:nvPr/>
        </p:nvSpPr>
        <p:spPr>
          <a:xfrm>
            <a:off x="232200" y="4846680"/>
            <a:ext cx="35074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.g. Newborn’s exposure to breastfee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_______________ during a critical period very ________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8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_______________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___________________ &amp; _____________________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__________ 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___________________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______________ parenting. Tends to have a worse sense of ___________, and avoid 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______________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&amp; ________________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________________________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___________-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__________-___________ months, they begin to touch their own nose when they see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rouge in the mirror; apparently they’ve begun to become self-aware of how their fac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“should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75204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_______________________________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___________________________________of___________________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04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__________________________________________ of Self Concept is usually quite stable; they see themselves as being skillful in some ways, but not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5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______________________________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______________________________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___________________ to their children's desires; they make few demands and use _____________________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______________________________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_______________________________ &amp; ______________________________________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76680" y="1063800"/>
            <a:ext cx="8899560" cy="3947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                                                               where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__________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_________________________                                 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_______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______ pair results in a female, _____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6189840" y="1276200"/>
            <a:ext cx="295416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29628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______________ or    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-A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occurs if the fetus is exposed to                                                                         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___ 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light/occasional drinking can be harmful, persistent/heavy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_____________&amp;____________abnor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__________, and will turn their heads towards 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hts &amp; sounds that lead to social 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________________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___________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week old babies can detect their mother’s s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6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098720"/>
            <a:ext cx="91440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8000"/>
          </a:bodyPr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_______________ ___________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______________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behavior, relatively uninfluenced by 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_______  ________1</a:t>
            </a:r>
            <a:r>
              <a:rPr b="0" lang="en" sz="2400" spc="-1" strike="noStrike" baseline="30000">
                <a:solidFill>
                  <a:srgbClr val="000000"/>
                </a:solidFill>
                <a:latin typeface="Georgia"/>
                <a:ea typeface="Georgia"/>
              </a:rPr>
              <a:t>s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_______ next, then______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_________________ &amp; ____________  _________,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 experience </a:t>
            </a:r>
            <a:r>
              <a:rPr b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___________________ new information with ____________-________________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________________ old schemas to ____________________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73840" y="2589480"/>
              <a:ext cx="2399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72040" y="3425400"/>
              <a:ext cx="342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  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72040" y="4288320"/>
              <a:ext cx="342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_________________  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9000"/>
          </a:bodyPr>
          <a:p>
            <a:pPr marL="406800" indent="-33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</a:t>
            </a:r>
            <a:r>
              <a:rPr b="0" lang="en" sz="23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with our </a:t>
            </a:r>
            <a:r>
              <a:rPr b="0" lang="en" sz="23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_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800" indent="-33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_______________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800" indent="-33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________________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marL="406440" indent="-33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________________________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with the ________________  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dcterms:modified xsi:type="dcterms:W3CDTF">2016-02-05T16:19:12Z</dcterms:modified>
  <cp:revision>24</cp:revision>
  <dc:subject/>
  <dc:title>Developmental Psychology</dc:title>
</cp:coreProperties>
</file>