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360" cy="34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Philtrum" TargetMode="External"/><Relationship Id="rId2" Type="http://schemas.openxmlformats.org/officeDocument/2006/relationships/hyperlink" Target="https://en.wikipedia.org/wiki/Upper_lip" TargetMode="External"/><Relationship Id="rId3" Type="http://schemas.openxmlformats.org/officeDocument/2006/relationships/hyperlink" Target="https://en.wikipedia.org/wiki/Palpebral_fissure" TargetMode="External"/><Relationship Id="rId4" Type="http://schemas.openxmlformats.org/officeDocument/2006/relationships/hyperlink" Target="https://en.wikipedia.org/wiki/Human_eyeball" TargetMode="External"/><Relationship Id="rId5" Type="http://schemas.openxmlformats.org/officeDocument/2006/relationships/slide" Target="../slides/slide3.xml"/><Relationship Id="rId6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ooth </a:t>
            </a:r>
            <a:r>
              <a:rPr b="0" lang="en-US" sz="1200" spc="-1" strike="noStrike" u="sng">
                <a:solidFill>
                  <a:srgbClr val="2200cc"/>
                </a:solidFill>
                <a:uFillTx/>
                <a:latin typeface="Arial"/>
                <a:hlinkClick r:id="rId1"/>
              </a:rPr>
              <a:t>philtru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The divot or groove between the nose and upper lip flattens with increased prenatal alcohol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vermilion: The </a:t>
            </a:r>
            <a:r>
              <a:rPr b="0" lang="en-US" sz="1200" spc="-1" strike="noStrike" u="sng">
                <a:solidFill>
                  <a:srgbClr val="2200cc"/>
                </a:solidFill>
                <a:uFillTx/>
                <a:latin typeface="Arial"/>
                <a:hlinkClick r:id="rId2"/>
              </a:rPr>
              <a:t>upper li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ns with increased prenatal alcohol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</a:t>
            </a:r>
            <a:r>
              <a:rPr b="0" lang="en-US" sz="1200" spc="-1" strike="noStrike" u="sng">
                <a:solidFill>
                  <a:srgbClr val="2200cc"/>
                </a:solidFill>
                <a:uFillTx/>
                <a:latin typeface="Arial"/>
                <a:hlinkClick r:id="rId3"/>
              </a:rPr>
              <a:t>palpebral fissur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 u="sng">
                <a:solidFill>
                  <a:srgbClr val="2200cc"/>
                </a:solidFill>
                <a:uFillTx/>
                <a:latin typeface="Arial"/>
                <a:hlinkClick r:id="rId4"/>
              </a:rPr>
              <a:t>Ey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dth decreases with increased prenatal alcohol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Georgia"/>
              </a:rPr>
              <a:t>Sensorimotor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Object Permanence-The awareness that things continue to exist even when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not perce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Georgia"/>
              </a:rPr>
              <a:t>Preoperational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&gt;Egocentrism-The inability of the preoperational child to take another’s point of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heory of Mind-People’s ideas about their own and others’ mental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Georgia"/>
              </a:rPr>
              <a:t>Concrete Operational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&gt;Conservation-the principle that properties such as mass, volume, and number remain the same despite changes in the forms of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Georgia"/>
              </a:rPr>
              <a:t>Formal Operational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&gt;stage during which people begin to think logically about abstract concepts. Logic that goes beyond the con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5FDD-4260-4A66-BF3B-E62C642B4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6AC9-0798-491A-A3E6-F8012243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761A-4648-4EC2-96C7-1B4EED19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05DD-979D-4797-9A91-F86C216F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A4CC-3152-433E-B7DB-329CDF7C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7AA9-5301-4CE3-94AA-752E7398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DE17-1C84-443A-ACB4-0896D41A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DE1A-1299-4B86-9A00-56784265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7127-8805-4EF1-903C-D8CB774C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2B3D-0886-4590-88B2-B0BEDF5B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4089-44DD-4F19-979B-2106A9C31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F18F-5428-47B3-B6BB-F6DD19851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Shape 14"/>
          <p:cNvSpPr/>
          <p:nvPr/>
        </p:nvSpPr>
        <p:spPr>
          <a:xfrm flipH="1" rot="10800000">
            <a:off x="0" y="1163520"/>
            <a:ext cx="9144000" cy="39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Shape 15"/>
          <p:cNvSpPr/>
          <p:nvPr/>
        </p:nvSpPr>
        <p:spPr>
          <a:xfrm flipH="1">
            <a:off x="4525920" y="571680"/>
            <a:ext cx="4618080" cy="59040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Shape 16"/>
          <p:cNvSpPr/>
          <p:nvPr/>
        </p:nvSpPr>
        <p:spPr>
          <a:xfrm rot="10800000">
            <a:off x="4525920" y="116136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hape 20"/>
          <p:cNvSpPr/>
          <p:nvPr/>
        </p:nvSpPr>
        <p:spPr>
          <a:xfrm flipH="1" rot="10800000">
            <a:off x="0" y="1163520"/>
            <a:ext cx="9144000" cy="39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hape 21"/>
          <p:cNvSpPr/>
          <p:nvPr/>
        </p:nvSpPr>
        <p:spPr>
          <a:xfrm rot="10800000">
            <a:off x="4525920" y="116136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hape 24"/>
          <p:cNvSpPr/>
          <p:nvPr/>
        </p:nvSpPr>
        <p:spPr>
          <a:xfrm flipH="1">
            <a:off x="4525920" y="571680"/>
            <a:ext cx="4618080" cy="59040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hape 27"/>
          <p:cNvSpPr/>
          <p:nvPr/>
        </p:nvSpPr>
        <p:spPr>
          <a:xfrm flipH="1" rot="10800000">
            <a:off x="0" y="1163520"/>
            <a:ext cx="9144000" cy="39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hape 28"/>
          <p:cNvSpPr/>
          <p:nvPr/>
        </p:nvSpPr>
        <p:spPr>
          <a:xfrm flipH="1">
            <a:off x="4525920" y="571680"/>
            <a:ext cx="4618080" cy="59040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hape 30"/>
          <p:cNvSpPr/>
          <p:nvPr/>
        </p:nvSpPr>
        <p:spPr>
          <a:xfrm rot="10800000">
            <a:off x="4525920" y="116136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hape 32"/>
          <p:cNvSpPr/>
          <p:nvPr/>
        </p:nvSpPr>
        <p:spPr>
          <a:xfrm flipH="1" rot="10800000">
            <a:off x="0" y="4412880"/>
            <a:ext cx="914400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hape 33"/>
          <p:cNvSpPr/>
          <p:nvPr/>
        </p:nvSpPr>
        <p:spPr>
          <a:xfrm flipH="1">
            <a:off x="4525920" y="3821040"/>
            <a:ext cx="4618080" cy="59076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760"/>
              <a:gd name="textAreaBottom" fmla="*/ 591120 h 59076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hape 34"/>
          <p:cNvSpPr/>
          <p:nvPr/>
        </p:nvSpPr>
        <p:spPr>
          <a:xfrm rot="10800000">
            <a:off x="4525920" y="441144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hape 37"/>
          <p:cNvSpPr/>
          <p:nvPr/>
        </p:nvSpPr>
        <p:spPr>
          <a:xfrm>
            <a:off x="6480" y="76320"/>
            <a:ext cx="9134280" cy="5054400"/>
          </a:xfrm>
          <a:custGeom>
            <a:avLst/>
            <a:gdLst>
              <a:gd name="textAreaLeft" fmla="*/ 0 w 9134280"/>
              <a:gd name="textAreaRight" fmla="*/ 9134640 w 9134280"/>
              <a:gd name="textAreaTop" fmla="*/ 0 h 5054400"/>
              <a:gd name="textAreaBottom" fmla="*/ 5054760 h 5054400"/>
            </a:gdLst>
            <a:ahLst/>
            <a:rect l="textAreaLeft" t="textAreaTop" r="textAreaRight" b="textAreaBottom"/>
            <a:pathLst>
              <a:path w="9157023" h="6739723">
                <a:moveTo>
                  <a:pt x="1629" y="0"/>
                </a:moveTo>
                <a:lnTo>
                  <a:pt x="9157023" y="4340980"/>
                </a:lnTo>
                <a:lnTo>
                  <a:pt x="1593" y="6739723"/>
                </a:lnTo>
                <a:cubicBezTo>
                  <a:pt x="-3941" y="5123960"/>
                  <a:pt x="7163" y="1615763"/>
                  <a:pt x="1629" y="0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"/>
          </p:nvPr>
        </p:nvSpPr>
        <p:spPr>
          <a:xfrm>
            <a:off x="431640" y="46720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2"/>
          </p:nvPr>
        </p:nvSpPr>
        <p:spPr>
          <a:xfrm>
            <a:off x="3124080" y="46720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3"/>
          </p:nvPr>
        </p:nvSpPr>
        <p:spPr>
          <a:xfrm>
            <a:off x="6730920" y="46720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17D8-AF37-4977-A9EB-D64208A880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Infancy &amp; Childhood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7" name="Shape 53" descr=""/>
          <p:cNvPicPr/>
          <p:nvPr/>
        </p:nvPicPr>
        <p:blipFill>
          <a:blip r:embed="rId1"/>
          <a:stretch/>
        </p:blipFill>
        <p:spPr>
          <a:xfrm>
            <a:off x="457200" y="1200240"/>
            <a:ext cx="4584600" cy="39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838188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ocial Development: parent-infant attach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-360" y="1199880"/>
            <a:ext cx="7086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7000"/>
          </a:bodyPr>
          <a:p>
            <a:pPr marL="443160" indent="-332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Stranger Anx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The _________ of strangers that                                           infants commonly display, beginning by                                 about 8 months of 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-332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Attach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An emotional tie with another person;                                     shown in young children by their seeking ___________ to the caregiver and showing __________________ when separ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Shape 124" descr=""/>
          <p:cNvPicPr/>
          <p:nvPr/>
        </p:nvPicPr>
        <p:blipFill>
          <a:blip r:embed="rId1"/>
          <a:stretch/>
        </p:blipFill>
        <p:spPr>
          <a:xfrm>
            <a:off x="5443560" y="1913040"/>
            <a:ext cx="3149640" cy="23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560" y="206280"/>
            <a:ext cx="838188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ocial Development: parent-infant attach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-152640" y="1039680"/>
            <a:ext cx="7543800" cy="381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6000"/>
          </a:bodyPr>
          <a:p>
            <a:pPr marL="3290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Harry Harlow’s Experiment (197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nfants bond with surrogate mothers because of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___________ _____________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not because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of nourish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Critical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n optimal period shortly after birth when an                              organism's exposure to certain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___________                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or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________________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oduce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oper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______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hape 131"/>
          <p:cNvSpPr/>
          <p:nvPr/>
        </p:nvSpPr>
        <p:spPr>
          <a:xfrm>
            <a:off x="4960800" y="1143000"/>
            <a:ext cx="4052880" cy="38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Shape 132" descr=""/>
          <p:cNvPicPr/>
          <p:nvPr/>
        </p:nvPicPr>
        <p:blipFill>
          <a:blip r:embed="rId1"/>
          <a:stretch/>
        </p:blipFill>
        <p:spPr>
          <a:xfrm>
            <a:off x="5864400" y="3409920"/>
            <a:ext cx="3292200" cy="1733760"/>
          </a:xfrm>
          <a:prstGeom prst="rect">
            <a:avLst/>
          </a:prstGeom>
          <a:ln w="0">
            <a:noFill/>
          </a:ln>
        </p:spPr>
      </p:pic>
      <p:pic>
        <p:nvPicPr>
          <p:cNvPr id="333" name="Shape 133" descr=""/>
          <p:cNvPicPr/>
          <p:nvPr/>
        </p:nvPicPr>
        <p:blipFill>
          <a:blip r:embed="rId2"/>
          <a:stretch/>
        </p:blipFill>
        <p:spPr>
          <a:xfrm>
            <a:off x="7013520" y="1171440"/>
            <a:ext cx="1706760" cy="2127240"/>
          </a:xfrm>
          <a:prstGeom prst="rect">
            <a:avLst/>
          </a:prstGeom>
          <a:ln w="0">
            <a:noFill/>
          </a:ln>
        </p:spPr>
      </p:pic>
      <p:sp>
        <p:nvSpPr>
          <p:cNvPr id="334" name="TextBox 1"/>
          <p:cNvSpPr/>
          <p:nvPr/>
        </p:nvSpPr>
        <p:spPr>
          <a:xfrm>
            <a:off x="232200" y="4846680"/>
            <a:ext cx="350748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.g. Newborn’s exposure to breastfee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Imprin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-360" y="1199880"/>
            <a:ext cx="563868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Impri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The process by which certain animals form _______________ during a critical period very ________ in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Konrad Lor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     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Discovered imprinting by observing newly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      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hatched duckl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Special type of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Shape 158" descr=""/>
          <p:cNvPicPr/>
          <p:nvPr/>
        </p:nvPicPr>
        <p:blipFill>
          <a:blip r:embed="rId1"/>
          <a:stretch/>
        </p:blipFill>
        <p:spPr>
          <a:xfrm>
            <a:off x="5805360" y="3132000"/>
            <a:ext cx="2833920" cy="1887840"/>
          </a:xfrm>
          <a:prstGeom prst="rect">
            <a:avLst/>
          </a:prstGeom>
          <a:ln w="0">
            <a:noFill/>
          </a:ln>
        </p:spPr>
      </p:pic>
      <p:pic>
        <p:nvPicPr>
          <p:cNvPr id="338" name="Shape 159" descr=""/>
          <p:cNvPicPr/>
          <p:nvPr/>
        </p:nvPicPr>
        <p:blipFill>
          <a:blip r:embed="rId2"/>
          <a:stretch/>
        </p:blipFill>
        <p:spPr>
          <a:xfrm>
            <a:off x="6554880" y="1243080"/>
            <a:ext cx="1334880" cy="188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Attachment Differ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91440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808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_______________ 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15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aused by careful ___________________ &amp; _____________________when the infant is very young. They grow up with a sense of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__________ 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lnSpc>
                <a:spcPct val="115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 sense that the world is predictable and trustwor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3808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___________________ 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15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aused by ______________ parenting. Tends to have a worse sense of ___________, and avoid ___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ure attachment vs. Insecure attach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200240"/>
            <a:ext cx="9144000" cy="394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_______ of infants display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____________ attachment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when placed in unfamiliar enviro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e.g. 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Infants happily explore environment in the presence of their mother; When mother leaves signs of distress are evident in inf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_______ of infants show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_______________ attachment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when placed in same set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e.g.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Infants cling to their mothers or caregivers and are less likely to explor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Attachment Depr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91440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When deprived from ______________, children tend to grow into more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_______________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&amp; ________________ ad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Similarly, when taken from a loved one, children have difficult times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eating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,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sleeping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, or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getting along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with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lf-Con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80" y="1063800"/>
            <a:ext cx="9144000" cy="3713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4000"/>
          </a:bodyPr>
          <a:p>
            <a:pPr lvl="2" marL="107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2800" spc="-1" strike="noStrike">
                <a:solidFill>
                  <a:srgbClr val="222222"/>
                </a:solidFill>
                <a:latin typeface="Cambria"/>
                <a:ea typeface="Cambria"/>
              </a:rPr>
              <a:t>Our thoughts &amp; feelings about ________________________, in answer to the question, “Who  am I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Based upon ___________-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lang="en" sz="2000" spc="-1" strike="noStrike">
                <a:solidFill>
                  <a:srgbClr val="222222"/>
                </a:solidFill>
                <a:latin typeface="Cambria"/>
                <a:ea typeface="Cambria"/>
              </a:rPr>
              <a:t>&gt;child being aware he/she is distince from everyone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When does self-awareness begin?</a:t>
            </a:r>
            <a:r>
              <a:rPr b="0" lang="en" sz="20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&gt;Darwin proposed it begins when children can recognize themselves in a mi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&gt;Researchers have dabbed rouge on young children’s noses in order to study the      </a:t>
            </a: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development of self-awar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      </a:t>
            </a:r>
            <a:r>
              <a:rPr b="0" i="1" lang="en" sz="1600" spc="-1" strike="noStrike">
                <a:solidFill>
                  <a:srgbClr val="222222"/>
                </a:solidFill>
                <a:latin typeface="Cambria"/>
                <a:ea typeface="Cambria"/>
              </a:rPr>
              <a:t>-By __________-___________ months, they begin to touch their own nose when they see the </a:t>
            </a:r>
            <a:r>
              <a:rPr b="0" i="1" lang="en" sz="16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i="1" lang="en" sz="1600" spc="-1" strike="noStrike">
                <a:solidFill>
                  <a:srgbClr val="222222"/>
                </a:solidFill>
                <a:latin typeface="Cambria"/>
                <a:ea typeface="Cambria"/>
              </a:rPr>
              <a:t>      rouge in the mirror; apparently they’ve begun to become self-aware of how their face </a:t>
            </a:r>
            <a:r>
              <a:rPr b="0" i="1" lang="en" sz="16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i="1" lang="en" sz="1600" spc="-1" strike="noStrike">
                <a:solidFill>
                  <a:srgbClr val="222222"/>
                </a:solidFill>
                <a:latin typeface="Cambria"/>
                <a:ea typeface="Cambria"/>
              </a:rPr>
              <a:t>    “should” l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tages of Self-Con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80" y="1144080"/>
            <a:ext cx="9144000" cy="3713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4000"/>
          </a:bodyPr>
          <a:p>
            <a:pPr marL="752040" indent="-42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Cambria"/>
              </a:rPr>
              <a:t>Infancy : _______________________________ to parents/careg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52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52040" indent="-42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Cambria"/>
              </a:rPr>
              <a:t>School age: more detailed ___________________________________of___________________ which includes gender, group memberships, psychological traits, similarities/differences to other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52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52040" indent="-42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Cambria"/>
              </a:rPr>
              <a:t>End of childhood (8-12 yrs old) : __________________________________________ of Self Concept is usually quite stable; they see themselves as being skillful in some ways, but not others; understand what traits they would like to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Cambria"/>
              </a:rPr>
              <a:t>    </a:t>
            </a:r>
            <a:r>
              <a:rPr b="0" lang="en-US" sz="1800" spc="-1" strike="noStrike">
                <a:solidFill>
                  <a:srgbClr val="222222"/>
                </a:solidFill>
                <a:latin typeface="Cambria"/>
              </a:rPr>
              <a:t>	</a:t>
            </a:r>
            <a:r>
              <a:rPr b="0" lang="en-US" sz="1800" spc="-1" strike="noStrike">
                <a:solidFill>
                  <a:srgbClr val="222222"/>
                </a:solidFill>
                <a:latin typeface="Cambria"/>
              </a:rPr>
              <a:t>&gt;Children's views of themselves affect their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Cambr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52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arenting Sty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063800"/>
            <a:ext cx="9144000" cy="389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1. </a:t>
            </a:r>
            <a:r>
              <a:rPr b="1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______________________________</a:t>
            </a: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 : </a:t>
            </a:r>
            <a:r>
              <a:rPr b="0" lang="en" sz="2200" spc="-1" strike="noStrike">
                <a:solidFill>
                  <a:srgbClr val="222222"/>
                </a:solidFill>
                <a:latin typeface="Cambria"/>
                <a:ea typeface="Cambria"/>
              </a:rPr>
              <a:t>Parents impose &amp; expect ________________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2. </a:t>
            </a:r>
            <a:r>
              <a:rPr b="1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______________________________: </a:t>
            </a:r>
            <a:r>
              <a:rPr b="0" lang="en" sz="2200" spc="-1" strike="noStrike">
                <a:solidFill>
                  <a:srgbClr val="222222"/>
                </a:solidFill>
                <a:latin typeface="Cambria"/>
                <a:ea typeface="Cambria"/>
              </a:rPr>
              <a:t>Parents ___________________ to their children's desires; they make few demands and use _____________________ punish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3. </a:t>
            </a:r>
            <a:r>
              <a:rPr b="1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______________________________: </a:t>
            </a:r>
            <a:r>
              <a:rPr b="0" lang="en" sz="2200" spc="-1" strike="noStrike">
                <a:solidFill>
                  <a:srgbClr val="222222"/>
                </a:solidFill>
                <a:latin typeface="Cambria"/>
                <a:ea typeface="Cambria"/>
              </a:rPr>
              <a:t>Parents are both _______________________________ &amp; ______________________________________; they use control through rules, but also explain the reason for the control; they encourage open discussion when making rules &amp; allow exce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1700" spc="-1" strike="noStrike">
                <a:solidFill>
                  <a:srgbClr val="222222"/>
                </a:solidFill>
                <a:latin typeface="Cambria"/>
                <a:ea typeface="Cambria"/>
              </a:rPr>
              <a:t>**association between certain parenting styles and certain childhood outcomes is CORRELATION. Correlation is not causation*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renatal Development &amp; the Newbo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76680" y="1063800"/>
            <a:ext cx="8899560" cy="3947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4000"/>
          </a:bodyPr>
          <a:p>
            <a:pPr marL="429480" indent="-321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Sperm and egg cells fuse into a </a:t>
            </a:r>
            <a:r>
              <a:rPr b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Over time, the zygote becomes an </a:t>
            </a:r>
            <a:r>
              <a:rPr b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_____________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,                                                                where organs begin to be form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072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The __________ begins to beat during this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9480" indent="-321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The </a:t>
            </a:r>
            <a:r>
              <a:rPr b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X and Y _________________________                                  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determine the sex of the 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94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The mother ALWAYS provides an _______ 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94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The father provides either an X </a:t>
            </a:r>
            <a:r>
              <a:rPr b="0" lang="en" sz="1800" spc="-1" strike="noStrike" u="sng">
                <a:solidFill>
                  <a:srgbClr val="000000"/>
                </a:solidFill>
                <a:uFillTx/>
                <a:latin typeface="Georgia"/>
                <a:ea typeface="Georgia"/>
              </a:rPr>
              <a:t>OR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Y 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94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______ pair results in a female, _____ pair results in a m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Then, the unborn child becomes a </a:t>
            </a:r>
            <a:r>
              <a:rPr b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fetus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, which it will remain until birth. They can begin to hear outside v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Shape 66" descr=""/>
          <p:cNvPicPr/>
          <p:nvPr/>
        </p:nvPicPr>
        <p:blipFill>
          <a:blip r:embed="rId1"/>
          <a:stretch/>
        </p:blipFill>
        <p:spPr>
          <a:xfrm>
            <a:off x="6189840" y="1276200"/>
            <a:ext cx="2954160" cy="20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renatal Development &amp; the Newbo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-152640" y="1047600"/>
            <a:ext cx="929628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3000"/>
          </a:bodyPr>
          <a:p>
            <a:pPr marL="42516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The fetus can be exposed to                                             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-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outside ______________ or                                                                             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-A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lchoh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Fetal Alcohol Syndr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occurs if the fetus is exposed to                                                                          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alcohol 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___  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light/occasional drinking can be harmful, persistent/heavy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drinking is wo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marked by lifelong _____________&amp;____________abnorm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Shape 73" descr=""/>
          <p:cNvPicPr/>
          <p:nvPr/>
        </p:nvPicPr>
        <p:blipFill>
          <a:blip r:embed="rId1"/>
          <a:stretch/>
        </p:blipFill>
        <p:spPr>
          <a:xfrm>
            <a:off x="4495680" y="1162080"/>
            <a:ext cx="459108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e Competent Newbo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0" y="1047600"/>
            <a:ext cx="914400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3000"/>
          </a:bodyPr>
          <a:p>
            <a:pPr marL="42516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Newborns look for __________, and will turn their heads towards 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Prefer sights &amp; sounds that lead to social __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They can recognize &amp; respond to ________________ vo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___________, too, is an important sense for inf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week old babies can detect their mother’s s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600" spc="-1" strike="noStrike">
                <a:solidFill>
                  <a:srgbClr val="000000"/>
                </a:solidFill>
                <a:latin typeface="Georgia"/>
                <a:ea typeface="Georgia"/>
              </a:rPr>
              <a:t>-MacFarlene (1978); when an infant is placed between a pad from his </a:t>
            </a:r>
            <a:r>
              <a:rPr b="0" i="1" lang="en" sz="16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6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6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600" spc="-1" strike="noStrike">
                <a:solidFill>
                  <a:srgbClr val="000000"/>
                </a:solidFill>
                <a:latin typeface="Georgia"/>
                <a:ea typeface="Georgia"/>
              </a:rPr>
              <a:t>mother’s nursing bra &amp; that of another women, he/she usually turns </a:t>
            </a:r>
            <a:r>
              <a:rPr b="0" i="1" lang="en" sz="16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6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6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600" spc="-1" strike="noStrike">
                <a:solidFill>
                  <a:srgbClr val="000000"/>
                </a:solidFill>
                <a:latin typeface="Georgia"/>
                <a:ea typeface="Georgia"/>
              </a:rPr>
              <a:t>towards his/her mother’s p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516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Habit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96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decreasing responsiveness with repeated st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2120" y="241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hysical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0" y="1098720"/>
            <a:ext cx="9144000" cy="3877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8000"/>
          </a:bodyPr>
          <a:p>
            <a:pPr marL="447840" indent="-335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The brain is mostly formed at birth. The _______________ ___________ develops the most after birth, how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35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M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-______________ growth processes that enable orderly changes in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 behavior, relatively uninfluenced by 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35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Babies _______  ________1</a:t>
            </a:r>
            <a:r>
              <a:rPr b="0" lang="en" sz="2400" spc="-1" strike="noStrike" baseline="30000">
                <a:solidFill>
                  <a:srgbClr val="000000"/>
                </a:solidFill>
                <a:latin typeface="Georgia"/>
                <a:ea typeface="Georgia"/>
              </a:rPr>
              <a:t>st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, _______ next, then______ (90% of all babies are able to walk by age 15 mont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35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Due to unfinished development in the _________________ &amp; ____________  _________,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we experience </a:t>
            </a:r>
            <a:r>
              <a:rPr b="1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infantile amnesia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, which is why we cannot remember much before the age of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ognitive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-360" y="1199880"/>
            <a:ext cx="895356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5000"/>
          </a:bodyPr>
          <a:p>
            <a:pPr marL="434160" indent="-39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Older we get, more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____________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we bu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6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mental concept/framework that organizes &amp; interprets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__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3254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Georgia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Assimilate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: ___________________ new information with ____________-________________ sch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3254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Georgia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Accomodate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: ________________ old schemas to ____________________ new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iaget’s Theory of Cognitive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3"/>
          <p:cNvGrpSpPr/>
          <p:nvPr/>
        </p:nvGrpSpPr>
        <p:grpSpPr>
          <a:xfrm>
            <a:off x="0" y="1200240"/>
            <a:ext cx="8662680" cy="3729600"/>
            <a:chOff x="0" y="1200240"/>
            <a:chExt cx="8662680" cy="3729600"/>
          </a:xfrm>
        </p:grpSpPr>
        <p:sp>
          <p:nvSpPr>
            <p:cNvPr id="302" name="Text Box 4"/>
            <p:cNvSpPr/>
            <p:nvPr/>
          </p:nvSpPr>
          <p:spPr>
            <a:xfrm>
              <a:off x="216000" y="1200240"/>
              <a:ext cx="13053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ypical Ag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Rang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5"/>
            <p:cNvSpPr/>
            <p:nvPr/>
          </p:nvSpPr>
          <p:spPr>
            <a:xfrm>
              <a:off x="2603160" y="1200240"/>
              <a:ext cx="12841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escrip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of Stag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6"/>
            <p:cNvSpPr/>
            <p:nvPr/>
          </p:nvSpPr>
          <p:spPr>
            <a:xfrm>
              <a:off x="6644160" y="1200240"/>
              <a:ext cx="15919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evelopmental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henomen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7"/>
            <p:cNvSpPr/>
            <p:nvPr/>
          </p:nvSpPr>
          <p:spPr>
            <a:xfrm>
              <a:off x="312840" y="1748880"/>
              <a:ext cx="178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irth to nearly 2 yea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8"/>
            <p:cNvSpPr/>
            <p:nvPr/>
          </p:nvSpPr>
          <p:spPr>
            <a:xfrm>
              <a:off x="2391120" y="1748880"/>
              <a:ext cx="2521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___________________________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periencing the world throug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nses and actions (looking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uching, mouthing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9"/>
            <p:cNvSpPr/>
            <p:nvPr/>
          </p:nvSpPr>
          <p:spPr>
            <a:xfrm>
              <a:off x="6653880" y="1748880"/>
              <a:ext cx="1652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bject perman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ranger anxie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10"/>
            <p:cNvSpPr/>
            <p:nvPr/>
          </p:nvSpPr>
          <p:spPr>
            <a:xfrm>
              <a:off x="265320" y="2589480"/>
              <a:ext cx="1505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out 2 to 6 yea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11"/>
            <p:cNvSpPr/>
            <p:nvPr/>
          </p:nvSpPr>
          <p:spPr>
            <a:xfrm>
              <a:off x="274680" y="3425400"/>
              <a:ext cx="1590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out 7 to 11 yea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2"/>
            <p:cNvSpPr/>
            <p:nvPr/>
          </p:nvSpPr>
          <p:spPr>
            <a:xfrm>
              <a:off x="268560" y="4288320"/>
              <a:ext cx="1492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out 12 throug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ulthoo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3"/>
            <p:cNvSpPr/>
            <p:nvPr/>
          </p:nvSpPr>
          <p:spPr>
            <a:xfrm>
              <a:off x="76680" y="1212480"/>
              <a:ext cx="858600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4"/>
            <p:cNvSpPr/>
            <p:nvPr/>
          </p:nvSpPr>
          <p:spPr>
            <a:xfrm>
              <a:off x="76680" y="1751400"/>
              <a:ext cx="858600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5"/>
            <p:cNvSpPr/>
            <p:nvPr/>
          </p:nvSpPr>
          <p:spPr>
            <a:xfrm>
              <a:off x="76680" y="2589480"/>
              <a:ext cx="858600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16"/>
            <p:cNvSpPr/>
            <p:nvPr/>
          </p:nvSpPr>
          <p:spPr>
            <a:xfrm>
              <a:off x="2373840" y="2589480"/>
              <a:ext cx="2399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__________________________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presenting thing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ith words and imag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ut lacking logical reaso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7"/>
            <p:cNvSpPr/>
            <p:nvPr/>
          </p:nvSpPr>
          <p:spPr>
            <a:xfrm>
              <a:off x="6373440" y="2589480"/>
              <a:ext cx="1938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etend pl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gocentris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nguage develo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heory of Mi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8"/>
            <p:cNvSpPr/>
            <p:nvPr/>
          </p:nvSpPr>
          <p:spPr>
            <a:xfrm>
              <a:off x="0" y="3427920"/>
              <a:ext cx="858636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9"/>
            <p:cNvSpPr/>
            <p:nvPr/>
          </p:nvSpPr>
          <p:spPr>
            <a:xfrm>
              <a:off x="2372040" y="3425400"/>
              <a:ext cx="3423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_________________  ____________________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hinking logically about concret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vents; grasping concrete analogi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d performing arithmetical oper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0"/>
            <p:cNvSpPr/>
            <p:nvPr/>
          </p:nvSpPr>
          <p:spPr>
            <a:xfrm>
              <a:off x="6363000" y="342540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serv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thematical transform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21"/>
            <p:cNvSpPr/>
            <p:nvPr/>
          </p:nvSpPr>
          <p:spPr>
            <a:xfrm>
              <a:off x="0" y="4325760"/>
              <a:ext cx="858636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22"/>
            <p:cNvSpPr/>
            <p:nvPr/>
          </p:nvSpPr>
          <p:spPr>
            <a:xfrm>
              <a:off x="2372040" y="4288320"/>
              <a:ext cx="342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_________________  ____________________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stract reaso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3"/>
            <p:cNvSpPr/>
            <p:nvPr/>
          </p:nvSpPr>
          <p:spPr>
            <a:xfrm>
              <a:off x="6363000" y="428832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stract log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tential for moral reaso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ognitive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91440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89000"/>
          </a:bodyPr>
          <a:p>
            <a:pPr marL="406800" indent="-338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Piaget believed that our minds grow as the result of </a:t>
            </a:r>
            <a:r>
              <a:rPr b="0" lang="en" sz="2300" spc="-1" strike="noStrike">
                <a:solidFill>
                  <a:srgbClr val="000000"/>
                </a:solidFill>
                <a:latin typeface="Georgia"/>
                <a:ea typeface="Georgia"/>
              </a:rPr>
              <a:t>___________________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with our </a:t>
            </a:r>
            <a:r>
              <a:rPr b="0" lang="en" sz="2300" spc="-1" strike="noStrike">
                <a:solidFill>
                  <a:srgbClr val="000000"/>
                </a:solidFill>
                <a:latin typeface="Georgia"/>
                <a:ea typeface="Georgia"/>
              </a:rPr>
              <a:t>____________________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_______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6800" indent="-338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Piaget’s emphasis on the cognitive milestones &amp; developmental stages is _______________ accurate, even if timing is not </a:t>
            </a:r>
            <a:r>
              <a:rPr b="0" lang="en" sz="2400" spc="-1" strike="noStrike">
                <a:solidFill>
                  <a:srgbClr val="ffffff"/>
                </a:solidFill>
                <a:latin typeface="Georgia"/>
                <a:ea typeface="Georgi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Today’s researchers see developments as more continu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6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T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Georgia"/>
              </a:rPr>
              <a:t>he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 beginnings of each type of thinking has been identified at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earlier times than Piaget belie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6800" indent="-338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Studies around the world have confirmed 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Georgia"/>
              </a:rPr>
              <a:t>ha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t human cognition unfolds in the ________________ that Piaget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ognitive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0" y="1055520"/>
            <a:ext cx="914400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7000"/>
          </a:bodyPr>
          <a:p>
            <a:pPr marL="406440" indent="-332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Lev Vygot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Believed language was important for social 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words are the building blocks for thin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children’s minds grow by ________________________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with the ________________  _____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by mentoring children and giving them new words,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parents allow children to step up to higher levels of thinking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(scaffolding)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zone of proximal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zone between what a child can &amp; can’t do-what they can do with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hil McCormick</dc:creator>
  <dc:description/>
  <dc:language>en-US</dc:language>
  <cp:lastModifiedBy>Debes John</cp:lastModifiedBy>
  <dcterms:modified xsi:type="dcterms:W3CDTF">2016-02-05T16:19:12Z</dcterms:modified>
  <cp:revision>24</cp:revision>
  <dc:subject/>
  <dc:title>Developmental Psychology</dc:title>
</cp:coreProperties>
</file>