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5145088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311560" y="525600"/>
            <a:ext cx="4673880" cy="2629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93240" b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Philtrum" TargetMode="External"/><Relationship Id="rId2" Type="http://schemas.openxmlformats.org/officeDocument/2006/relationships/hyperlink" Target="https://en.wikipedia.org/wiki/Upper_lip" TargetMode="External"/><Relationship Id="rId3" Type="http://schemas.openxmlformats.org/officeDocument/2006/relationships/hyperlink" Target="https://en.wikipedia.org/wiki/Palpebral_fissure" TargetMode="External"/><Relationship Id="rId4" Type="http://schemas.openxmlformats.org/officeDocument/2006/relationships/hyperlink" Target="https://en.wikipedia.org/wiki/Human_eyeball" TargetMode="External"/><Relationship Id="rId5" Type="http://schemas.openxmlformats.org/officeDocument/2006/relationships/slide" Target="../slides/slide3.xml"/><Relationship Id="rId6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311560" y="525600"/>
            <a:ext cx="4673520" cy="26287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93240" b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ooth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1"/>
              </a:rPr>
              <a:t>philtr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The divot or groove between the nose and upper lip flattens with increased prenatal alcohol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vermilion: The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2"/>
              </a:rPr>
              <a:t>upper li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ns with increased prenatal alcohol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3"/>
              </a:rPr>
              <a:t>palpebral fissu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4"/>
              </a:rPr>
              <a:t>Ey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dth decreases with increased prenatal alcohol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2311560" y="525600"/>
            <a:ext cx="4673520" cy="26287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93240" bIns="93240" anchor="t">
            <a:noAutofit/>
          </a:bodyPr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Georgia"/>
              </a:rPr>
              <a:t>Sensorimotor St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bject Permanence-The awareness that things continue to exist even when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not perceived-Piaget didn’t think it developed until the end of this stage, subsequent research said around 8 months, recent studies have shown it as early as 3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Georgia"/>
              </a:rPr>
              <a:t>Preoperational St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&gt;Egocentrism-The inability of the preoperational child to take another’s point of view; ends with entrance into the concrete operational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ory of Mind-People’s ideas about their own and others’ mental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Georgia"/>
              </a:rPr>
              <a:t>Concrete Operational St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&gt;Conservation-the principle that properties such as mass, volume, and number remain the same despite changes in the forms of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Georgia"/>
              </a:rPr>
              <a:t>Formal Operational St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&gt;stage during which people begin to think logically about abstract concepts. Logic that goes beyond the 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13CE-ACD0-419E-B13B-CB84ECA8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4976-CDD9-4542-B129-ED491B21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DAAC-E23B-4CE7-93E9-D37E6250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8156-8F8F-45F1-934A-002FBE97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B24C-FAD6-4D8D-A73C-FE952127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BD44-73EA-4F6B-8840-F41BB484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F070-68D5-4E0B-915B-7F463CC4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9B1E-2CDC-425C-A407-09233748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F2C6-BD56-49E7-95FE-BEF9A9FD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B3D1-7019-417B-806A-C576CBE1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EADA-1D8F-4C0C-8C3A-22E54446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40A1-BEEE-4FC1-9E9C-BFCCB5EA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Shape 14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Shape 15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Shape 16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20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hape 21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hape 24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hape 27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hape 28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hape 30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hape 32"/>
          <p:cNvSpPr/>
          <p:nvPr/>
        </p:nvSpPr>
        <p:spPr>
          <a:xfrm flipH="1" rot="10800000">
            <a:off x="0" y="4412880"/>
            <a:ext cx="914400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hape 33"/>
          <p:cNvSpPr/>
          <p:nvPr/>
        </p:nvSpPr>
        <p:spPr>
          <a:xfrm flipH="1">
            <a:off x="4525920" y="3821040"/>
            <a:ext cx="4618080" cy="59076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760"/>
              <a:gd name="textAreaBottom" fmla="*/ 591120 h 59076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hape 34"/>
          <p:cNvSpPr/>
          <p:nvPr/>
        </p:nvSpPr>
        <p:spPr>
          <a:xfrm rot="10800000">
            <a:off x="4525920" y="441144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hape 37"/>
          <p:cNvSpPr/>
          <p:nvPr/>
        </p:nvSpPr>
        <p:spPr>
          <a:xfrm>
            <a:off x="6480" y="76320"/>
            <a:ext cx="9134280" cy="5054400"/>
          </a:xfrm>
          <a:custGeom>
            <a:avLst/>
            <a:gdLst>
              <a:gd name="textAreaLeft" fmla="*/ 0 w 9134280"/>
              <a:gd name="textAreaRight" fmla="*/ 9134640 w 9134280"/>
              <a:gd name="textAreaTop" fmla="*/ 0 h 5054400"/>
              <a:gd name="textAreaBottom" fmla="*/ 5054760 h 5054400"/>
            </a:gdLst>
            <a:ahLst/>
            <a:rect l="textAreaLeft" t="textAreaTop" r="textAreaRight" b="textAreaBottom"/>
            <a:pathLst>
              <a:path w="9157023" h="6739723">
                <a:moveTo>
                  <a:pt x="1629" y="0"/>
                </a:moveTo>
                <a:lnTo>
                  <a:pt x="9157023" y="4340980"/>
                </a:lnTo>
                <a:lnTo>
                  <a:pt x="1593" y="6739723"/>
                </a:lnTo>
                <a:cubicBezTo>
                  <a:pt x="-3941" y="5123960"/>
                  <a:pt x="7163" y="1615763"/>
                  <a:pt x="1629" y="0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"/>
          </p:nvPr>
        </p:nvSpPr>
        <p:spPr>
          <a:xfrm>
            <a:off x="431640" y="46720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2"/>
          </p:nvPr>
        </p:nvSpPr>
        <p:spPr>
          <a:xfrm>
            <a:off x="3124080" y="46720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3"/>
          </p:nvPr>
        </p:nvSpPr>
        <p:spPr>
          <a:xfrm>
            <a:off x="6730920" y="46720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B5D9-212A-4A7C-9C8E-3E482B2076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Infancy &amp; Childhood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7" name="Shape 53" descr=""/>
          <p:cNvPicPr/>
          <p:nvPr/>
        </p:nvPicPr>
        <p:blipFill>
          <a:blip r:embed="rId1"/>
          <a:stretch/>
        </p:blipFill>
        <p:spPr>
          <a:xfrm>
            <a:off x="457200" y="1200240"/>
            <a:ext cx="458460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Re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0" y="112392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6476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ith regards to development, what does “maturation”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7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) Explain the difference between assimilation &amp; accommodation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**EXPLAIN the difference, don’t just define each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7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Georgi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3) How do Piaget and Vygotsky differ with their beliefs about how our minds gr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eorgi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838188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ocial Development: parent-infant attach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-360" y="1199880"/>
            <a:ext cx="533412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4000"/>
          </a:bodyPr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Stranger Anx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The fear of strangers that infants commonly display, beginning by about 8 months of 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Attach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An emotional tie with another person; shown in young children by their seeking closeness to the caregiver and showing distress when separ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Shape 124" descr=""/>
          <p:cNvPicPr/>
          <p:nvPr/>
        </p:nvPicPr>
        <p:blipFill>
          <a:blip r:embed="rId1"/>
          <a:stretch/>
        </p:blipFill>
        <p:spPr>
          <a:xfrm>
            <a:off x="5443560" y="1913040"/>
            <a:ext cx="3149640" cy="23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206280"/>
            <a:ext cx="838188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ocial Development: parent-infant attach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-152640" y="1039680"/>
            <a:ext cx="7543800" cy="381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0000"/>
          </a:bodyPr>
          <a:p>
            <a:pPr marL="308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arry Harlow’s Experiment (19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fants bond with surrogate mothers because of bodily contact not because of nourish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Critic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 optimal period shortly after birth                    when an organism's exposure to                                         certain stimuli or experiences produces                                          proper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E.g.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 Newborn’s exposure to breastfee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hape 131"/>
          <p:cNvSpPr/>
          <p:nvPr/>
        </p:nvSpPr>
        <p:spPr>
          <a:xfrm>
            <a:off x="4960800" y="1143000"/>
            <a:ext cx="405288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Shape 132" descr=""/>
          <p:cNvPicPr/>
          <p:nvPr/>
        </p:nvPicPr>
        <p:blipFill>
          <a:blip r:embed="rId1"/>
          <a:stretch/>
        </p:blipFill>
        <p:spPr>
          <a:xfrm>
            <a:off x="5745240" y="3378240"/>
            <a:ext cx="3292560" cy="1733400"/>
          </a:xfrm>
          <a:prstGeom prst="rect">
            <a:avLst/>
          </a:prstGeom>
          <a:ln w="0">
            <a:noFill/>
          </a:ln>
        </p:spPr>
      </p:pic>
      <p:pic>
        <p:nvPicPr>
          <p:cNvPr id="335" name="Shape 133" descr=""/>
          <p:cNvPicPr/>
          <p:nvPr/>
        </p:nvPicPr>
        <p:blipFill>
          <a:blip r:embed="rId2"/>
          <a:stretch/>
        </p:blipFill>
        <p:spPr>
          <a:xfrm>
            <a:off x="7013520" y="1171440"/>
            <a:ext cx="170676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Imprin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-360" y="1199880"/>
            <a:ext cx="563868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Impri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The process by which certain animals form attachments during a critical period very early in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Konrad Lor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Discovered imprinting by observing newly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hatched duck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Special type of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Shape 158" descr=""/>
          <p:cNvPicPr/>
          <p:nvPr/>
        </p:nvPicPr>
        <p:blipFill>
          <a:blip r:embed="rId1"/>
          <a:stretch/>
        </p:blipFill>
        <p:spPr>
          <a:xfrm>
            <a:off x="5805360" y="3132000"/>
            <a:ext cx="2833920" cy="1887840"/>
          </a:xfrm>
          <a:prstGeom prst="rect">
            <a:avLst/>
          </a:prstGeom>
          <a:ln w="0">
            <a:noFill/>
          </a:ln>
        </p:spPr>
      </p:pic>
      <p:pic>
        <p:nvPicPr>
          <p:cNvPr id="339" name="Shape 159" descr=""/>
          <p:cNvPicPr/>
          <p:nvPr/>
        </p:nvPicPr>
        <p:blipFill>
          <a:blip r:embed="rId2"/>
          <a:stretch/>
        </p:blipFill>
        <p:spPr>
          <a:xfrm>
            <a:off x="6554880" y="1243080"/>
            <a:ext cx="1334880" cy="188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Attachment Dif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91440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808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ecure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15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aused by careful sensitivity and responsiveness when the infant is very young. They grow up with a sense of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basic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lnSpc>
                <a:spcPct val="115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 sense that the world is predictable and trustwor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808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nsecure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15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aused by apathetic parenting. Tends to have a worse sense of trust, and avoid attach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ure attachment vs. Insecure attach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00240"/>
            <a:ext cx="9144000" cy="394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60% of infants display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ecure attachment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when placed in unfamiliar enviro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e.g. 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Infants happily explore environment in the presence of their mother; When mother leaves signs of distress are evident in inf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30% of infants show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insecure attachment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when placed in same set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e.g.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Infants cling to their mothers or caregivers and are less likely to explor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Attachment Depr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91440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When deprived from attachment, children tend to grow into more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aggressive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and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abusive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ad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imilarly, when taken from a loved one, children have difficult times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eating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,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leeping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, or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getting along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with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arenting Sty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1063800"/>
            <a:ext cx="9144000" cy="389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9000"/>
          </a:bodyPr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1. </a:t>
            </a:r>
            <a:r>
              <a:rPr b="1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Authoritarian</a:t>
            </a: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 : </a:t>
            </a:r>
            <a:r>
              <a:rPr b="0" lang="en" sz="2200" spc="-1" strike="noStrike">
                <a:solidFill>
                  <a:srgbClr val="222222"/>
                </a:solidFill>
                <a:latin typeface="Cambria"/>
                <a:ea typeface="Cambria"/>
              </a:rPr>
              <a:t>Parents impose &amp; expect obed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2. </a:t>
            </a:r>
            <a:r>
              <a:rPr b="1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Permissive: </a:t>
            </a:r>
            <a:r>
              <a:rPr b="0" lang="en" sz="2200" spc="-1" strike="noStrike">
                <a:solidFill>
                  <a:srgbClr val="222222"/>
                </a:solidFill>
                <a:latin typeface="Cambria"/>
                <a:ea typeface="Cambria"/>
              </a:rPr>
              <a:t>Parents submit to their children's desires; they make few demands and use little punish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3. </a:t>
            </a:r>
            <a:r>
              <a:rPr b="1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Authoritative: </a:t>
            </a:r>
            <a:r>
              <a:rPr b="0" lang="en" sz="2200" spc="-1" strike="noStrike">
                <a:solidFill>
                  <a:srgbClr val="222222"/>
                </a:solidFill>
                <a:latin typeface="Cambria"/>
                <a:ea typeface="Cambria"/>
              </a:rPr>
              <a:t>Parents are both demanding &amp; responsive; they use control through rules, but also explain the reason for the control; they encourage open discussion when making rules &amp; allow exce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1700" spc="-1" strike="noStrike">
                <a:solidFill>
                  <a:srgbClr val="222222"/>
                </a:solidFill>
                <a:latin typeface="Cambria"/>
                <a:ea typeface="Cambria"/>
              </a:rPr>
              <a:t>**association between certain parenting styles and certain childhood outcomes is CORRELATION. Correlation is not causation*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lf-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0" y="1063800"/>
            <a:ext cx="9144000" cy="3713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4000"/>
          </a:bodyPr>
          <a:p>
            <a:pPr lvl="2" marL="10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800" spc="-1" strike="noStrike">
                <a:solidFill>
                  <a:srgbClr val="222222"/>
                </a:solidFill>
                <a:latin typeface="Cambria"/>
                <a:ea typeface="Cambria"/>
              </a:rPr>
              <a:t>Our thoughts &amp; feelings about ourselves, in answer to the question, “Who  am I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Based upon self-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Cambria"/>
                <a:ea typeface="Cambria"/>
              </a:rPr>
              <a:t>&gt;child being aware he/she is distince from everyone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When does self-awareness begin?</a:t>
            </a:r>
            <a:r>
              <a:rPr b="0" lang="en" sz="20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&gt;Darwin proposed it begins when children can recognize themselves in a mi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&gt;Researchers have dabbed rouge on young children’s noses in order to study the      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development of self-awar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      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-By 15-18 months, they begin to touch their own nose when they see the rouge in the 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       mirror; apparently they’ve begun to become self-aware of how their face “shou</a:t>
            </a:r>
            <a:r>
              <a:rPr b="0" i="1" lang="en-US" sz="1600" spc="-1" strike="noStrike">
                <a:solidFill>
                  <a:srgbClr val="222222"/>
                </a:solidFill>
                <a:latin typeface="Cambria"/>
                <a:ea typeface="Cambria"/>
              </a:rPr>
              <a:t>ld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” l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tages of Self-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0" y="1144080"/>
            <a:ext cx="9144000" cy="3713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80028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Cambria"/>
              </a:rPr>
              <a:t>Infancy : attachment to parents/careg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028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Cambria"/>
              </a:rPr>
              <a:t>School age: more detailed description of self which includes gender, group memberships, psychological traits, similarities/differences to other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028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Cambria"/>
              </a:rPr>
              <a:t>End of childhood (8-12 yrs old) : Awareness of Self Concept-usually quite stable; they see themselves as being skillful in some ways, but not in others; understand what traits they would like to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    </a:t>
            </a: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&gt;Children's views of themselves affect their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renatal Development &amp; the New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047240"/>
            <a:ext cx="8899560" cy="3948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4000"/>
          </a:bodyPr>
          <a:p>
            <a:pPr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Sperm and egg cells fuse into a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zyg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Over time, the zygote becomes an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embryo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, where                                                         organs begin to be for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072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The heart begins to beat during this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The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X and Y Chromosomes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determine the sex of                                                    the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The mother ALWAYS provides an X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The father provides either an X </a:t>
            </a:r>
            <a:r>
              <a:rPr b="0" lang="en" sz="1800" spc="-1" strike="noStrike" u="sng">
                <a:solidFill>
                  <a:srgbClr val="000000"/>
                </a:solidFill>
                <a:uFillTx/>
                <a:latin typeface="Georgia"/>
                <a:ea typeface="Georgia"/>
              </a:rPr>
              <a:t>OR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Y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XX pair results in a female, XY pair results in a 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Then, the unborn child becomes a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fetus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, which it will remain until birth. They can begin to hear outside v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Shape 66" descr=""/>
          <p:cNvPicPr/>
          <p:nvPr/>
        </p:nvPicPr>
        <p:blipFill>
          <a:blip r:embed="rId1"/>
          <a:stretch/>
        </p:blipFill>
        <p:spPr>
          <a:xfrm>
            <a:off x="5945040" y="1316160"/>
            <a:ext cx="2954520" cy="20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Re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12392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eorgi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) Explain Self-Concept , &amp; why YOU THINK it’s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eorgi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) Identify &amp; describe the 3 type of Parenting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renatal Development &amp; the New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-152640" y="1047600"/>
            <a:ext cx="908676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1000"/>
          </a:bodyPr>
          <a:p>
            <a:pPr marL="415800" indent="-34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he fetus can be exposed to                                             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erato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outside chemicals or vir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A</a:t>
            </a:r>
            <a:r>
              <a:rPr b="0" i="1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lchoh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-34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Fetal Alcohol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occurs if the fetus is exposed to                                                                   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alcohol </a:t>
            </a:r>
            <a:r>
              <a:rPr b="0" i="1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in ut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light/occasional drinking can be harmful, persistent/heavy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drinking is wo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-marked by lifelong physical &amp; brain abnorm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Shape 73" descr=""/>
          <p:cNvPicPr/>
          <p:nvPr/>
        </p:nvPicPr>
        <p:blipFill>
          <a:blip r:embed="rId1"/>
          <a:stretch/>
        </p:blipFill>
        <p:spPr>
          <a:xfrm>
            <a:off x="4495680" y="1162080"/>
            <a:ext cx="459108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e Competent New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104760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2000"/>
          </a:bodyPr>
          <a:p>
            <a:pPr marL="420480" indent="-350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Newborns look for faces, as well turn their heads towards sou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350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Prefer signts &amp; sounds that lead to social responsiveness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350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They can recognize &amp; respond to familiar vo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350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Smell, too, is an important sense for inf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week old babies can detect their mother’s s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MacFarlene (1978); when an infant is placed between a pad from his 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mother’s nursing bra &amp; that of another women, he/she usually turns 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towards his/her mother’s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480" indent="-350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Habit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906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-decreasing responsiveness with repeated st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2120" y="241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hysical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80720" y="1098720"/>
            <a:ext cx="8310600" cy="3877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4000"/>
          </a:bodyPr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he brain is mostly formed at birth. The frontal lobe develops the most after birth, how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M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-Biological growth processes that enable orderly changes in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behavior, relatively uninfluenced by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Babies roll over first, crawl next, then walk (90% of all babies are able to walk by age 15 mont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Due to unfinished development in the hippocampus and frontal lobes, we experience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infantile amnesia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, which is why we cannot remember much before the age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-360" y="1199880"/>
            <a:ext cx="895356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5000"/>
          </a:bodyPr>
          <a:p>
            <a:pPr marL="434160" indent="-39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Older we get, more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chemas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we bu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mental concept/framework that organizes &amp; interprets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3254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Georgia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Assimilate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: interpreting new information with already-existing sch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3254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Georgia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Accomodate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: adapting old schemas to incorporate new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iaget’s Theory of 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"/>
          <p:cNvGrpSpPr/>
          <p:nvPr/>
        </p:nvGrpSpPr>
        <p:grpSpPr>
          <a:xfrm>
            <a:off x="0" y="1200240"/>
            <a:ext cx="8662680" cy="3729600"/>
            <a:chOff x="0" y="1200240"/>
            <a:chExt cx="8662680" cy="3729600"/>
          </a:xfrm>
        </p:grpSpPr>
        <p:sp>
          <p:nvSpPr>
            <p:cNvPr id="302" name="Text Box 4"/>
            <p:cNvSpPr/>
            <p:nvPr/>
          </p:nvSpPr>
          <p:spPr>
            <a:xfrm>
              <a:off x="216000" y="1200240"/>
              <a:ext cx="13053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ypical Ag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Ran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"/>
            <p:cNvSpPr/>
            <p:nvPr/>
          </p:nvSpPr>
          <p:spPr>
            <a:xfrm>
              <a:off x="2603160" y="1200240"/>
              <a:ext cx="12841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scrip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of Sta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6"/>
            <p:cNvSpPr/>
            <p:nvPr/>
          </p:nvSpPr>
          <p:spPr>
            <a:xfrm>
              <a:off x="6644160" y="1200240"/>
              <a:ext cx="15919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velopmental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henome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7"/>
            <p:cNvSpPr/>
            <p:nvPr/>
          </p:nvSpPr>
          <p:spPr>
            <a:xfrm>
              <a:off x="312840" y="1748880"/>
              <a:ext cx="178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irth to nearly 2 yea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8"/>
            <p:cNvSpPr/>
            <p:nvPr/>
          </p:nvSpPr>
          <p:spPr>
            <a:xfrm>
              <a:off x="2391120" y="1748880"/>
              <a:ext cx="2521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Sensorimo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periencing the world throug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nses and actions (looking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uching, mouthin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9"/>
            <p:cNvSpPr/>
            <p:nvPr/>
          </p:nvSpPr>
          <p:spPr>
            <a:xfrm>
              <a:off x="6653880" y="1748880"/>
              <a:ext cx="165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bject perman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anger anxie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10"/>
            <p:cNvSpPr/>
            <p:nvPr/>
          </p:nvSpPr>
          <p:spPr>
            <a:xfrm>
              <a:off x="265320" y="2589480"/>
              <a:ext cx="150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out 2 to 6 yea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1"/>
            <p:cNvSpPr/>
            <p:nvPr/>
          </p:nvSpPr>
          <p:spPr>
            <a:xfrm>
              <a:off x="274680" y="3425400"/>
              <a:ext cx="159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out 7 to 11 yea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2"/>
            <p:cNvSpPr/>
            <p:nvPr/>
          </p:nvSpPr>
          <p:spPr>
            <a:xfrm>
              <a:off x="268560" y="4288320"/>
              <a:ext cx="1492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out 12 throug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ulthoo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3"/>
            <p:cNvSpPr/>
            <p:nvPr/>
          </p:nvSpPr>
          <p:spPr>
            <a:xfrm>
              <a:off x="76680" y="1212480"/>
              <a:ext cx="858600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4"/>
            <p:cNvSpPr/>
            <p:nvPr/>
          </p:nvSpPr>
          <p:spPr>
            <a:xfrm>
              <a:off x="76680" y="1751400"/>
              <a:ext cx="858600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5"/>
            <p:cNvSpPr/>
            <p:nvPr/>
          </p:nvSpPr>
          <p:spPr>
            <a:xfrm>
              <a:off x="76680" y="2589480"/>
              <a:ext cx="858600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6"/>
            <p:cNvSpPr/>
            <p:nvPr/>
          </p:nvSpPr>
          <p:spPr>
            <a:xfrm>
              <a:off x="2388600" y="2589480"/>
              <a:ext cx="228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reoper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presenting thing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ith words and imag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ut lacking logical reaso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7"/>
            <p:cNvSpPr/>
            <p:nvPr/>
          </p:nvSpPr>
          <p:spPr>
            <a:xfrm>
              <a:off x="6373440" y="2589480"/>
              <a:ext cx="1938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etend pl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gocentris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nguag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eory of Mi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8"/>
            <p:cNvSpPr/>
            <p:nvPr/>
          </p:nvSpPr>
          <p:spPr>
            <a:xfrm>
              <a:off x="0" y="3427920"/>
              <a:ext cx="858636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9"/>
            <p:cNvSpPr/>
            <p:nvPr/>
          </p:nvSpPr>
          <p:spPr>
            <a:xfrm>
              <a:off x="2390400" y="3425400"/>
              <a:ext cx="3022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Concrete oper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inking logically about concre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vents; grasping concrete analog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d performing arithmetical oper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0"/>
            <p:cNvSpPr/>
            <p:nvPr/>
          </p:nvSpPr>
          <p:spPr>
            <a:xfrm>
              <a:off x="6363000" y="342540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serv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thematical transform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1"/>
            <p:cNvSpPr/>
            <p:nvPr/>
          </p:nvSpPr>
          <p:spPr>
            <a:xfrm>
              <a:off x="0" y="4325760"/>
              <a:ext cx="858636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2"/>
            <p:cNvSpPr/>
            <p:nvPr/>
          </p:nvSpPr>
          <p:spPr>
            <a:xfrm>
              <a:off x="2383560" y="4288320"/>
              <a:ext cx="1572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Formal oper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stract reaso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3"/>
            <p:cNvSpPr/>
            <p:nvPr/>
          </p:nvSpPr>
          <p:spPr>
            <a:xfrm>
              <a:off x="6363000" y="428832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stract lo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tential for moral reaso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91440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3000"/>
          </a:bodyPr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Piaget believed that our minds grow as the result of interaction with our physic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Piaget’s emphasis on the cognitive milestones &amp; developmental stages is sequentially accurate, even if timing is not </a:t>
            </a:r>
            <a:r>
              <a:rPr b="0" lang="en" sz="2400" spc="-1" strike="noStrike">
                <a:solidFill>
                  <a:srgbClr val="ffffff"/>
                </a:solidFill>
                <a:latin typeface="Georgia"/>
                <a:ea typeface="Georgi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Today’s researchers see developments as more continu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T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Georgia"/>
              </a:rPr>
              <a:t>he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beginnings of each type of thinking has been identified at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earlier times than Piaget belie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tudies around the world have confirmed 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Georgia"/>
              </a:rPr>
              <a:t>ha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 human cognition unfolds in the sequence that Piaget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0" y="105552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19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Lev Vygot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Believed language was important for social ment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words are the building blocks for thin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children’s minds grow by interacting with the social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by mentoring children and giving them new words,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parents allow children to step up to higher levels of thinking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(scaffolding)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zone of proximal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zone between what a child can &amp; can’t do-what they can do with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hil McCormick</dc:creator>
  <dc:description/>
  <dc:language>en-US</dc:language>
  <cp:lastModifiedBy>Debes John</cp:lastModifiedBy>
  <cp:lastPrinted>2016-02-11T17:14:39Z</cp:lastPrinted>
  <dcterms:modified xsi:type="dcterms:W3CDTF">2018-02-21T16:55:26Z</dcterms:modified>
  <cp:revision>25</cp:revision>
  <dc:subject/>
  <dc:title>Developmental Psychology</dc:title>
</cp:coreProperties>
</file>