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5145088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880" cy="2629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-Piaget didn’t think it developed until the end of this stage, subsequent research said around 8 months, recent studies have shown it as early as 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; ends with entrance into the concrete operation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C13-1535-4A80-8308-BF63381E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CF1-41AA-4651-86A8-EA09CEA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0C2-B3D9-4713-8697-214F76C0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83A-9227-45AE-851A-7874B517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9CB-7BE2-42E6-B291-3F29F32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C00-90FE-4457-9047-60E5F281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233-3BF0-45E2-8DA7-70122BD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FBA-97BE-45F6-9EFD-7E6B1A5B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1FE-EEEA-4A66-86B5-0151CB1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B6F-B2AD-4C68-87A4-0B1DEEF0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4B7-FE0E-44A5-A634-DD74079C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742-9942-466C-AFF2-1DA49641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DE01-D105-409D-BB76-AA1AD08B62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 regards to development, what does “maturation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Explain the difference between assimilation &amp; accommodation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**EXPLAIN the difference, don’t just define ea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) How do Piaget and Vygotsky differ with their beliefs about how our minds g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33412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fear of strangers that infants commonly display, beginning by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shown in young children by their seeking closeness to the caregiver and showing distress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ants bond with surrogate mothers because of bodily contact not because of nour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ptimal period shortly after birth                    when an organism's exposure to                                         certain stimuli or experiences produces                                          proper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.g.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Newborn’s exposure to 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Shape 132" descr=""/>
          <p:cNvPicPr/>
          <p:nvPr/>
        </p:nvPicPr>
        <p:blipFill>
          <a:blip r:embed="rId1"/>
          <a:stretch/>
        </p:blipFill>
        <p:spPr>
          <a:xfrm>
            <a:off x="5745240" y="3378240"/>
            <a:ext cx="3292560" cy="1733400"/>
          </a:xfrm>
          <a:prstGeom prst="rect">
            <a:avLst/>
          </a:prstGeom>
          <a:ln w="0">
            <a:noFill/>
          </a:ln>
        </p:spPr>
      </p:pic>
      <p:pic>
        <p:nvPicPr>
          <p:cNvPr id="335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attachments during a critical period very early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9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sensitivity and responsiveness 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as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apathetic parenting. Tends to have a worse sense of trust, and avoid attach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60%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30%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attachment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ggres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nd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bu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rian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obe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Permiss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submit to their children's desires; they make few demands and use little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t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demanding &amp; responsive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ourselves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15-18 months, they begin to touch their own nose when they see the rouge in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 mirror; apparently they’ve begun to become self-aware of how their face “shou</a:t>
            </a:r>
            <a:r>
              <a:rPr b="0" i="1" lang="en-US" sz="1600" spc="-1" strike="noStrike">
                <a:solidFill>
                  <a:srgbClr val="222222"/>
                </a:solidFill>
                <a:latin typeface="Cambria"/>
                <a:ea typeface="Cambria"/>
              </a:rPr>
              <a:t>ld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attachment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description of self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Awareness of Self Concept-usually quite stable; they see themselves as being skillful in some ways, but not in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8899560" cy="394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mbryo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ere                                                        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heart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Chromosomes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                                                  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X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XX pair results in a female, XY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5945040" y="1316160"/>
            <a:ext cx="2954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) Explain Self-Concept , &amp; why YOU THINK it’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Identify &amp; describe the 3 type of Paren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08676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1000"/>
          </a:bodyPr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erat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chemicals or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ccurs if the fetus is exposed to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 u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ight/occasional drinking can be harmful, persistent/heav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physical &amp; brain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faces, as well turn their heads towards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nts &amp; sounds that lead to social responsivenes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familiar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mell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ek old babies can detect their mother’s 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720" y="1098720"/>
            <a:ext cx="83106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frontal lobe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Biological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behavior, relatively uninfluenced by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roll over first, crawl next, then walk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hippocampus and frontal lobes, we experienc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chemas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interpreting new information with already-exist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adapting old schemas to incorpor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ensori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88600" y="258948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90400" y="3425400"/>
              <a:ext cx="30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e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83560" y="4288320"/>
              <a:ext cx="15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interaction with our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sequentially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sequence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19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men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interacting with the social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cp:lastPrinted>2016-02-11T17:14:39Z</cp:lastPrinted>
  <dcterms:modified xsi:type="dcterms:W3CDTF">2018-02-21T16:55:26Z</dcterms:modified>
  <cp:revision>25</cp:revision>
  <dc:subject/>
  <dc:title>Developmental Psychology</dc:title>
</cp:coreProperties>
</file>