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5145088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880" cy="2629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iltrum" TargetMode="External"/><Relationship Id="rId2" Type="http://schemas.openxmlformats.org/officeDocument/2006/relationships/hyperlink" Target="https://en.wikipedia.org/wiki/Upper_lip" TargetMode="External"/><Relationship Id="rId3" Type="http://schemas.openxmlformats.org/officeDocument/2006/relationships/hyperlink" Target="https://en.wikipedia.org/wiki/Palpebral_fissure" TargetMode="External"/><Relationship Id="rId4" Type="http://schemas.openxmlformats.org/officeDocument/2006/relationships/hyperlink" Target="https://en.wikipedia.org/wiki/Human_eyeball" TargetMode="External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1"/>
              </a:rPr>
              <a:t>philtr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divot or groove between the nose and upper lip flatte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vermilion: The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2"/>
              </a:rPr>
              <a:t>upper l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3"/>
              </a:rPr>
              <a:t>palpebral fiss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4"/>
              </a:rPr>
              <a:t>E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dth decrease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Sensorimotor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bject Permanence-The awareness that things continue to exist even whe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t perceived-Piaget didn’t think it developed until the end of this stage, subsequent research said around 8 months, recent studies have shown it as early as 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Pre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Egocentrism-The inability of the preoperational child to take another’s point of view; ends with entrance into the concrete operational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ory of Mind-People’s ideas about their own and others’ ment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Concrete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Conservation-the principle that properties such as mass, volume, and number remain the same despite changes in the forms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Formal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stage during which people begin to think logically about abstract concepts. Logic that goes beyond the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EF0-4113-4840-B21A-5BCAE9B8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773-F9A7-4E60-B4BB-34C9C1A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9C1-0062-4041-B513-365B988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B84-CEEC-4C0E-A4BF-042D3547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DC6-9F83-49E7-A03D-E4D78B99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CBE-7AD9-4D0E-84AE-B2BA5EDA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121-2205-485D-BBF4-F23D583B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A02-E646-4D2A-A478-FCC316D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CED-8E55-414E-BBC4-ABA7AF5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463-5FEA-46E3-84FB-16631431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C73-0E46-4CB1-81F2-219BECC2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9A7-7F5D-4D02-9745-D45FD1F0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56F9-8B6C-4440-B653-67517456E9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nfancy &amp; Child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Shape 53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45846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 regards to development, what does “maturation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Explain the difference between assimilation &amp; accommodation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**EXPLAIN the difference, don’t just define ea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) How do Piaget and Vygotsky differ with their beliefs about how our minds g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33412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tranger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 fear of strangers that infants commonly display, beginning by about 8 months of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n emotional tie with another person; shown in young children by their seeking closeness to the caregiver and showing distress when sepa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hape 124" descr=""/>
          <p:cNvPicPr/>
          <p:nvPr/>
        </p:nvPicPr>
        <p:blipFill>
          <a:blip r:embed="rId1"/>
          <a:stretch/>
        </p:blipFill>
        <p:spPr>
          <a:xfrm>
            <a:off x="5443560" y="1913040"/>
            <a:ext cx="314964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152640" y="1039680"/>
            <a:ext cx="7543800" cy="381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arry Harlow’s Experiment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ants bond with surrogate mothers because of bodily contact not because of nour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riti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optimal period shortly after birth                    when an organism's exposure to                                         certain stimuli or experiences produces                                          proper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.g.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Newborn’s exposure to breastf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hape 131"/>
          <p:cNvSpPr/>
          <p:nvPr/>
        </p:nvSpPr>
        <p:spPr>
          <a:xfrm>
            <a:off x="4960800" y="1143000"/>
            <a:ext cx="40528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Shape 132" descr=""/>
          <p:cNvPicPr/>
          <p:nvPr/>
        </p:nvPicPr>
        <p:blipFill>
          <a:blip r:embed="rId1"/>
          <a:stretch/>
        </p:blipFill>
        <p:spPr>
          <a:xfrm>
            <a:off x="5745240" y="3378240"/>
            <a:ext cx="3292560" cy="1733400"/>
          </a:xfrm>
          <a:prstGeom prst="rect">
            <a:avLst/>
          </a:prstGeom>
          <a:ln w="0">
            <a:noFill/>
          </a:ln>
        </p:spPr>
      </p:pic>
      <p:pic>
        <p:nvPicPr>
          <p:cNvPr id="335" name="Shape 133" descr=""/>
          <p:cNvPicPr/>
          <p:nvPr/>
        </p:nvPicPr>
        <p:blipFill>
          <a:blip r:embed="rId2"/>
          <a:stretch/>
        </p:blipFill>
        <p:spPr>
          <a:xfrm>
            <a:off x="7013520" y="1171440"/>
            <a:ext cx="17067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mpri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63868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m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rocess by which certain animals form attachments during a critical period very early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Konrad Lo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iscovered imprinting by observing newl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atched duck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Special typ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Shape 158" descr=""/>
          <p:cNvPicPr/>
          <p:nvPr/>
        </p:nvPicPr>
        <p:blipFill>
          <a:blip r:embed="rId1"/>
          <a:stretch/>
        </p:blipFill>
        <p:spPr>
          <a:xfrm>
            <a:off x="5805360" y="3132000"/>
            <a:ext cx="2833920" cy="1887840"/>
          </a:xfrm>
          <a:prstGeom prst="rect">
            <a:avLst/>
          </a:prstGeom>
          <a:ln w="0">
            <a:noFill/>
          </a:ln>
        </p:spPr>
      </p:pic>
      <p:pic>
        <p:nvPicPr>
          <p:cNvPr id="339" name="Shape 159" descr=""/>
          <p:cNvPicPr/>
          <p:nvPr/>
        </p:nvPicPr>
        <p:blipFill>
          <a:blip r:embed="rId2"/>
          <a:stretch/>
        </p:blipFill>
        <p:spPr>
          <a:xfrm>
            <a:off x="6554880" y="1243080"/>
            <a:ext cx="13348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careful sensitivity and responsiveness when the infant is very young. They grow up with a sense of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as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nse that the world is predictable and trustwo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apathetic parenting. Tends to have a worse sense of trust, and avoid attach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ure attachment vs. Insecure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394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60% of infants display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unfamiliar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Infants happily explore environment in the presence of their mother; When mother leaves signs of distress are evident in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30% of infants show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same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Infants cling to their mothers or caregivers and are less likely to explo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epr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hen deprived from attachment, children tend to grow into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ggres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nd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bu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imilarly, when taken from a loved one, children have difficult times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eat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leep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or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getting alo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arenting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0638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1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rian</a:t>
            </a: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 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impose &amp; expect obe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2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Permiss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submit to their children's desires; they make few demands and use little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3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t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are both demanding &amp; responsive; they use control through rules, but also explain the reason for the control; they encourage open discussion when making rules &amp; allow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700" spc="-1" strike="noStrike">
                <a:solidFill>
                  <a:srgbClr val="222222"/>
                </a:solidFill>
                <a:latin typeface="Cambria"/>
                <a:ea typeface="Cambria"/>
              </a:rPr>
              <a:t>**association between certain parenting styles and certain childhood outcomes is CORRELATION. Correlation is not causation*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0" y="1063800"/>
            <a:ext cx="9144000" cy="3713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222222"/>
                </a:solidFill>
                <a:latin typeface="Cambria"/>
                <a:ea typeface="Cambria"/>
              </a:rPr>
              <a:t>Our thoughts &amp; feelings about ourselves, in answer to the question, “Who 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Based upon self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&gt;child being aware he/she is distince from ever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When does self-awareness begin?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Darwin proposed it begins when children can recognize themselves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Researchers have dabbed rouge on young children’s noses in order to study the      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development of self-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     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-By 15-18 months, they begin to touch their own nose when they see the rouge in th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   mirror; apparently they’ve begun to become self-aware of how their face “shou</a:t>
            </a:r>
            <a:r>
              <a:rPr b="0" i="1" lang="en-US" sz="1600" spc="-1" strike="noStrike">
                <a:solidFill>
                  <a:srgbClr val="222222"/>
                </a:solidFill>
                <a:latin typeface="Cambria"/>
                <a:ea typeface="Cambria"/>
              </a:rPr>
              <a:t>ld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” l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tages of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" y="1144080"/>
            <a:ext cx="9144000" cy="371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Infancy : attachment to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School age: more detailed description of self which includes gender, group memberships, psychological traits, similarities/differences to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End of childhood (8-12 yrs old) : Awareness of Self Concept-usually quite stable; they see themselves as being skillful in some ways, but not in others; understand what traits they would like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&gt;Children's views of themselves affect thei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8899560" cy="394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Sperm and egg cells fuse into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ver time, the zygote becomes an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mbryo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ere                                                         organs begin to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2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heart begins to beat during thi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X and Y Chromosomes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etermine the sex of                                                   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mother ALWAYS provides an X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father provides either an X </a:t>
            </a:r>
            <a:r>
              <a:rPr b="0" lang="en" sz="1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OR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Y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XX pair results in a female, XY pair results in a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n, the unborn child becomes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fetus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ich it will remain until birth. They can begin to hear outside 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Shape 66" descr=""/>
          <p:cNvPicPr/>
          <p:nvPr/>
        </p:nvPicPr>
        <p:blipFill>
          <a:blip r:embed="rId1"/>
          <a:stretch/>
        </p:blipFill>
        <p:spPr>
          <a:xfrm>
            <a:off x="5945040" y="1316160"/>
            <a:ext cx="29545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) Explain Self-Concept , &amp; why YOU THINK it’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Identify &amp; describe the 3 type of Parent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152640" y="1047600"/>
            <a:ext cx="908676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1000"/>
          </a:bodyPr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fetus can be exposed to                                             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erat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utside chemicals or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A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choh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Fetal Alcohol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ccurs if the fetus is exposed to                             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alcohol 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n u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ight/occasional drinking can be harmful, persistent/heav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rinking is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marked by lifelong physical &amp; brain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73" descr=""/>
          <p:cNvPicPr/>
          <p:nvPr/>
        </p:nvPicPr>
        <p:blipFill>
          <a:blip r:embed="rId1"/>
          <a:stretch/>
        </p:blipFill>
        <p:spPr>
          <a:xfrm>
            <a:off x="4495680" y="116208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Competent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Newborns look for faces, as well turn their heads towards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refer signts &amp; sounds that lead to social responsivenes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y can recognize &amp; respond to familiar v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mell, too, is an important sense for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ek old babies can detect their mother’s 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MacFarlene (1978); when an infant is placed between a pad from hi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mother’s nursing bra &amp; that of another women, he/she usually turn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owards his/her mother’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Hab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decreasing responsiveness with repeated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2120" y="241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0720" y="1098720"/>
            <a:ext cx="8310600" cy="387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brain is mostly formed at birth. The frontal lobe develops the most after birth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Biological growth processes that enable orderly changes in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behavior, relatively uninfluenced by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Babies roll over first, crawl next, then walk (90% of all babies are able to walk by age 15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Due to unfinished development in the hippocampus and frontal lobes, we experienc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fantile amnesi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which is why we cannot remember much before the age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895356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9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Older we get,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chemas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mental concept/framework that organizes &amp; interprets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simil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interpreting new information with already-existing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ccomod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adapting old schemas to incorporate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iaget’s Theory of 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1200240"/>
            <a:ext cx="8662680" cy="3729600"/>
            <a:chOff x="0" y="1200240"/>
            <a:chExt cx="8662680" cy="3729600"/>
          </a:xfrm>
        </p:grpSpPr>
        <p:sp>
          <p:nvSpPr>
            <p:cNvPr id="302" name="Text Box 4"/>
            <p:cNvSpPr/>
            <p:nvPr/>
          </p:nvSpPr>
          <p:spPr>
            <a:xfrm>
              <a:off x="216000" y="1200240"/>
              <a:ext cx="1305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ypical 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2603160" y="12002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scrip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644160" y="1200240"/>
              <a:ext cx="1591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henome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312840" y="1748880"/>
              <a:ext cx="178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rth to nearly 2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2391120" y="1748880"/>
              <a:ext cx="252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ensori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ing the world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ses and actions (looking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uching, mouth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6653880" y="1748880"/>
              <a:ext cx="16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perman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ger anx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265320" y="25894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2 to 6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"/>
            <p:cNvSpPr/>
            <p:nvPr/>
          </p:nvSpPr>
          <p:spPr>
            <a:xfrm>
              <a:off x="274680" y="3425400"/>
              <a:ext cx="159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7 to 11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268560" y="4288320"/>
              <a:ext cx="149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2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ult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76680" y="1212480"/>
              <a:ext cx="8586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76680" y="175140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6680" y="258948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388600" y="2589480"/>
              <a:ext cx="228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re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ing thing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words and im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 lacking logic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373440" y="2589480"/>
              <a:ext cx="193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tend 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ocentri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y of Mi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0" y="342792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2390400" y="3425400"/>
              <a:ext cx="30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e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inking logically about con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ents; grasping concrete analo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erforming arithmetica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6363000" y="34254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erv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hematical transform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0" y="432576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2383560" y="4288320"/>
              <a:ext cx="15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ormal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6363000" y="42883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lo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tential for mor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 believed that our minds grow as the result of interaction with our 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’s emphasis on the cognitive milestones &amp; developmental stages is sequentially accurate, even if timing is not </a:t>
            </a:r>
            <a:r>
              <a:rPr b="0" lang="en" sz="24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oday’s researchers see developments as more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he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beginnings of each type of thinking has been identified at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earlier times than Piaget b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tudies around the world have confirmed 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h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 human cognition unfolds in the sequence that Piage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19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ev Vygot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Believed language was important for social men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words are the building blocks for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children’s minds grow by interacting with the social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by mentoring children and giving them new words,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parents allow children to step up to higher levels of thinking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(scaffolding)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zone of proxim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zone between what a child can &amp; can’t do-what they can do with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cp:lastPrinted>2016-02-11T17:14:39Z</cp:lastPrinted>
  <dcterms:modified xsi:type="dcterms:W3CDTF">2018-02-21T16:55:26Z</dcterms:modified>
  <cp:revision>25</cp:revision>
  <dc:subject/>
  <dc:title>Developmental Psychology</dc:title>
</cp:coreProperties>
</file>