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5013-3ADA-49A7-AF1F-12CCEFB66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7579-912C-4B6E-9D05-33ED588F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5D75-C3C6-42BD-9520-E57536663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E07-9D90-45F7-9763-55E355D3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B0B-E9D4-4F44-A4B6-ABD30124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8AA-40D1-4A94-B0C7-A5E0276C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9B0-6FE3-4DD7-8D6F-CC2654FF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44E-6557-46F6-A58F-43EC912C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BE5-E0E6-4EBB-A2B6-A392EE4A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6C2-4243-4915-BE0E-7A93B5A8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293-E42B-433B-ACE7-9B2E1836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C97-B4A3-4B0E-B3A0-3C520614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A83-0FB1-4B21-B553-7B3CBCF7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A8D-AAE8-4C4B-BA98-BBEEA7E8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EC8-0F1D-4630-B064-44ACFE8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3070-4D39-46FC-8BA5-D502F8C43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Implied Powers of Congr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icle I, Sec 8, clause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cessary and Proper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Congress shall have Power –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ke all Laws which shall be necessary and proper for carrying into Execution the foregoing Power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nd all other Powers vested by this Constitution in the Government of the United States, or in any Department or Officer thereof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icle I, Sec 8, clause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the Elastic 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gress can stretch the powers expressly written in the Con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rder to include duties that are necessary and proper for the needs of the Coun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Viewpoints of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ict Constructionali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government is best, which governs lea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 ~T. Jefferso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Necessary and Proper Clause Sparingly; only for those laws that are ABSOLUTELY NECESSARY to carry out the expressed po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Viewpoints of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beral Constructionali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ieves in a broad construction of the powers given to Congress, and it should freely use the Necessary and Proper Clause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government involvement is better (i.e.-EPA, FDA, FCC, e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titutionality of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cCulloch v MD (18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The state of MD sued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nk of the United States (created by Congress, despite no expressed power allowing them to do s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reme Court ruled against MD, saying that the creation of a national bank was “necessary &amp; proper” to carry out the expressed tax, borrowing, currency, &amp; commerce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iberal interpretation of the necessary &amp; proper clause has allowed Congress to “stretch” its’ powers ever si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3520" y="1017720"/>
          <a:ext cx="8229600" cy="5840280"/>
        </p:xfrm>
        <a:graphic>
          <a:graphicData uri="http://schemas.openxmlformats.org/drawingml/2006/table">
            <a:tbl>
              <a:tblPr/>
              <a:tblGrid>
                <a:gridCol w="2514600"/>
                <a:gridCol w="228600"/>
                <a:gridCol w="548640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raise armies and a nav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 draft Americans into the militar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regulate commer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Establish a minimum w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Ban discrimination in workplaces and public facil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Pass laws protecting the disab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Regulate ban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19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establish post offic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Prohibit mail fraud and obstruction of the  mai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Bar the shipping of certain items through the ma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</a:tbl>
          </a:graphicData>
        </a:graphic>
      </p:graphicFrame>
      <p:sp>
        <p:nvSpPr>
          <p:cNvPr id="60" name="AutoShape 24"/>
          <p:cNvSpPr/>
          <p:nvPr/>
        </p:nvSpPr>
        <p:spPr>
          <a:xfrm rot="5400000">
            <a:off x="3048120" y="838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5"/>
          <p:cNvSpPr/>
          <p:nvPr/>
        </p:nvSpPr>
        <p:spPr>
          <a:xfrm rot="5400000">
            <a:off x="3124080" y="28195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6"/>
          <p:cNvSpPr/>
          <p:nvPr/>
        </p:nvSpPr>
        <p:spPr>
          <a:xfrm rot="5400000">
            <a:off x="3048120" y="5562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TN_audio-tour.png"/>
          <p:cNvPicPr/>
          <p:nvPr/>
        </p:nvPicPr>
        <p:blipFill>
          <a:blip r:embed="rId1"/>
          <a:stretch/>
        </p:blipFill>
        <p:spPr>
          <a:xfrm>
            <a:off x="7396200" y="6375240"/>
            <a:ext cx="1747800" cy="482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5"/>
          <p:cNvSpPr/>
          <p:nvPr/>
        </p:nvSpPr>
        <p:spPr>
          <a:xfrm>
            <a:off x="457200" y="11736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55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3520" y="990720"/>
          <a:ext cx="8229600" cy="5867280"/>
        </p:xfrm>
        <a:graphic>
          <a:graphicData uri="http://schemas.openxmlformats.org/drawingml/2006/table">
            <a:tbl>
              <a:tblPr/>
              <a:tblGrid>
                <a:gridCol w="2514600"/>
                <a:gridCol w="228600"/>
                <a:gridCol w="5486400"/>
              </a:tblGrid>
              <a:tr h="31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lay and collect tax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5280" indent="-16668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5280" indent="-16668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Punish tax evad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5280" indent="-16668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Regulate (license) some commodities (such as alcohol) and outlaw the use of others (such as narco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5280" indent="-16668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Require States to meet certain conditions to qualify for federal fund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borrow mone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 establish the Federal Reserve Systems of bank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create naturalization l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 regulate and limit immigra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</a:tbl>
          </a:graphicData>
        </a:graphic>
      </p:graphicFrame>
      <p:sp>
        <p:nvSpPr>
          <p:cNvPr id="66" name="AutoShape 92"/>
          <p:cNvSpPr/>
          <p:nvPr/>
        </p:nvSpPr>
        <p:spPr>
          <a:xfrm rot="5400000">
            <a:off x="3048120" y="1752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5"/>
          <p:cNvSpPr/>
          <p:nvPr/>
        </p:nvSpPr>
        <p:spPr>
          <a:xfrm rot="5400000">
            <a:off x="3048120" y="4267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25"/>
          <p:cNvSpPr/>
          <p:nvPr/>
        </p:nvSpPr>
        <p:spPr>
          <a:xfrm rot="5400000">
            <a:off x="3048120" y="5562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457200" y="763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me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03:17Z</dcterms:created>
  <dc:creator>workstation</dc:creator>
  <dc:description/>
  <dc:language>en-US</dc:language>
  <cp:lastModifiedBy>DebesJ</cp:lastModifiedBy>
  <dcterms:modified xsi:type="dcterms:W3CDTF">2011-02-03T12:18:51Z</dcterms:modified>
  <cp:revision>10</cp:revision>
  <dc:subject/>
  <dc:title>PowerPoint Presentation</dc:title>
</cp:coreProperties>
</file>