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7430-40E3-4AB1-A77A-674549CE2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8FB7-6443-42C5-9ECC-BF8C42CD7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C477-5E4E-4F43-BB72-9B6968795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5DCA-5016-4AD6-B4FB-F47F26598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1FCE-556A-4818-A282-64E6AA2F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E867-66BE-4EA4-BB7E-BA996476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E81E-7C3B-408B-B2DB-5B0CDC884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3AED-4DB6-4418-8ABE-4F421763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CA56-D4FB-4A09-8CF5-DC53F220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3EBE-E48D-4573-B4DD-1DBB0B59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1A0C-18B9-44CE-814F-807A9DD0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3EA9-0DCA-47FA-A0C3-D475EB09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BF74-B561-4A37-903B-8CD83CE3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8EC2-22D9-4792-9DC6-39051D11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CD49-6334-4DCE-9533-8C74DC8D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88BC-2EDC-44D2-94B7-943C26216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Implied Powers of Congres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ticle I, Sec 8, clause 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cessary and Proper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he Congress shall have Power –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ake all Laws which shall be necessary and proper for carrying into Execution the foregoing Power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nd all other Powers vested by this Constitution in the Government of the United States, or in any Department or Officer thereof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ticle I, Sec 8, clause 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so known as the Elastic Cla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gress can stretch the powers expressly written in the Con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order to include duties that are necessary and proper for the needs of the Count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wo Viewpoints of Implied Pow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rict Constructionalis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he government is best, which governs leas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” ~T. Jefferson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 the Necessary and Proper Clause Sparingly; only for those laws that are ABSOLUTELY NECESSARY to carry out the expressed pow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wo Viewpoints of Implied Pow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beral Constructionalis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lieves in a broad construction of the powers given to Congress, and it should freely use the Necessary and Proper Clause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government involvement is better (i.e.-EPA, FDA, FCC, et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nstitutionality of Implied Pow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cCulloch v MD (18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The state of MD sued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ank of the United States (created by Congress, despite no expressed power allowing them to do s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preme Court ruled against MD, saying that the creation of a national bank was “necessary &amp; proper” to carry out the expressed tax, borrowing, currency, &amp; commerce po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liberal interpretation of the necessary &amp; proper clause has allowed Congress to “stretch” its’ powers ever sin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33520" y="1017720"/>
          <a:ext cx="8229600" cy="5840280"/>
        </p:xfrm>
        <a:graphic>
          <a:graphicData uri="http://schemas.openxmlformats.org/drawingml/2006/table">
            <a:tbl>
              <a:tblPr/>
              <a:tblGrid>
                <a:gridCol w="2514600"/>
                <a:gridCol w="228600"/>
                <a:gridCol w="5486400"/>
              </a:tblGrid>
              <a:tr h="15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203356"/>
                          </a:solidFill>
                          <a:latin typeface="Times New Roman"/>
                          <a:ea typeface="ＭＳ Ｐゴシック"/>
                        </a:rPr>
                        <a:t>The expressed power to raise armies and a nav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ffe7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e7"/>
                      </a:solidFill>
                    </a:lnL>
                    <a:lnR w="18720">
                      <a:solidFill>
                        <a:srgbClr val="ffffe7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Implies the power to draft Americans into the militar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e7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203356"/>
                    </a:solidFill>
                  </a:tcPr>
                </a:tc>
              </a:tr>
              <a:tr h="23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203356"/>
                          </a:solidFill>
                          <a:latin typeface="Times New Roman"/>
                          <a:ea typeface="ＭＳ Ｐゴシック"/>
                        </a:rPr>
                        <a:t>The expressed power to regulate commer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ffe7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e7"/>
                      </a:solidFill>
                    </a:lnL>
                    <a:lnR w="18720">
                      <a:solidFill>
                        <a:srgbClr val="ffffe7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22860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Implies the power to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228600">
                        <a:spcBef>
                          <a:spcPts val="550"/>
                        </a:spcBef>
                        <a:buClr>
                          <a:srgbClr val="ffc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Establish a minimum wa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228600">
                        <a:spcBef>
                          <a:spcPts val="550"/>
                        </a:spcBef>
                        <a:buClr>
                          <a:srgbClr val="ffc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Ban discrimination in workplaces and public faciliti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228600">
                        <a:spcBef>
                          <a:spcPts val="550"/>
                        </a:spcBef>
                        <a:buClr>
                          <a:srgbClr val="ffc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Pass laws protecting the disabl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228600">
                        <a:spcBef>
                          <a:spcPts val="550"/>
                        </a:spcBef>
                        <a:buClr>
                          <a:srgbClr val="ffc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Regulate bank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e7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203356"/>
                    </a:solidFill>
                  </a:tcPr>
                </a:tc>
              </a:tr>
              <a:tr h="190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203356"/>
                          </a:solidFill>
                          <a:latin typeface="Times New Roman"/>
                          <a:ea typeface="ＭＳ Ｐゴシック"/>
                        </a:rPr>
                        <a:t>The expressed power to establish post offic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ffe7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e7"/>
                      </a:solidFill>
                    </a:lnL>
                    <a:lnR w="18720">
                      <a:solidFill>
                        <a:srgbClr val="ffffe7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22860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Implies the power to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228600">
                        <a:spcBef>
                          <a:spcPts val="550"/>
                        </a:spcBef>
                        <a:buClr>
                          <a:srgbClr val="ffc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Prohibit mail fraud and obstruction of the  mail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228600">
                        <a:spcBef>
                          <a:spcPts val="550"/>
                        </a:spcBef>
                        <a:buClr>
                          <a:srgbClr val="ffc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Bar the shipping of certain items through the mai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e7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203356"/>
                    </a:solidFill>
                  </a:tcPr>
                </a:tc>
              </a:tr>
            </a:tbl>
          </a:graphicData>
        </a:graphic>
      </p:graphicFrame>
      <p:sp>
        <p:nvSpPr>
          <p:cNvPr id="60" name="AutoShape 24"/>
          <p:cNvSpPr/>
          <p:nvPr/>
        </p:nvSpPr>
        <p:spPr>
          <a:xfrm rot="5400000">
            <a:off x="3048120" y="8380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25"/>
          <p:cNvSpPr/>
          <p:nvPr/>
        </p:nvSpPr>
        <p:spPr>
          <a:xfrm rot="5400000">
            <a:off x="3124080" y="281952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6"/>
          <p:cNvSpPr/>
          <p:nvPr/>
        </p:nvSpPr>
        <p:spPr>
          <a:xfrm rot="5400000">
            <a:off x="3048120" y="556272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BTN_audio-tour.png"/>
          <p:cNvPicPr/>
          <p:nvPr/>
        </p:nvPicPr>
        <p:blipFill>
          <a:blip r:embed="rId1"/>
          <a:stretch/>
        </p:blipFill>
        <p:spPr>
          <a:xfrm>
            <a:off x="7396200" y="6375240"/>
            <a:ext cx="1747800" cy="4827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5"/>
          <p:cNvSpPr/>
          <p:nvPr/>
        </p:nvSpPr>
        <p:spPr>
          <a:xfrm>
            <a:off x="457200" y="11736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me Implied Pow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55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3520" y="990720"/>
          <a:ext cx="8229600" cy="5867280"/>
        </p:xfrm>
        <a:graphic>
          <a:graphicData uri="http://schemas.openxmlformats.org/drawingml/2006/table">
            <a:tbl>
              <a:tblPr/>
              <a:tblGrid>
                <a:gridCol w="2514600"/>
                <a:gridCol w="228600"/>
                <a:gridCol w="5486400"/>
              </a:tblGrid>
              <a:tr h="31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203356"/>
                          </a:solidFill>
                          <a:latin typeface="Times New Roman"/>
                          <a:ea typeface="ＭＳ Ｐゴシック"/>
                        </a:rPr>
                        <a:t>The expressed power to lay and collect tax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ffe7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e7"/>
                      </a:solidFill>
                    </a:lnL>
                    <a:lnR w="18720">
                      <a:solidFill>
                        <a:srgbClr val="ffffe7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95280" indent="-16668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Implies the power to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95280" indent="-166680">
                        <a:spcBef>
                          <a:spcPts val="550"/>
                        </a:spcBef>
                        <a:buClr>
                          <a:srgbClr val="ffc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Punish tax evad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95280" indent="-166680">
                        <a:spcBef>
                          <a:spcPts val="550"/>
                        </a:spcBef>
                        <a:buClr>
                          <a:srgbClr val="ffc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Regulate (license) some commodities (such as alcohol) and outlaw the use of others (such as narcotic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95280" indent="-166680">
                        <a:spcBef>
                          <a:spcPts val="550"/>
                        </a:spcBef>
                        <a:buClr>
                          <a:srgbClr val="ffc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Require States to meet certain conditions to qualify for federal fund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e7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203356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203356"/>
                          </a:solidFill>
                          <a:latin typeface="Times New Roman"/>
                          <a:ea typeface="ＭＳ Ｐゴシック"/>
                        </a:rPr>
                        <a:t>The expressed power to borrow mone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ffe7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e7"/>
                      </a:solidFill>
                    </a:lnL>
                    <a:lnR w="18720">
                      <a:solidFill>
                        <a:srgbClr val="ffffe7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Implies the power to establish the Federal Reserve Systems of bank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e7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203356"/>
                    </a:solidFill>
                  </a:tcPr>
                </a:tc>
              </a:tr>
              <a:tr h="14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203356"/>
                          </a:solidFill>
                          <a:latin typeface="Times New Roman"/>
                          <a:ea typeface="ＭＳ Ｐゴシック"/>
                        </a:rPr>
                        <a:t>The expressed power to create naturalization law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ffe7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e7"/>
                      </a:solidFill>
                    </a:lnL>
                    <a:lnR w="18720">
                      <a:solidFill>
                        <a:srgbClr val="ffffe7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Implies the power to regulate and limit immigrati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e7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203356"/>
                    </a:solidFill>
                  </a:tcPr>
                </a:tc>
              </a:tr>
            </a:tbl>
          </a:graphicData>
        </a:graphic>
      </p:graphicFrame>
      <p:sp>
        <p:nvSpPr>
          <p:cNvPr id="66" name="AutoShape 92"/>
          <p:cNvSpPr/>
          <p:nvPr/>
        </p:nvSpPr>
        <p:spPr>
          <a:xfrm rot="5400000">
            <a:off x="3048120" y="17524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15"/>
          <p:cNvSpPr/>
          <p:nvPr/>
        </p:nvSpPr>
        <p:spPr>
          <a:xfrm rot="5400000">
            <a:off x="3048120" y="42670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25"/>
          <p:cNvSpPr/>
          <p:nvPr/>
        </p:nvSpPr>
        <p:spPr>
          <a:xfrm rot="5400000">
            <a:off x="3048120" y="556272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3"/>
          <p:cNvSpPr/>
          <p:nvPr/>
        </p:nvSpPr>
        <p:spPr>
          <a:xfrm>
            <a:off x="457200" y="7632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ome Implied Pow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6:03:17Z</dcterms:created>
  <dc:creator>workstation</dc:creator>
  <dc:description/>
  <dc:language>en-US</dc:language>
  <cp:lastModifiedBy>DebesJ</cp:lastModifiedBy>
  <dcterms:modified xsi:type="dcterms:W3CDTF">2011-02-03T12:18:51Z</dcterms:modified>
  <cp:revision>10</cp:revision>
  <dc:subject/>
  <dc:title>PowerPoint Presentation</dc:title>
</cp:coreProperties>
</file>