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nna Talackova-1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ransgender beauty pageant contestant: Miss Universe Canada contest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B2E-5E03-4C99-BED7-B2C1F42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23F-502E-41A7-B330-949F762A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40A-E578-48B8-BDC3-51BF0BFD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0DC-B184-4EC4-8FBC-34DEDA6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7EA-3187-4800-8492-07AD0E3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093-3D6D-4C72-B28A-0A4955A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457-762D-4A87-BEFA-B76E9AB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38B-50EC-4F51-BCF9-1D00A09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D4D-3098-42BC-A8B2-381A959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3FB-0ABA-4F83-ACD6-BC00DA0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A12-8A3A-4F03-99AE-B7AED4D0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938-E857-4B4F-AAA7-2004B217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CA0-50C2-4A2A-AA34-B29BEED00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3520" y="217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Gender developmen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hape 243" descr=""/>
          <p:cNvPicPr/>
          <p:nvPr/>
        </p:nvPicPr>
        <p:blipFill>
          <a:blip r:embed="rId1"/>
          <a:stretch/>
        </p:blipFill>
        <p:spPr>
          <a:xfrm>
            <a:off x="3200400" y="17334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cial learning theo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social learning theory would apply to gend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agree with this theory (as it pertains to gender)?  Why/why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04724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socially constructed roles &amp; characteristics by which a culture defines male &amp;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A set of expected behaviors for males &amp;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Role awarenes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knowledge of what behavior is  socially appropriate for each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Consistenc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the realization (usually 4 or 5 and based upon genitalia) that gender does not change with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Stereotyp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 oversimplified beliefs about characteristics that all men and women are presumed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simila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nd women are similar in many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Brai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Sensory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Genetic makeup (45/46 chromosomes are unis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verage woman has 70% more fat, possesses 40% less muscle and is 5 inches shorter than the averag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enter puberty 2 years so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more likely to dream equally of men and women, to become sexually re-aroused after orgasm, smell faint odors, express emotions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twice as vulnerable to depression and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men are at 10 times greater risk for eat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are four times likely to be diagnosed with autism, color-blindness, hyperactivity, and antisocial personality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ag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 tend to be more physically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s to harmful, PHYSICAL aggression, rather than indirect or verbal (relational) agg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s found in various cultures at various 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US male to female arrest ration for murder is 9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 typically express more support fo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&gt;expressed more support for the Iraq w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-51% Men vs. 34% Women supported the war in 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2005 Gallup 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tend to perceive power differences between men &amp; women; and in most societies men ARE socially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 leaders men are more directive and autocratic, while women are more democratic and elicit subordinates opinions (Engen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n people interact men are more likely to offer opinions while women are more likely to express support. (Wood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talk assertively, to interrupt, to initiate touching, to smile less, and to stare (Hall 19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hold 84% of the world’s political seats in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are more likely to hazard answers even when they don’t know.  A phenomenon Giuliano calls th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ale answer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differences in social connecte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72800"/>
            <a:ext cx="9144000" cy="378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(especially in Western societies) struggle to create our own identity 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“be your own m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are often more concerned with “making connection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ys play in large groups-tend to be more active &amp; competitive with little intimate discussion; Girls play in smaller groups-tend to be less competitive &amp; more open to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men use conversation to explore relationships, men use it to communicate 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n enjoy doing activities side-by-side; women enjoy talking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37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one’s sense of being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ocial Learning Theory-we learn social behavior by observing &amp; imitating behaviors and by being rewarded or punished for acting in appropriate/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According to this theory, our gender identity could be learned b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mitating male/female behaviors and being punsished/rewarded for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xhibiting the right/wrong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ritics point out that this theory isn’t able to explain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der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yping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acquisition of a traditional masculine or feminine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ender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360" y="106344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An individual’s </a:t>
            </a:r>
            <a:r>
              <a:rPr b="0" i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nse of being male/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ender express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communication of                                            gender identity through behavior or appearance                                           appea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Transgender individuals’ gender identity                                                    and/or gender expression is different than                                                      that which is typical of their birth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&gt;This includes transsexual people, who live (or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wish to live) as members of the gender opposite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to their birth s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&gt;Can be aided by medical treatment to aid gender re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6611760" y="1146240"/>
            <a:ext cx="2532240" cy="325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8-02-21T16:56:46Z</dcterms:modified>
  <cp:revision>25</cp:revision>
  <dc:subject/>
  <dc:title>Developmental Psychology</dc:title>
</cp:coreProperties>
</file>