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360" cy="34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enna Talackova-1</a:t>
            </a: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transgender beauty pageant contestant: Miss Universe Canada contest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D15-8184-4815-ACC9-8C24B17C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7C42-09C9-41EF-9F33-3D383171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452-EAD3-4AE3-A624-BCB047FC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9D0-BBF1-4F41-882D-8B1482FA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8C45-4DDE-48F8-B788-E6462E01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2E3-AC08-4D51-832B-F7FA7264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0B6-55F9-46B7-BFFA-42BB75F3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08E-B62C-45B0-8DEB-A1961D6A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E4E8-EB43-4AE9-871A-EB4E26C3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246-33BE-4F43-B7C6-37E6F4BC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F16-1819-43F4-9E48-345E8770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875-D714-488B-AA80-49331D7F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Shape 14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Shape 15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Shape 16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20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hape 21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hape 24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hape 32"/>
          <p:cNvSpPr/>
          <p:nvPr/>
        </p:nvSpPr>
        <p:spPr>
          <a:xfrm flipH="1" rot="10800000">
            <a:off x="0" y="4412880"/>
            <a:ext cx="914400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hape 33"/>
          <p:cNvSpPr/>
          <p:nvPr/>
        </p:nvSpPr>
        <p:spPr>
          <a:xfrm flipH="1">
            <a:off x="4525920" y="3821040"/>
            <a:ext cx="4618080" cy="59076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hape 34"/>
          <p:cNvSpPr/>
          <p:nvPr/>
        </p:nvSpPr>
        <p:spPr>
          <a:xfrm rot="10800000">
            <a:off x="4525920" y="441144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hape 37"/>
          <p:cNvSpPr/>
          <p:nvPr/>
        </p:nvSpPr>
        <p:spPr>
          <a:xfrm>
            <a:off x="6480" y="76320"/>
            <a:ext cx="9134280" cy="5054400"/>
          </a:xfrm>
          <a:custGeom>
            <a:avLst/>
            <a:gdLst>
              <a:gd name="textAreaLeft" fmla="*/ 0 w 9134280"/>
              <a:gd name="textAreaRight" fmla="*/ 9134640 w 9134280"/>
              <a:gd name="textAreaTop" fmla="*/ 0 h 5054400"/>
              <a:gd name="textAreaBottom" fmla="*/ 5054760 h 5054400"/>
            </a:gdLst>
            <a:ahLst/>
            <a:rect l="textAreaLeft" t="textAreaTop" r="textAreaRight" b="textAreaBottom"/>
            <a:pathLst>
              <a:path w="9157023" h="6739723">
                <a:moveTo>
                  <a:pt x="1629" y="0"/>
                </a:moveTo>
                <a:lnTo>
                  <a:pt x="9157023" y="4340980"/>
                </a:lnTo>
                <a:lnTo>
                  <a:pt x="1593" y="6739723"/>
                </a:lnTo>
                <a:cubicBezTo>
                  <a:pt x="-3941" y="5123960"/>
                  <a:pt x="7163" y="1615763"/>
                  <a:pt x="1629" y="0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"/>
          </p:nvPr>
        </p:nvSpPr>
        <p:spPr>
          <a:xfrm>
            <a:off x="431640" y="46720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2"/>
          </p:nvPr>
        </p:nvSpPr>
        <p:spPr>
          <a:xfrm>
            <a:off x="3124080" y="46720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3"/>
          </p:nvPr>
        </p:nvSpPr>
        <p:spPr>
          <a:xfrm>
            <a:off x="6730920" y="46720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8903-B872-4AEB-8BDB-96723B886C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3520" y="217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Gender development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Shape 243" descr=""/>
          <p:cNvPicPr/>
          <p:nvPr/>
        </p:nvPicPr>
        <p:blipFill>
          <a:blip r:embed="rId1"/>
          <a:stretch/>
        </p:blipFill>
        <p:spPr>
          <a:xfrm>
            <a:off x="3200400" y="17334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social learning theor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social learning theory would apply to gender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agree with this theory (as it pertains to gender)?  Why/why no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047240"/>
            <a:ext cx="9144000" cy="378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he socially constructed roles &amp; characteristics by which a culture defines male &amp;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Gender Rol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A set of expected behaviors for males &amp; fe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Gender Role awareness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– knowledge of what behavior is  socially appropriate for each g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Gender Consistency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– the realization (usually 4 or 5 and based upon genitalia) that gender does not change with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Gender Stereotypes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– oversimplified beliefs about characteristics that all men and women are presumed to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 similar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072800"/>
            <a:ext cx="9144000" cy="378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n and women are similar in many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Intel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Brai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Sensory p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Genetic makeup (45/46 chromosomes are unis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072800"/>
            <a:ext cx="9144000" cy="378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7000"/>
          </a:bodyPr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average woman has 70% more fat, possesses 40% less muscle and is 5 inches shorter than the average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omen enter puberty 2 years soo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omen are more likely to dream equally of men and women, to become sexually re-aroused after orgasm, smell faint odors, express emotions fre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omen are twice as vulnerable to depression and 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omen are at 10 times greater risk for eating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n are four times likely to be diagnosed with autism, color-blindness, hyperactivity, and antisocial personality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 differences in agg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072800"/>
            <a:ext cx="9144000" cy="378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n tend to be more physically ag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fers to harmful, PHYSICAL aggression, rather than indirect or verbal (relational) aggres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s is found in various cultures at various 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&gt;US male to female arrest ration for murder is 9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n typically express more support for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&gt;expressed more support for the Iraq wa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-51% Men vs. 34% Women supported the war in Ir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Georgia"/>
              </a:rPr>
              <a:t>2005 Gallup p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 differences in social po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072800"/>
            <a:ext cx="9144000" cy="378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5000"/>
          </a:bodyPr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ople tend to perceive power differences between men &amp; women; and in most societies men ARE socially do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s leaders men are more directive and autocratic, while women are more democratic and elicit subordinates opinions (Engen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hen people interact men are more likely to offer opinions while women are more likely to express support. (Wood 198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en are more likely to talk assertively, to interrupt, to initiate touching, to smile less, and to stare (Hall 198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en hold 84% of the world’s political seats in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en are more likely to hazard answers even when they don’t know.  A phenomenon Giuliano calls the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male answer syndr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 differences in social connected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072800"/>
            <a:ext cx="9144000" cy="378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en (especially in Western societies) struggle to create our own identity -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“be your own ma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omen are often more concerned with “making connection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oys play in large groups-tend to be more active &amp; competitive with little intimate discussion; Girls play in smaller groups-tend to be less competitive &amp; more open to feedbac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omen use conversation to explore relationships, men use it to communicate solu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en enjoy doing activities side-by-side; women enjoy talking face-to-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378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 Id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04760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one’s sense of being male or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ocial Learning Theory-we learn social behavior by observing &amp; imitating behaviors and by being rewarded or punished for acting in appropriate/inappropriate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&gt;According to this theory, our gender identity could be learned by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imitating male/female behaviors and being punsished/rewarded for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exhibiting the right/wrong behavi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ritics point out that this theory isn’t able to explain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Gender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Typing-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acquisition of a traditional masculine or feminine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 id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360" y="106344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8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An individual’s </a:t>
            </a:r>
            <a:r>
              <a:rPr b="0" i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ense of being male/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Gender expression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communication of                                            gender identity through behavior or appearance                                           appea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Georgia"/>
              </a:rPr>
              <a:t>Transgender individuals’ gender identity                                                    and/or gender expression is different than                                                      that which is typical of their birth s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&gt;This includes transsexual people, who live (or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wish to live) as members of the gender opposite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to their birth s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&gt;Can be aided by medical treatment to aid gender re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6611760" y="1146240"/>
            <a:ext cx="2532240" cy="325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hil McCormick</dc:creator>
  <dc:description/>
  <dc:language>en-US</dc:language>
  <cp:lastModifiedBy>Debes John</cp:lastModifiedBy>
  <dcterms:modified xsi:type="dcterms:W3CDTF">2018-02-21T16:56:46Z</dcterms:modified>
  <cp:revision>25</cp:revision>
  <dc:subject/>
  <dc:title>Developmental Psychology</dc:title>
</cp:coreProperties>
</file>