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360" cy="34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Jenna Talackova-1</a:t>
            </a:r>
            <a:r>
              <a:rPr b="0" lang="en-US" sz="11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transgender beauty pageant contestant: Miss Universe Canada contest 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AFFC-034C-441C-8D75-9E430A0F9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ED35-3810-4525-843A-EA094492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A714-89FF-4057-8C62-5FA0B538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4214-1A84-4A09-A2FE-F21203C6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2D47-8223-442E-AF7E-88253C45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E86B-A1B0-4D25-A40B-C7200166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E984-799D-4893-BED2-46B0B69B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D449-8971-4E9F-9105-46248E42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3014-5AA8-4CE0-82C5-7A83E0CB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47B8-DA0C-4C65-98C2-DD01CAFA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1475-6913-4CC9-9734-7B80B3489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272D-E3EE-4FBD-8B14-8A2AE97EF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Shape 14"/>
          <p:cNvSpPr/>
          <p:nvPr/>
        </p:nvSpPr>
        <p:spPr>
          <a:xfrm flipH="1" rot="10800000">
            <a:off x="0" y="1163520"/>
            <a:ext cx="9144000" cy="39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Shape 15"/>
          <p:cNvSpPr/>
          <p:nvPr/>
        </p:nvSpPr>
        <p:spPr>
          <a:xfrm flipH="1">
            <a:off x="4525920" y="571680"/>
            <a:ext cx="4618080" cy="590400"/>
          </a:xfrm>
          <a:custGeom>
            <a:avLst/>
            <a:gdLst>
              <a:gd name="textAreaLeft" fmla="*/ 360 w 4618080"/>
              <a:gd name="textAreaRight" fmla="*/ 4618800 w 461808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Shape 16"/>
          <p:cNvSpPr/>
          <p:nvPr/>
        </p:nvSpPr>
        <p:spPr>
          <a:xfrm rot="10800000">
            <a:off x="4525920" y="1161360"/>
            <a:ext cx="4618080" cy="571320"/>
          </a:xfrm>
          <a:custGeom>
            <a:avLst/>
            <a:gdLst>
              <a:gd name="textAreaLeft" fmla="*/ 0 w 4618080"/>
              <a:gd name="textAreaRight" fmla="*/ 4618440 w 46180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0000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hape 20"/>
          <p:cNvSpPr/>
          <p:nvPr/>
        </p:nvSpPr>
        <p:spPr>
          <a:xfrm flipH="1" rot="10800000">
            <a:off x="0" y="1163520"/>
            <a:ext cx="9144000" cy="39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hape 21"/>
          <p:cNvSpPr/>
          <p:nvPr/>
        </p:nvSpPr>
        <p:spPr>
          <a:xfrm rot="10800000">
            <a:off x="4525920" y="1161360"/>
            <a:ext cx="4618080" cy="571320"/>
          </a:xfrm>
          <a:custGeom>
            <a:avLst/>
            <a:gdLst>
              <a:gd name="textAreaLeft" fmla="*/ 0 w 4618080"/>
              <a:gd name="textAreaRight" fmla="*/ 4618440 w 46180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0000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hape 24"/>
          <p:cNvSpPr/>
          <p:nvPr/>
        </p:nvSpPr>
        <p:spPr>
          <a:xfrm flipH="1">
            <a:off x="4525920" y="571680"/>
            <a:ext cx="4618080" cy="590400"/>
          </a:xfrm>
          <a:custGeom>
            <a:avLst/>
            <a:gdLst>
              <a:gd name="textAreaLeft" fmla="*/ 360 w 4618080"/>
              <a:gd name="textAreaRight" fmla="*/ 4618800 w 461808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hape 32"/>
          <p:cNvSpPr/>
          <p:nvPr/>
        </p:nvSpPr>
        <p:spPr>
          <a:xfrm flipH="1" rot="10800000">
            <a:off x="0" y="4412880"/>
            <a:ext cx="914400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hape 33"/>
          <p:cNvSpPr/>
          <p:nvPr/>
        </p:nvSpPr>
        <p:spPr>
          <a:xfrm flipH="1">
            <a:off x="4525920" y="3821040"/>
            <a:ext cx="4618080" cy="590760"/>
          </a:xfrm>
          <a:custGeom>
            <a:avLst/>
            <a:gdLst>
              <a:gd name="textAreaLeft" fmla="*/ 360 w 4618080"/>
              <a:gd name="textAreaRight" fmla="*/ 4618800 w 4618080"/>
              <a:gd name="textAreaTop" fmla="*/ 0 h 590760"/>
              <a:gd name="textAreaBottom" fmla="*/ 591120 h 59076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hape 34"/>
          <p:cNvSpPr/>
          <p:nvPr/>
        </p:nvSpPr>
        <p:spPr>
          <a:xfrm rot="10800000">
            <a:off x="4525920" y="4411440"/>
            <a:ext cx="4618080" cy="571320"/>
          </a:xfrm>
          <a:custGeom>
            <a:avLst/>
            <a:gdLst>
              <a:gd name="textAreaLeft" fmla="*/ 0 w 4618080"/>
              <a:gd name="textAreaRight" fmla="*/ 4618440 w 46180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0000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hape 37"/>
          <p:cNvSpPr/>
          <p:nvPr/>
        </p:nvSpPr>
        <p:spPr>
          <a:xfrm>
            <a:off x="6480" y="76320"/>
            <a:ext cx="9134280" cy="5054400"/>
          </a:xfrm>
          <a:custGeom>
            <a:avLst/>
            <a:gdLst>
              <a:gd name="textAreaLeft" fmla="*/ 0 w 9134280"/>
              <a:gd name="textAreaRight" fmla="*/ 9134640 w 9134280"/>
              <a:gd name="textAreaTop" fmla="*/ 0 h 5054400"/>
              <a:gd name="textAreaBottom" fmla="*/ 5054760 h 5054400"/>
            </a:gdLst>
            <a:ahLst/>
            <a:rect l="textAreaLeft" t="textAreaTop" r="textAreaRight" b="textAreaBottom"/>
            <a:pathLst>
              <a:path w="9157023" h="6739723">
                <a:moveTo>
                  <a:pt x="1629" y="0"/>
                </a:moveTo>
                <a:lnTo>
                  <a:pt x="9157023" y="4340980"/>
                </a:lnTo>
                <a:lnTo>
                  <a:pt x="1593" y="6739723"/>
                </a:lnTo>
                <a:cubicBezTo>
                  <a:pt x="-3941" y="5123960"/>
                  <a:pt x="7163" y="1615763"/>
                  <a:pt x="1629" y="0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"/>
          </p:nvPr>
        </p:nvSpPr>
        <p:spPr>
          <a:xfrm>
            <a:off x="431640" y="46720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2"/>
          </p:nvPr>
        </p:nvSpPr>
        <p:spPr>
          <a:xfrm>
            <a:off x="3124080" y="46720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3"/>
          </p:nvPr>
        </p:nvSpPr>
        <p:spPr>
          <a:xfrm>
            <a:off x="6730920" y="46720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4371-D765-45C9-B59F-45DB5DD70B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63520" y="2170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Gender development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Shape 243" descr=""/>
          <p:cNvPicPr/>
          <p:nvPr/>
        </p:nvPicPr>
        <p:blipFill>
          <a:blip r:embed="rId1"/>
          <a:stretch/>
        </p:blipFill>
        <p:spPr>
          <a:xfrm>
            <a:off x="3200400" y="173340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Re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91440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social learning theor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how social learning theory would apply to gender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agree with this theory (as it pertains to gender)?  Why/why no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Gen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1047240"/>
            <a:ext cx="9144000" cy="3784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The socially constructed roles &amp; characteristics by which a culture defines male &amp; fe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Gender Role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A set of expected behaviors for males &amp; fem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Gender Role awareness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– knowledge of what behavior is  socially appropriate for each g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Gender Consistency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– the realization (usually 4 or 5 and based upon genitalia) that gender does not change with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Gender Stereotypes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– oversimplified beliefs about characteristics that all men and women are presumed to 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Gender similar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072800"/>
            <a:ext cx="9144000" cy="3784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en and women are similar in many w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&gt;Intellig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&gt;Brain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&gt;Sensory per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&gt;Genetic makeup (45/46 chromosomes are unise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Gender differ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1072800"/>
            <a:ext cx="9144000" cy="3784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7000"/>
          </a:bodyPr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average woman has 70% more fat, possesses 40% less muscle and is 5 inches shorter than the average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omen enter puberty 2 years soo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omen are more likely to dream equally of men and women, to become sexually re-aroused after orgasm, smell faint odors, express emotions fre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omen are twice as vulnerable to depression and anx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omen are at 10 times greater risk for eating dis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en are four times likely to be diagnosed with autism, color-blindness, hyperactivity, and antisocial personality dis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Gender differences in agg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1072800"/>
            <a:ext cx="9144000" cy="3784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n tend to be more physically aggre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fers to harmful, PHYSICAL aggression, rather than indirect or verbal (relational) aggress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is is found in various cultures at various 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&gt;US male to female arrest ration for murder is 9 t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en typically express more support for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&gt;expressed more support for the Iraq wa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-51% Men vs. 34% Women supported the war in Ira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Georgia"/>
              </a:rPr>
              <a:t>2005 Gallup p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Gender differences in social pow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1072800"/>
            <a:ext cx="9144000" cy="3784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5000"/>
          </a:bodyPr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eople tend to perceive power differences between men &amp; women; and in most societies men ARE socially domi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s leaders men are more directive and autocratic, while women are more democratic and elicit subordinates opinions (Engen 200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When people interact men are more likely to offer opinions while women are more likely to express support. (Wood 1987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en are more likely to talk assertively, to interrupt, to initiate touching, to smile less, and to stare (Hall 1987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en hold 84% of the world’s political seats in 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en are more likely to hazard answers even when they don’t know.  A phenomenon Giuliano calls the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male answer syndr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Gender differences in social connectedn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072800"/>
            <a:ext cx="9144000" cy="3784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en (especially in Western societies) struggle to create our own identity -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“be your own ma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Women are often more concerned with “making connection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Boys play in large groups-tend to be more active &amp; competitive with little intimate discussion; Girls play in smaller groups-tend to be less competitive &amp; more open to feedbac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Women use conversation to explore relationships, men use it to communicate solu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en enjoy doing activities side-by-side; women enjoy talking face-to-f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1378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Gender Ident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1047600"/>
            <a:ext cx="9144000" cy="372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one’s sense of being male or fe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Social Learning Theory-we learn social behavior by observing &amp; imitating behaviors and by being rewarded or punished for acting in appropriate/inappropriate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&gt;According to this theory, our gender identity could be learned by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imitating male/female behaviors and being punsished/rewarded for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exhibiting the right/wrong behavi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ritics point out that this theory isn’t able to explain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Gender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Typing-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e acquisition of a traditional masculine or feminine 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Gender ident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6360" y="1063440"/>
            <a:ext cx="91440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8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eorgia"/>
                <a:ea typeface="Georgia"/>
              </a:rPr>
              <a:t>An individual’s </a:t>
            </a:r>
            <a:r>
              <a:rPr b="0" i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sense of being male/fe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Gender expression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-communication of                                            gender identity through behavior or appearance                                           appear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Georgia"/>
              </a:rPr>
              <a:t>Transgender individuals’ gender identity                                                    and/or gender expression is different than                                                      that which is typical of their birth s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&gt;This includes transsexual people, who live (or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wish to live) as members of the gender opposite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to their birth se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&gt;Can be aided by medical treatment to aid gender reass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6611760" y="1146240"/>
            <a:ext cx="2532240" cy="3254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hil McCormick</dc:creator>
  <dc:description/>
  <dc:language>en-US</dc:language>
  <cp:lastModifiedBy>Debes John</cp:lastModifiedBy>
  <dcterms:modified xsi:type="dcterms:W3CDTF">2018-02-21T16:56:46Z</dcterms:modified>
  <cp:revision>25</cp:revision>
  <dc:subject/>
  <dc:title>Developmental Psychology</dc:title>
</cp:coreProperties>
</file>