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EFA9-5500-483D-8340-7AE151A5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248-2FA8-4AAA-B4DF-29096129DA8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200-70D1-4D1E-86D5-160279C2A10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A0B-77DD-490E-A22B-6165FC0142B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731A-C1B8-4259-8D94-2D6E4D97A17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5D6-6F1F-4EAD-AB5F-8F8D2993339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93BB-4A9F-46A5-928A-37ABC806555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9FCE-B29C-4F6C-8D81-0468D48F80F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943-2652-4E94-9B5E-076CA7B8518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9AF2-7DF8-4D23-B1A9-7A2E7D60C78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2E36-AF48-4B54-A9ED-8EEE173C1A8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D2A-4DC9-4D56-9087-5242809F1FE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66D2-4734-4A85-ACBD-56B6C729604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4C0-D7CC-4FB3-99FB-832F48D0DA2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907-17DA-4EB7-A5CE-45D76983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21F-6EB2-4874-A86C-9E4343D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522-D17D-4131-AD3C-8834B22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692-8E7B-4945-A9A6-FE54A65D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7B6B-86A8-4BBD-9FF3-BCEA072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A104-8901-49F3-9BEE-2FDD19F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3D4-EE2C-4104-89AB-CDF82AD5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ACA-243C-4B0A-81D6-E35A7DE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1E01-FF9B-4663-BD33-2FDAB5A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7D59-AF72-4405-9D8B-8245EB52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026-1BF1-4AED-8CD5-62FFB6A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027-9AC8-40A4-A5E2-80AB167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6F0-CA89-4373-BEC9-61E6A13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78E5-5927-44BE-B604-FBDB419A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A64-D6AF-4B3F-9ED9-6D47C2F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0F4-4ED3-46F6-9B4A-DE519F8E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7D95-ACC4-4E0C-91E5-80A59EB0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527-4EF6-4866-B69D-77E00097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7C1-42D8-4180-A497-7C996DC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846-55E2-42E3-BA2E-7EE33A6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920-80ED-4F93-95E3-4255153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3F6-82FF-45A5-80EA-CF0E343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78F-4489-4D70-BAD6-FFEA846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B0F-F067-4155-A5C0-330B051E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770-F659-4192-A78F-34296DCC1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F53C-A92A-4972-ABC9-4D602777F0B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6913-D181-4CAB-BAFF-D27FF3BF903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is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51A-9015-45FE-A5CB-CEE6CA80DA4B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he lived to the age of adulthood,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AE1-BE9A-4CDF-A15C-AF35E1994A2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8" name="Object 9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0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999-BE86-4788-BFE2-7DB60B279BF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AutoShape 8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478" y="5399"/>
                  <a:pt x="6417" y="6883"/>
                  <a:pt x="5679" y="9084"/>
                </a:cubicBezTo>
                <a:lnTo>
                  <a:pt x="559" y="7369"/>
                </a:lnTo>
                <a:cubicBezTo>
                  <a:pt x="2034" y="2967"/>
                  <a:pt x="615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55" y="5399"/>
                  <a:pt x="7060" y="6445"/>
                  <a:pt x="6101" y="8137"/>
                </a:cubicBezTo>
                <a:lnTo>
                  <a:pt x="1403" y="5475"/>
                </a:lnTo>
                <a:cubicBezTo>
                  <a:pt x="3321" y="2091"/>
                  <a:pt x="6910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0795"/>
                </a:moveTo>
                <a:cubicBezTo>
                  <a:pt x="16197" y="7815"/>
                  <a:pt x="13780" y="5400"/>
                  <a:pt x="10800" y="5400"/>
                </a:cubicBezTo>
                <a:cubicBezTo>
                  <a:pt x="8699" y="5399"/>
                  <a:pt x="6790" y="6617"/>
                  <a:pt x="5904" y="8521"/>
                </a:cubicBezTo>
                <a:lnTo>
                  <a:pt x="1008" y="6243"/>
                </a:lnTo>
                <a:cubicBezTo>
                  <a:pt x="2780" y="2435"/>
                  <a:pt x="6599" y="-1"/>
                  <a:pt x="10800" y="0"/>
                </a:cubicBezTo>
                <a:cubicBezTo>
                  <a:pt x="16761" y="0"/>
                  <a:pt x="21595" y="4830"/>
                  <a:pt x="21599" y="10791"/>
                </a:cubicBezTo>
                <a:lnTo>
                  <a:pt x="24299" y="10789"/>
                </a:lnTo>
                <a:lnTo>
                  <a:pt x="18903" y="16193"/>
                </a:lnTo>
                <a:lnTo>
                  <a:pt x="13499" y="10797"/>
                </a:lnTo>
                <a:lnTo>
                  <a:pt x="16199" y="10795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157680 w 1078200"/>
              <a:gd name="textAreaRight" fmla="*/ 920520 w 1078200"/>
              <a:gd name="textAreaTop" fmla="*/ 122760 h 839880"/>
              <a:gd name="textAreaBottom" fmla="*/ 717120 h 839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802" y="5399"/>
                  <a:pt x="6967" y="6503"/>
                  <a:pt x="6030" y="8267"/>
                </a:cubicBezTo>
                <a:lnTo>
                  <a:pt x="1260" y="5735"/>
                </a:lnTo>
                <a:cubicBezTo>
                  <a:pt x="3134" y="2206"/>
                  <a:pt x="6804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410080" y="3505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AND/OR LAND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725400" y="3429000"/>
            <a:ext cx="40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/PERFORM DUTIES TO/FO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AutoShape 28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D04E-CC07-4482-BA79-03359B50ECE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E2D-F72E-41EE-BE6B-47D81268348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B72D-CCFB-4C46-A4CB-7F4BD36AB21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Picture 8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6A4-C4D0-49F3-9D51-81AC6323D64F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B30E-46B2-42AE-9202-B1C4D3FFBA8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81B-C1B1-47F0-BD29-8FC2C95E5ED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IF all nobles worked TOGETHER, to withhold their knights/military service, they could force the king to do what they want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4" descr="pe02994_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CB2-D4D3-4AD2-A440-6F30663A9F7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ociety was made up of three main groups-nobles, clergy (church officials), and peasants/serf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society was a fairly strict class societ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was very difficult (impossible) to change class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noble, you’d remain a nob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ere born a serf, you’d remain a serf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Arial"/>
              </a:rPr>
              <a:t>Most clergy came from the noble class, although occasionally a peasant became a member of the clergy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A05B-C831-48EC-84D3-F2B4F7EE775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bles were the “elite” of feudal socie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there were different “types” of nobl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ost common type of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be born into nobility, then train to be a knigh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C77-55B1-4E42-95C7-3A00BF8EDE9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7808-4DB6-41EF-B8C1-82E0BACEE07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bd05101_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d05101_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bes John</dc:creator>
  <dc:description/>
  <dc:language>en-US</dc:language>
  <cp:lastModifiedBy>Debes John</cp:lastModifiedBy>
  <dcterms:modified xsi:type="dcterms:W3CDTF">2017-09-19T10:23:27Z</dcterms:modified>
  <cp:revision>41</cp:revision>
  <dc:subject/>
  <dc:title>PowerPoint Presentation</dc:title>
</cp:coreProperties>
</file>