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584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move the slid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14400" y="4311720"/>
            <a:ext cx="5029200" cy="40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230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5840" y="86230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AD28B-EBC5-4131-A604-A5094318E1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6200" y="86234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8C8A9-D68A-4EAE-88D5-D3683C1290CB}" type="slidenum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14400" y="4311720"/>
            <a:ext cx="5029200" cy="408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6200" y="86234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4D01A-AF0B-44F6-844F-86CC1C45E39A}" type="slidenum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803240" y="681120"/>
            <a:ext cx="3024360" cy="226836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90360" y="3176640"/>
            <a:ext cx="5105160" cy="544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proven to be a good fighter he was rewarded by being made a kn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Special ceremony known as dubb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ights were expected to follow certain rules known as the code of chival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ights trained for war by fighting each other in tourna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popular form of entertainment during the Middle 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pular event was jou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6200" y="86234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476AB-5ACB-4F96-AA90-1CCDC8BBBDFF}" type="slidenum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14400" y="4311720"/>
            <a:ext cx="5029200" cy="408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ere two groups of workers on the man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reeme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ually had a skill needed by others on the man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luded seneschals and bailiffs who helped run the man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Seneschals looked after fief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visiting each regular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Bailif made sure peas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owns (called shires) also ha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ace-keepers known 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e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rf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quired to work the noble’s 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 worked their own land and gave a part of their crops to the no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d no freedom – they were the noble’s proper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asants had no political p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6200" y="86234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0DFDE-9D8E-4FAB-9029-79D7614CD4AC}" type="slidenum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14400" y="4311720"/>
            <a:ext cx="5029200" cy="408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6200" y="86234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3B674-917B-4993-80F6-E7C5C934F8F5}" type="slidenum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14400" y="4311720"/>
            <a:ext cx="5029200" cy="408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6200" y="86234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1A4A7-BD8A-4DDD-B332-2E48191D16F0}" type="slidenum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233360" y="378000"/>
            <a:ext cx="4238640" cy="317808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3630600"/>
            <a:ext cx="5105520" cy="468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lationship between lords and vassals made up a big part of the political and social structure of the feudal 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6200" y="86234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28D71-63A2-4E45-8F26-88A67B06AE04}" type="slidenum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233360" y="378000"/>
            <a:ext cx="4238640" cy="317808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14400" y="3630600"/>
            <a:ext cx="5105520" cy="468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d on ties of loyalty and duty among nob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bles were both lords and vass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es were made official by the “act of homage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efs were given to vassals by lo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ds gave vassals the right to govern the people who lived on their fief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ds promised to give protection to the vass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eaking the feudal contract could mean loss of 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6200" y="86234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A2988-4497-4D55-BE96-CBC9EF4DA736}" type="slidenum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233360" y="378000"/>
            <a:ext cx="4238640" cy="317808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3630600"/>
            <a:ext cx="5105520" cy="468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ssals had certain duties to perform for the lo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ped the lord in batt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icipated personally in military service 40 – 60 days a y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ve money when the lord’s daughters married and when sons were knigh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id the lord’s ransom or took his place if he was captu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tended the lord’s cou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vided food and entertainment when the lord vis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6200" y="86234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1EA2A-EF92-4C26-BB87-836D3B7FCC0F}" type="slidenum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233360" y="378000"/>
            <a:ext cx="4238640" cy="317808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14400" y="3630600"/>
            <a:ext cx="5105520" cy="468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nobles were ultimately vassals of the k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bles provided the king with knights to form an army for defense and con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use of this, the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re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power belonged to the nob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6200" y="86234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78A6F-AE2D-4289-9B86-B11970738A32}" type="slidenum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803240" y="681120"/>
            <a:ext cx="3024360" cy="226836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90360" y="3176640"/>
            <a:ext cx="5105160" cy="544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most all nobles were knigh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iety made up of three groups – nobles, clergy and peas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townspeo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6200" y="86234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2D777-2E01-4895-A864-63FCB7F6DBB5}" type="slidenum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803240" y="681120"/>
            <a:ext cx="3024360" cy="2268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90360" y="3176640"/>
            <a:ext cx="5105160" cy="544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most all nobles were knigh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iety made up of three groups – nobles, clergy and peas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townspeo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6200" y="86234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5D46A-B6CE-49C3-8FE9-0EC57CA26208}" type="slidenum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803240" y="681120"/>
            <a:ext cx="3024360" cy="2268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90360" y="3176640"/>
            <a:ext cx="5105160" cy="544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ight’s trainin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gan at age 7 as a p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der guidance of the lady of the man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aught courtly manners, sometimes reading, music, dancing – 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ecessities of a no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Ran errands and served her in retu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 began serving the knights performing simple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6200" y="86234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45CDC-5FD4-474A-8629-EB5DD983BAF4}" type="slidenum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803240" y="681120"/>
            <a:ext cx="3024360" cy="2268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90360" y="3176640"/>
            <a:ext cx="5105160" cy="544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me a squire at age 15 and placed under guidance of a kn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aught the skills of knighthood, especially horsemanship and combat ski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Followed knight into battle and  helped him if he was wounded or fell off his hor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proven to be a good fighter he was rewarded by being made a kn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Special ceremony known as dubb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ights were expected to follow certain rules known as the code of chival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ights trained for war by fighting each other in tourna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popular form of entertainment during the Middle 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pular event was jou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03AD7-A60D-4807-9D09-3186E14E9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1ADF5-BB04-47D8-BF3B-9228CED55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3DC98-2FD0-4B8B-AAFE-A54415884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B7417-74C1-46C7-AB54-54729949E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7D87A-031C-4BD3-8B58-45F672780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A484E-85C4-456F-975F-A449DC0CD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1395C-05BF-4F9D-A894-85AD99DE1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09FA0-B1C8-425D-932A-7770A6A58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CB254-5094-4797-9B15-BBC110EC9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9C3E9-8F4B-4970-958F-B8991FB52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1EAF5-05C6-4C14-9029-05307A87C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D39D8-717F-4119-841B-CAB6B1B22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31DAA-F39C-4F18-A0BB-9DC83D622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E5643-1955-4BFF-99BC-D2B6B0DE3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8FB47-B0EC-4E5D-BC92-94D956C24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ACBF0-E34B-417B-B200-6450C0837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BA825-25B8-4D06-971B-8D2DF78BD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8D619-2F31-40E1-B6FC-B423CD2CD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2AFFC-0461-48AC-87DE-EECE62582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5D8B3-EEDC-4AC6-AC9F-30F483D9A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67433-8B5C-4B8A-8665-3093FAD90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9DC9B-4DC4-405A-954E-23A939A56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4E33B-1E98-432B-9AF7-8FE6D4A02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F9E10-1955-4B2A-8161-DA12B4AC9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rc 2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19288-542B-43E6-A881-DB89E24C6F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Line 2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Arc 3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788C0-1D32-4DC3-BCDE-1475A46822FE}" type="slidenum">
              <a:rPr b="0" lang="en-US" sz="14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8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192C1-47CD-44E9-BE37-5C519C3082F7}" type="slidenum">
              <a:rPr b="0" lang="en-US" sz="14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600200" y="304560"/>
            <a:ext cx="64008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Feudalism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graphicFrame>
        <p:nvGraphicFramePr>
          <p:cNvPr id="94" name="Object 8"/>
          <p:cNvGraphicFramePr/>
          <p:nvPr/>
        </p:nvGraphicFramePr>
        <p:xfrm>
          <a:off x="2743200" y="2362320"/>
          <a:ext cx="3581280" cy="327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2362320"/>
                    <a:ext cx="3581280" cy="32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75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75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75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75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750"/>
                            </p:stCondLst>
                            <p:childTnLst>
                              <p:par>
                                <p:cTn id="1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Slide Number Placeholder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061AD-2F39-4D8C-8E0A-AE985BE7FF0A}" type="slidenum">
              <a:rPr b="0" lang="en-US" sz="14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is a Knight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000"/>
                </a:solidFill>
                <a:latin typeface="Arial"/>
              </a:rPr>
              <a:t>KNIGHTS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9966"/>
              </a:buClr>
              <a:buSzPct val="6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10000"/>
                </a:solidFill>
                <a:latin typeface="Arial"/>
              </a:rPr>
              <a:t>If he lived to the age of adulthood, he was rewarded by being made a knight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9966"/>
              </a:buClr>
              <a:buSzPct val="6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10000"/>
                </a:solidFill>
                <a:latin typeface="Arial"/>
              </a:rPr>
              <a:t>Special ceremony known as dubbing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9966"/>
              </a:buClr>
              <a:buSzPct val="6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10000"/>
                </a:solidFill>
                <a:latin typeface="Arial"/>
              </a:rPr>
              <a:t>Knights were expected to follow certain rules known as the code of chivalry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9966"/>
              </a:buClr>
              <a:buSzPct val="6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10000"/>
                </a:solidFill>
                <a:latin typeface="Arial"/>
              </a:rPr>
              <a:t>Knights trained for war by fighting each other in tournaments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336699"/>
              </a:buClr>
              <a:buSzPct val="6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10000"/>
                </a:solidFill>
                <a:latin typeface="Arial"/>
              </a:rPr>
              <a:t>Most popular form of entertainment during the Middle Ages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133" name="Picture 4" descr="bd05101_"/>
          <p:cNvPicPr/>
          <p:nvPr/>
        </p:nvPicPr>
        <p:blipFill>
          <a:blip r:embed="rId1"/>
          <a:stretch/>
        </p:blipFill>
        <p:spPr>
          <a:xfrm>
            <a:off x="457200" y="380880"/>
            <a:ext cx="1758960" cy="15066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5" descr="bd05101_"/>
          <p:cNvPicPr/>
          <p:nvPr/>
        </p:nvPicPr>
        <p:blipFill>
          <a:blip r:embed="rId2"/>
          <a:stretch/>
        </p:blipFill>
        <p:spPr>
          <a:xfrm>
            <a:off x="6858000" y="457200"/>
            <a:ext cx="1758960" cy="15066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nodeType="clickEffect" fill="hold">
                      <p:stCondLst>
                        <p:cond delay="0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6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99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04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09" dur="5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14" dur="5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19" dur="500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22" dur="500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Slide Number Placeholder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0D270-FF69-4DE8-91BE-ADFF7D946FBE}" type="slidenum">
              <a:rPr b="0" lang="en-US" sz="14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59984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orkers on the Mano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69608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most all peasants who worked on feudal manors were serfs.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rf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– workers bound to the land by contract with the nobles. They also worked their own land and gave a part of their crops to the noble (They had no freedom - they where the noble’s property.)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138" name="Object 9" descr=""/>
          <p:cNvPicPr/>
          <p:nvPr/>
        </p:nvPicPr>
        <p:blipFill>
          <a:blip r:embed="rId1"/>
          <a:stretch/>
        </p:blipFill>
        <p:spPr>
          <a:xfrm>
            <a:off x="7162920" y="609480"/>
            <a:ext cx="496800" cy="1155960"/>
          </a:xfrm>
          <a:prstGeom prst="rect">
            <a:avLst/>
          </a:prstGeom>
          <a:ln w="0">
            <a:noFill/>
          </a:ln>
        </p:spPr>
      </p:pic>
      <p:pic>
        <p:nvPicPr>
          <p:cNvPr id="139" name="Object 10" descr=""/>
          <p:cNvPicPr/>
          <p:nvPr/>
        </p:nvPicPr>
        <p:blipFill>
          <a:blip r:embed="rId2"/>
          <a:stretch/>
        </p:blipFill>
        <p:spPr>
          <a:xfrm>
            <a:off x="685800" y="533520"/>
            <a:ext cx="925560" cy="10522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nodeType="clickEffect" fill="hold">
                      <p:stCondLst>
                        <p:cond delay="0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2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1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3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38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43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DFAF4-61E8-485C-848E-F1CEC4F77186}" type="slidenum">
              <a:rPr b="0" lang="en-US" sz="14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9984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Feudal Contrac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42" name="AutoShape 8"/>
          <p:cNvSpPr/>
          <p:nvPr/>
        </p:nvSpPr>
        <p:spPr>
          <a:xfrm rot="17508000">
            <a:off x="2743200" y="2362320"/>
            <a:ext cx="976320" cy="976320"/>
          </a:xfrm>
          <a:custGeom>
            <a:avLst/>
            <a:gdLst>
              <a:gd name="textAreaLeft" fmla="*/ 142920 w 976320"/>
              <a:gd name="textAreaRight" fmla="*/ 833400 w 976320"/>
              <a:gd name="textAreaTop" fmla="*/ 142920 h 976320"/>
              <a:gd name="textAreaBottom" fmla="*/ 833400 h 976320"/>
            </a:gdLst>
            <a:ahLst/>
            <a:rect l="textAreaLeft" t="textAreaTop" r="textAreaRight" b="textAreaBottom"/>
            <a:pathLst>
              <a:path w="21600" h="21600">
                <a:moveTo>
                  <a:pt x="16200" y="10800"/>
                </a:moveTo>
                <a:cubicBezTo>
                  <a:pt x="16200" y="7817"/>
                  <a:pt x="13782" y="5400"/>
                  <a:pt x="10800" y="5400"/>
                </a:cubicBezTo>
                <a:cubicBezTo>
                  <a:pt x="8478" y="5399"/>
                  <a:pt x="6417" y="6883"/>
                  <a:pt x="5679" y="9084"/>
                </a:cubicBezTo>
                <a:lnTo>
                  <a:pt x="559" y="7369"/>
                </a:lnTo>
                <a:cubicBezTo>
                  <a:pt x="2034" y="2967"/>
                  <a:pt x="6157" y="-1"/>
                  <a:pt x="10800" y="0"/>
                </a:cubicBezTo>
                <a:cubicBezTo>
                  <a:pt x="16764" y="0"/>
                  <a:pt x="21599" y="4835"/>
                  <a:pt x="21600" y="10799"/>
                </a:cubicBezTo>
                <a:lnTo>
                  <a:pt x="21600" y="10800"/>
                </a:lnTo>
                <a:lnTo>
                  <a:pt x="24300" y="10800"/>
                </a:lnTo>
                <a:lnTo>
                  <a:pt x="18900" y="16200"/>
                </a:lnTo>
                <a:lnTo>
                  <a:pt x="13500" y="10800"/>
                </a:lnTo>
                <a:lnTo>
                  <a:pt x="16200" y="10800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43" name="AutoShape 10"/>
          <p:cNvSpPr/>
          <p:nvPr/>
        </p:nvSpPr>
        <p:spPr>
          <a:xfrm rot="1679400">
            <a:off x="5333760" y="2361960"/>
            <a:ext cx="976320" cy="976320"/>
          </a:xfrm>
          <a:custGeom>
            <a:avLst/>
            <a:gdLst>
              <a:gd name="textAreaLeft" fmla="*/ 142920 w 976320"/>
              <a:gd name="textAreaRight" fmla="*/ 833400 w 976320"/>
              <a:gd name="textAreaTop" fmla="*/ 142920 h 976320"/>
              <a:gd name="textAreaBottom" fmla="*/ 833400 h 976320"/>
            </a:gdLst>
            <a:ahLst/>
            <a:rect l="textAreaLeft" t="textAreaTop" r="textAreaRight" b="textAreaBottom"/>
            <a:pathLst>
              <a:path w="21600" h="21600">
                <a:moveTo>
                  <a:pt x="16200" y="10800"/>
                </a:moveTo>
                <a:cubicBezTo>
                  <a:pt x="16200" y="7817"/>
                  <a:pt x="13782" y="5400"/>
                  <a:pt x="10800" y="5400"/>
                </a:cubicBezTo>
                <a:cubicBezTo>
                  <a:pt x="8855" y="5399"/>
                  <a:pt x="7060" y="6445"/>
                  <a:pt x="6101" y="8137"/>
                </a:cubicBezTo>
                <a:lnTo>
                  <a:pt x="1403" y="5475"/>
                </a:lnTo>
                <a:cubicBezTo>
                  <a:pt x="3321" y="2091"/>
                  <a:pt x="6910" y="-1"/>
                  <a:pt x="10800" y="0"/>
                </a:cubicBezTo>
                <a:cubicBezTo>
                  <a:pt x="16764" y="0"/>
                  <a:pt x="21599" y="4835"/>
                  <a:pt x="21600" y="10799"/>
                </a:cubicBezTo>
                <a:lnTo>
                  <a:pt x="21600" y="10800"/>
                </a:lnTo>
                <a:lnTo>
                  <a:pt x="24300" y="10800"/>
                </a:lnTo>
                <a:lnTo>
                  <a:pt x="18900" y="16200"/>
                </a:lnTo>
                <a:lnTo>
                  <a:pt x="13500" y="10800"/>
                </a:lnTo>
                <a:lnTo>
                  <a:pt x="16200" y="10800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44" name="AutoShape 11"/>
          <p:cNvSpPr/>
          <p:nvPr/>
        </p:nvSpPr>
        <p:spPr>
          <a:xfrm rot="11903400">
            <a:off x="2743200" y="4648320"/>
            <a:ext cx="976320" cy="976320"/>
          </a:xfrm>
          <a:custGeom>
            <a:avLst/>
            <a:gdLst>
              <a:gd name="textAreaLeft" fmla="*/ 142920 w 976320"/>
              <a:gd name="textAreaRight" fmla="*/ 833400 w 976320"/>
              <a:gd name="textAreaTop" fmla="*/ 142920 h 976320"/>
              <a:gd name="textAreaBottom" fmla="*/ 833400 h 976320"/>
            </a:gdLst>
            <a:ahLst/>
            <a:rect l="textAreaLeft" t="textAreaTop" r="textAreaRight" b="textAreaBottom"/>
            <a:pathLst>
              <a:path w="21600" h="21600">
                <a:moveTo>
                  <a:pt x="16199" y="10795"/>
                </a:moveTo>
                <a:cubicBezTo>
                  <a:pt x="16197" y="7815"/>
                  <a:pt x="13780" y="5400"/>
                  <a:pt x="10800" y="5400"/>
                </a:cubicBezTo>
                <a:cubicBezTo>
                  <a:pt x="8699" y="5399"/>
                  <a:pt x="6790" y="6617"/>
                  <a:pt x="5904" y="8521"/>
                </a:cubicBezTo>
                <a:lnTo>
                  <a:pt x="1008" y="6243"/>
                </a:lnTo>
                <a:cubicBezTo>
                  <a:pt x="2780" y="2435"/>
                  <a:pt x="6599" y="-1"/>
                  <a:pt x="10800" y="0"/>
                </a:cubicBezTo>
                <a:cubicBezTo>
                  <a:pt x="16761" y="0"/>
                  <a:pt x="21595" y="4830"/>
                  <a:pt x="21599" y="10791"/>
                </a:cubicBezTo>
                <a:lnTo>
                  <a:pt x="24299" y="10789"/>
                </a:lnTo>
                <a:lnTo>
                  <a:pt x="18903" y="16193"/>
                </a:lnTo>
                <a:lnTo>
                  <a:pt x="13499" y="10797"/>
                </a:lnTo>
                <a:lnTo>
                  <a:pt x="16199" y="10795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45" name="AutoShape 12"/>
          <p:cNvSpPr/>
          <p:nvPr/>
        </p:nvSpPr>
        <p:spPr>
          <a:xfrm rot="5649000">
            <a:off x="5595120" y="4614480"/>
            <a:ext cx="1078200" cy="839880"/>
          </a:xfrm>
          <a:custGeom>
            <a:avLst/>
            <a:gdLst>
              <a:gd name="textAreaLeft" fmla="*/ 157680 w 1078200"/>
              <a:gd name="textAreaRight" fmla="*/ 920520 w 1078200"/>
              <a:gd name="textAreaTop" fmla="*/ 122760 h 839880"/>
              <a:gd name="textAreaBottom" fmla="*/ 717120 h 839880"/>
            </a:gdLst>
            <a:ahLst/>
            <a:rect l="textAreaLeft" t="textAreaTop" r="textAreaRight" b="textAreaBottom"/>
            <a:pathLst>
              <a:path w="21600" h="21600">
                <a:moveTo>
                  <a:pt x="16200" y="10800"/>
                </a:moveTo>
                <a:cubicBezTo>
                  <a:pt x="16200" y="7817"/>
                  <a:pt x="13782" y="5400"/>
                  <a:pt x="10800" y="5400"/>
                </a:cubicBezTo>
                <a:cubicBezTo>
                  <a:pt x="8802" y="5399"/>
                  <a:pt x="6967" y="6503"/>
                  <a:pt x="6030" y="8267"/>
                </a:cubicBezTo>
                <a:lnTo>
                  <a:pt x="1260" y="5735"/>
                </a:lnTo>
                <a:cubicBezTo>
                  <a:pt x="3134" y="2206"/>
                  <a:pt x="6804" y="-1"/>
                  <a:pt x="10800" y="0"/>
                </a:cubicBezTo>
                <a:cubicBezTo>
                  <a:pt x="16764" y="0"/>
                  <a:pt x="21599" y="4835"/>
                  <a:pt x="21600" y="10799"/>
                </a:cubicBezTo>
                <a:lnTo>
                  <a:pt x="21600" y="10800"/>
                </a:lnTo>
                <a:lnTo>
                  <a:pt x="24300" y="10800"/>
                </a:lnTo>
                <a:lnTo>
                  <a:pt x="18900" y="16200"/>
                </a:lnTo>
                <a:lnTo>
                  <a:pt x="13500" y="10800"/>
                </a:lnTo>
                <a:lnTo>
                  <a:pt x="16200" y="10800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46" name="Rectangle 17"/>
          <p:cNvSpPr/>
          <p:nvPr/>
        </p:nvSpPr>
        <p:spPr>
          <a:xfrm>
            <a:off x="4041720" y="2286000"/>
            <a:ext cx="117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LORDS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47" name="Text Box 19"/>
          <p:cNvSpPr/>
          <p:nvPr/>
        </p:nvSpPr>
        <p:spPr>
          <a:xfrm>
            <a:off x="3048120" y="38098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48" name="Text Box 20"/>
          <p:cNvSpPr/>
          <p:nvPr/>
        </p:nvSpPr>
        <p:spPr>
          <a:xfrm>
            <a:off x="3890520" y="5410080"/>
            <a:ext cx="153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VASSALS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49" name="Text Box 21"/>
          <p:cNvSpPr/>
          <p:nvPr/>
        </p:nvSpPr>
        <p:spPr>
          <a:xfrm>
            <a:off x="5410080" y="3505320"/>
            <a:ext cx="350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GIV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PROTECTION AND/OR LAND TO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476760" y="655272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43000"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Times New Roman"/>
            </a:endParaRPr>
          </a:p>
        </p:txBody>
      </p:sp>
      <p:sp>
        <p:nvSpPr>
          <p:cNvPr id="151" name="Rectangle 27"/>
          <p:cNvSpPr/>
          <p:nvPr/>
        </p:nvSpPr>
        <p:spPr>
          <a:xfrm>
            <a:off x="725400" y="3429000"/>
            <a:ext cx="408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GIVE 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SERVICE/PERFORM DUTIES TO/FO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52" name="AutoShape 28"/>
          <p:cNvSpPr/>
          <p:nvPr/>
        </p:nvSpPr>
        <p:spPr>
          <a:xfrm>
            <a:off x="3962520" y="3276720"/>
            <a:ext cx="1143000" cy="1218960"/>
          </a:xfrm>
          <a:prstGeom prst="sun">
            <a:avLst>
              <a:gd name="adj" fmla="val 25000"/>
            </a:avLst>
          </a:prstGeom>
          <a:solidFill>
            <a:srgbClr val="ffff66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Slide Number Placeholder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FE9F0-20B8-4CC1-B987-723DD0BBA3BD}" type="slidenum">
              <a:rPr b="0" lang="en-US" sz="14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99"/>
                </a:solidFill>
                <a:latin typeface="Arial Narrow"/>
              </a:rPr>
              <a:t>CONSTRUCTING THE PYRAMID OF POWER</a:t>
            </a:r>
            <a:endParaRPr b="1" lang="en-US" sz="4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371240" y="205740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56" name="Rectangle 4"/>
          <p:cNvSpPr/>
          <p:nvPr/>
        </p:nvSpPr>
        <p:spPr>
          <a:xfrm>
            <a:off x="2895480" y="4191120"/>
            <a:ext cx="3581640" cy="6858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LESSER NOBLES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(KNIGHTS)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57" name="Line 5"/>
          <p:cNvSpPr/>
          <p:nvPr/>
        </p:nvSpPr>
        <p:spPr>
          <a:xfrm flipV="1">
            <a:off x="2850120" y="4934160"/>
            <a:ext cx="396000" cy="722520"/>
          </a:xfrm>
          <a:prstGeom prst="line">
            <a:avLst/>
          </a:prstGeom>
          <a:ln w="9360">
            <a:solidFill>
              <a:srgbClr val="01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58" name="Line 6"/>
          <p:cNvSpPr/>
          <p:nvPr/>
        </p:nvSpPr>
        <p:spPr>
          <a:xfrm>
            <a:off x="6044760" y="4863240"/>
            <a:ext cx="407520" cy="789120"/>
          </a:xfrm>
          <a:prstGeom prst="line">
            <a:avLst/>
          </a:prstGeom>
          <a:ln w="9360">
            <a:solidFill>
              <a:srgbClr val="01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59" name="Text Box 7"/>
          <p:cNvSpPr/>
          <p:nvPr/>
        </p:nvSpPr>
        <p:spPr>
          <a:xfrm>
            <a:off x="1678680" y="5151600"/>
            <a:ext cx="78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Times New Roman"/>
              </a:rPr>
              <a:t>LABOR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60" name="Text Box 8"/>
          <p:cNvSpPr/>
          <p:nvPr/>
        </p:nvSpPr>
        <p:spPr>
          <a:xfrm>
            <a:off x="6478560" y="5151600"/>
            <a:ext cx="128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Times New Roman"/>
              </a:rPr>
              <a:t>PROTECTION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61" name="Rectangle 9"/>
          <p:cNvSpPr/>
          <p:nvPr/>
        </p:nvSpPr>
        <p:spPr>
          <a:xfrm>
            <a:off x="3352680" y="2819520"/>
            <a:ext cx="2743200" cy="6858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POWERFUL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NOBLES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62" name="Rectangle 10"/>
          <p:cNvSpPr/>
          <p:nvPr/>
        </p:nvSpPr>
        <p:spPr>
          <a:xfrm>
            <a:off x="3886200" y="1523880"/>
            <a:ext cx="144792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KING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63" name="Line 11"/>
          <p:cNvSpPr/>
          <p:nvPr/>
        </p:nvSpPr>
        <p:spPr>
          <a:xfrm flipV="1">
            <a:off x="3524040" y="3496320"/>
            <a:ext cx="267120" cy="626760"/>
          </a:xfrm>
          <a:prstGeom prst="line">
            <a:avLst/>
          </a:prstGeom>
          <a:ln w="9360">
            <a:solidFill>
              <a:srgbClr val="01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64" name="Line 12"/>
          <p:cNvSpPr/>
          <p:nvPr/>
        </p:nvSpPr>
        <p:spPr>
          <a:xfrm>
            <a:off x="5466960" y="3514680"/>
            <a:ext cx="343800" cy="667080"/>
          </a:xfrm>
          <a:prstGeom prst="line">
            <a:avLst/>
          </a:prstGeom>
          <a:ln w="9360">
            <a:solidFill>
              <a:srgbClr val="01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65" name="Line 13"/>
          <p:cNvSpPr/>
          <p:nvPr/>
        </p:nvSpPr>
        <p:spPr>
          <a:xfrm flipV="1">
            <a:off x="4059000" y="2123640"/>
            <a:ext cx="262440" cy="628920"/>
          </a:xfrm>
          <a:prstGeom prst="line">
            <a:avLst/>
          </a:prstGeom>
          <a:ln w="9360">
            <a:solidFill>
              <a:srgbClr val="01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66" name="Line 14"/>
          <p:cNvSpPr/>
          <p:nvPr/>
        </p:nvSpPr>
        <p:spPr>
          <a:xfrm>
            <a:off x="4934160" y="2141640"/>
            <a:ext cx="266040" cy="593640"/>
          </a:xfrm>
          <a:prstGeom prst="line">
            <a:avLst/>
          </a:prstGeom>
          <a:ln w="9360">
            <a:solidFill>
              <a:srgbClr val="01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67" name="Rectangle 15"/>
          <p:cNvSpPr/>
          <p:nvPr/>
        </p:nvSpPr>
        <p:spPr>
          <a:xfrm>
            <a:off x="2438280" y="5638680"/>
            <a:ext cx="4419720" cy="7621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SERFS AND FREEMEN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68" name="Text Box 16"/>
          <p:cNvSpPr/>
          <p:nvPr/>
        </p:nvSpPr>
        <p:spPr>
          <a:xfrm>
            <a:off x="6402600" y="3429000"/>
            <a:ext cx="1285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Times New Roman"/>
              </a:rPr>
              <a:t>LAND AND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Times New Roman"/>
              </a:rPr>
              <a:t>PROTECTION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69" name="Text Box 17"/>
          <p:cNvSpPr/>
          <p:nvPr/>
        </p:nvSpPr>
        <p:spPr>
          <a:xfrm>
            <a:off x="5853960" y="2068560"/>
            <a:ext cx="67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Times New Roman"/>
              </a:rPr>
              <a:t>LAND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70" name="Text Box 18"/>
          <p:cNvSpPr/>
          <p:nvPr/>
        </p:nvSpPr>
        <p:spPr>
          <a:xfrm>
            <a:off x="2441520" y="2057400"/>
            <a:ext cx="1445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Times New Roman"/>
              </a:rPr>
              <a:t>LOYALTY AND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Times New Roman"/>
              </a:rPr>
              <a:t>SERVICE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71" name="Text Box 19"/>
          <p:cNvSpPr/>
          <p:nvPr/>
        </p:nvSpPr>
        <p:spPr>
          <a:xfrm>
            <a:off x="1372680" y="3505320"/>
            <a:ext cx="1834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Times New Roman"/>
              </a:rPr>
              <a:t>LOYALTY AND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Times New Roman"/>
              </a:rPr>
              <a:t>MILITARY SERVICE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1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Slide Number Placeholder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8586C-B3F3-43F1-BFC3-2F5E01A0C7A7}" type="slidenum">
              <a:rPr b="0" lang="en-US" sz="14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eaknesses of the feudal system: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883908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obles could “hold kings hostage” when kings needed soldiers; in effect, they held the power, not the kings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Majority of people (knights &amp; peasants) were at the bottom of this pyramid of power; but they were barely able to survive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It was beneficial to the top groups (kings &amp; higher nobles), but they made up a minority of the population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It didn’t provide opportunities for change/freedom: if you were born a serf, you would live &amp; die as a serf.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lide Number Placeholder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3FFAC-F462-48AD-8C33-7155ABC652ED}" type="slidenum">
              <a:rPr b="0" lang="en-US" sz="14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981080" y="533160"/>
            <a:ext cx="6096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Lords and Vassal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8240" y="1828800"/>
            <a:ext cx="8915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66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000"/>
                </a:solidFill>
                <a:latin typeface="Arial"/>
              </a:rPr>
              <a:t>The relationship between lords and vassals was the main characteristic of the social &amp; political structure of the feudal system                                         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66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000"/>
                </a:solidFill>
                <a:latin typeface="Arial"/>
              </a:rPr>
              <a:t>Vassals were people granted land in exchange for certain duties he performed for the lord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66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000"/>
                </a:solidFill>
                <a:latin typeface="Arial"/>
              </a:rPr>
              <a:t>All nobles were ultimately vassals of the king.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99" name="Picture 8" descr="pe02994_"/>
          <p:cNvPicPr/>
          <p:nvPr/>
        </p:nvPicPr>
        <p:blipFill>
          <a:blip r:embed="rId1"/>
          <a:stretch/>
        </p:blipFill>
        <p:spPr>
          <a:xfrm>
            <a:off x="7696080" y="380880"/>
            <a:ext cx="1020960" cy="14544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7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2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7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Slide Number Placeholder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F8760-1C9C-45F8-8A1F-128536034888}" type="slidenum">
              <a:rPr b="0" lang="en-US" sz="14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447560" y="53316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lationship Between Lords and Vassal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9966"/>
              </a:buClr>
              <a:buSzPct val="6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000"/>
                </a:solidFill>
                <a:latin typeface="Arial"/>
              </a:rPr>
              <a:t>Based on ties of loyalty and duty among nobles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9966"/>
              </a:buClr>
              <a:buSzPct val="6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000"/>
                </a:solidFill>
                <a:latin typeface="Arial"/>
              </a:rPr>
              <a:t>Nobles could be both lords and vassals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9966"/>
              </a:buClr>
              <a:buSzPct val="6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000"/>
                </a:solidFill>
                <a:latin typeface="Arial"/>
              </a:rPr>
              <a:t>Fiefs (land grants) were given to vassals by lords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9966"/>
              </a:buClr>
              <a:buSzPct val="6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000"/>
                </a:solidFill>
                <a:latin typeface="Arial"/>
              </a:rPr>
              <a:t>Lords gave vassals the right to govern the people who lived on their fiefs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9966"/>
              </a:buClr>
              <a:buSzPct val="6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000"/>
                </a:solidFill>
                <a:latin typeface="Arial"/>
              </a:rPr>
              <a:t>Lords promised to protect their vassals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9966"/>
              </a:buClr>
              <a:buSzPct val="6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000"/>
                </a:solidFill>
                <a:latin typeface="Arial"/>
              </a:rPr>
              <a:t>Breaking the feudal contract could mean loss of land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103" name="Picture 4" descr="pe02994_"/>
          <p:cNvPicPr/>
          <p:nvPr/>
        </p:nvPicPr>
        <p:blipFill>
          <a:blip r:embed="rId1"/>
          <a:stretch/>
        </p:blipFill>
        <p:spPr>
          <a:xfrm>
            <a:off x="7696080" y="380880"/>
            <a:ext cx="1020960" cy="14544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0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0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5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0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5" dur="5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0" dur="5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5" dur="5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lide Number Placeholder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A3B12-0FFC-4D43-B5C4-58EB13309D50}" type="slidenum">
              <a:rPr b="0" lang="en-US" sz="14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Vassals had certain duties to perform for the lord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ff9966"/>
              </a:buClr>
              <a:buSzPct val="6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000"/>
                </a:solidFill>
                <a:latin typeface="Arial"/>
              </a:rPr>
              <a:t>Nobles helped the lord in battle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ff9966"/>
              </a:buClr>
              <a:buSzPct val="6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000"/>
                </a:solidFill>
                <a:latin typeface="Arial"/>
              </a:rPr>
              <a:t>Participated personally in military service 40 – 60 days a year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ff9966"/>
              </a:buClr>
              <a:buSzPct val="6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000"/>
                </a:solidFill>
                <a:latin typeface="Arial"/>
              </a:rPr>
              <a:t>Gave money when the lord’s daughters married and when sons were knighted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ff9966"/>
              </a:buClr>
              <a:buSzPct val="6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000"/>
                </a:solidFill>
                <a:latin typeface="Arial"/>
              </a:rPr>
              <a:t>Paid the lord’s ransom or took his place if he was captured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ff9966"/>
              </a:buClr>
              <a:buSzPct val="6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000"/>
                </a:solidFill>
                <a:latin typeface="Arial"/>
              </a:rPr>
              <a:t>Attended the lord’s court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ff9966"/>
              </a:buClr>
              <a:buSzPct val="6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000"/>
                </a:solidFill>
                <a:latin typeface="Arial"/>
              </a:rPr>
              <a:t>Provided food and entertainment when the lord visited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107" name="Picture 4" descr="pe02994_"/>
          <p:cNvPicPr/>
          <p:nvPr/>
        </p:nvPicPr>
        <p:blipFill>
          <a:blip r:embed="rId1"/>
          <a:stretch/>
        </p:blipFill>
        <p:spPr>
          <a:xfrm>
            <a:off x="7696080" y="380880"/>
            <a:ext cx="1020960" cy="14544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0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8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3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8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3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8" dur="5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3" dur="500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Slide Number Placeholder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3839E-7B6A-4D73-962C-A10C3BBACB78}" type="slidenum">
              <a:rPr b="0" lang="en-US" sz="14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676520" y="5331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ll nobles were ultimately vassals of the kin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66"/>
              </a:buClr>
              <a:buSzPct val="6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000"/>
                </a:solidFill>
                <a:latin typeface="Arial"/>
              </a:rPr>
              <a:t>Nobles provided the king with knights to form an army for defense and conquest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66"/>
              </a:buClr>
              <a:buSzPct val="6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000"/>
                </a:solidFill>
                <a:latin typeface="Arial"/>
              </a:rPr>
              <a:t>Because of this, the </a:t>
            </a:r>
            <a:r>
              <a:rPr b="0" i="1" lang="en-US" sz="3200" spc="-1" strike="noStrike">
                <a:solidFill>
                  <a:srgbClr val="010000"/>
                </a:solidFill>
                <a:latin typeface="Arial"/>
              </a:rPr>
              <a:t>real</a:t>
            </a:r>
            <a:r>
              <a:rPr b="0" lang="en-US" sz="3200" spc="-1" strike="noStrike">
                <a:solidFill>
                  <a:srgbClr val="010000"/>
                </a:solidFill>
                <a:latin typeface="Arial"/>
              </a:rPr>
              <a:t> power belonged to the nobles.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6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10000"/>
                </a:solidFill>
                <a:latin typeface="Arial"/>
              </a:rPr>
              <a:t>IF all nobles worked TOGETHER, to withhold their knights/military service, they could force the king to do what they wanted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111" name="Picture 4" descr="pe02994_"/>
          <p:cNvPicPr/>
          <p:nvPr/>
        </p:nvPicPr>
        <p:blipFill>
          <a:blip r:embed="rId1"/>
          <a:stretch/>
        </p:blipFill>
        <p:spPr>
          <a:xfrm>
            <a:off x="7696080" y="380880"/>
            <a:ext cx="1020960" cy="14544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0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6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1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4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03025-3631-47CD-8EF6-C69D082C6159}" type="slidenum">
              <a:rPr b="0" lang="en-US" sz="14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Feudal Society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91440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eudal Society was made up of three main groups-nobles, clergy (church officials), and peasants/serfs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society was a fairly strict class society.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was very difficult (impossible) to change classes.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ere born a noble, you’d remain a noble 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ere born a serf, you’d remain a serf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10000"/>
                </a:solidFill>
                <a:latin typeface="Arial"/>
              </a:rPr>
              <a:t>Most clergy came from the noble class, although occasionally a peasant became a member of the clergy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0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5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0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5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0" dur="5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5" dur="50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C0D52-FD8B-42E6-9C5A-529535F9E6BC}" type="slidenum">
              <a:rPr b="0" lang="en-US" sz="14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is a Knight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bles were the “elite” of feudal society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there were different “types” of nobles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most common type of nobles were knights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be born into nobility, then train to be a knigh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ining began at age 7, as a page, under the guidance of the lady of the manor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ecame squires at age 15 and were trained by other knights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ose deemed worthy were “dubbed” knights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118" name="Picture 4" descr="bd05101_"/>
          <p:cNvPicPr/>
          <p:nvPr/>
        </p:nvPicPr>
        <p:blipFill>
          <a:blip r:embed="rId1"/>
          <a:stretch/>
        </p:blipFill>
        <p:spPr>
          <a:xfrm>
            <a:off x="457200" y="380880"/>
            <a:ext cx="1758960" cy="15066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5" descr="bd05101_"/>
          <p:cNvPicPr/>
          <p:nvPr/>
        </p:nvPicPr>
        <p:blipFill>
          <a:blip r:embed="rId2"/>
          <a:stretch/>
        </p:blipFill>
        <p:spPr>
          <a:xfrm>
            <a:off x="6858000" y="457200"/>
            <a:ext cx="1758960" cy="15066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0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3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7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86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91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96" dur="5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01" dur="5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06" dur="500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11" dur="500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16" dur="500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1BC2B-FE5C-46FE-8ED6-756F9E7BF3CE}" type="slidenum">
              <a:rPr b="0" lang="en-US" sz="14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is a Page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792468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000"/>
                </a:solidFill>
                <a:latin typeface="Arial"/>
              </a:rPr>
              <a:t>PAGES-started at age of 7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66"/>
              </a:buClr>
              <a:buSzPct val="6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10000"/>
                </a:solidFill>
                <a:latin typeface="Arial"/>
              </a:rPr>
              <a:t>Taught courtly manners, sometimes reading, music, dancing – all the necessities of a noble and they ran errands and served the lady of the manor in return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66"/>
              </a:buClr>
              <a:buSzPct val="6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10000"/>
                </a:solidFill>
                <a:latin typeface="Arial"/>
              </a:rPr>
              <a:t>Also began serving the knights performing simple tasks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123" name="Picture 4" descr="bd05101_"/>
          <p:cNvPicPr/>
          <p:nvPr/>
        </p:nvPicPr>
        <p:blipFill>
          <a:blip r:embed="rId1"/>
          <a:stretch/>
        </p:blipFill>
        <p:spPr>
          <a:xfrm>
            <a:off x="457200" y="380880"/>
            <a:ext cx="1758960" cy="15066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5" descr="bd05101_"/>
          <p:cNvPicPr/>
          <p:nvPr/>
        </p:nvPicPr>
        <p:blipFill>
          <a:blip r:embed="rId2"/>
          <a:stretch/>
        </p:blipFill>
        <p:spPr>
          <a:xfrm>
            <a:off x="6858000" y="457200"/>
            <a:ext cx="1758960" cy="15066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0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4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37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42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47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A19F2-8B20-4AC4-B76F-363B73ECDB26}" type="slidenum">
              <a:rPr b="0" lang="en-US" sz="14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is a Squire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792468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10000"/>
                </a:solidFill>
                <a:latin typeface="Arial"/>
              </a:rPr>
              <a:t>SQUIRES-age of 15</a:t>
            </a:r>
            <a:endParaRPr b="0" lang="en-US" sz="36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10000"/>
                </a:solidFill>
                <a:latin typeface="Arial"/>
              </a:rPr>
              <a:t>Taught the skills of knighthood, especially horsemanship and combat skills.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10000"/>
                </a:solidFill>
                <a:latin typeface="Arial"/>
              </a:rPr>
              <a:t>- Followed knight into battle and  helped him if he was wounded or fell off his horse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128" name="Picture 4" descr="bd05101_"/>
          <p:cNvPicPr/>
          <p:nvPr/>
        </p:nvPicPr>
        <p:blipFill>
          <a:blip r:embed="rId1"/>
          <a:stretch/>
        </p:blipFill>
        <p:spPr>
          <a:xfrm>
            <a:off x="457200" y="380880"/>
            <a:ext cx="1758960" cy="15066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" descr="bd05101_"/>
          <p:cNvPicPr/>
          <p:nvPr/>
        </p:nvPicPr>
        <p:blipFill>
          <a:blip r:embed="rId2"/>
          <a:stretch/>
        </p:blipFill>
        <p:spPr>
          <a:xfrm>
            <a:off x="6858000" y="457200"/>
            <a:ext cx="1758960" cy="15066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0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5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68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73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78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Debes John</dc:creator>
  <dc:description/>
  <dc:language>en-US</dc:language>
  <cp:lastModifiedBy>Debes John</cp:lastModifiedBy>
  <dcterms:modified xsi:type="dcterms:W3CDTF">2017-09-19T10:23:27Z</dcterms:modified>
  <cp:revision>41</cp:revision>
  <dc:subject/>
  <dc:title>PowerPoint Presentation</dc:title>
</cp:coreProperties>
</file>