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DFAC-E162-4878-A6B7-611CD9EFF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4911-3D9D-419E-B6EC-80F2099C09A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E00C-DB78-466F-8EBB-323294B4E23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6437-EC7C-4B95-BCF8-FD3A4AAB851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two groups of work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em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d a skill needed by oth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d seneschals and bailiffs who helped ru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neschals looked afte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visiting each regul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ilif made sure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wns (called shires) also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-keepers know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f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work the noble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worked their own land and gave a part of their crops to the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no freedom – they were the noble’s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sants had no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81A6-6AF7-4E82-8A00-EA95CAC7C4C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BEF0-E940-4929-AE4B-9584324DC47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BC48-B36A-40B3-9810-4B746A977A1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lords and vassals made up a big part of the political and social structure of the feuda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9165-412B-445A-B048-D6B0FAFBECC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ies of loyalty and duty among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were both lords and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were made official by the “act of homag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fs were given to vassals by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gave vassals the right to govern the people who lived on thei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promised to give protection to the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the feudal contract could mean loss of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C840-B3F3-4BB7-966D-02217D7B75C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sals had certain duties to perform for the l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the lord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d personally in military service 40 – 60 days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ney when the lord’s daughters married and when sons were kn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d the lord’s ransom or took his place if he was cap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d the lord’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d food and entertainment when the lord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5561-E2E3-4B68-BF43-5C0D357A1F8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bles were ultimately vassals of th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provided the king with knights to form an army for defense and con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is,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wer belonged to the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6EF0-EA40-41A1-8C2B-0170E2F6882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nobles were kn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y made up of three groups – nobles, clergy and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wn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6209-2067-43C4-8748-D8008E86428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nobles were kn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y made up of three groups – nobles, clergy and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wn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6A3D-CB59-49BB-B487-F7F38154651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’s tr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t age 7 as 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guidance of the lady of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courtly manners, sometimes reading, music, dancing –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cessities of a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errands and served her in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began serving the knights performing simp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83E7-0686-40D8-BC3E-643DEE24266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squire at age 15 and placed under guidance of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the skills of knighthood, especially horsemanship and combat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934-DA9D-4D12-9E84-43DFB4B9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B76-46B4-4DDB-B45A-1714D3B2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DE3-C5BB-48F2-82A3-7B00FB9D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4A8-8357-4EF5-8A01-137BD271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E03E-B31A-4971-866E-A4FC4D35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302F-77B5-4FC2-A550-7B4937FD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A0A2-6C30-441E-A342-C9BB3BD7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6D82-3E95-422F-B007-05F62A9C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3BD5-094B-4490-A207-D0218C57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7B33-C7B3-46D7-A4E1-85F7BC22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69A7-12DD-4F63-BF64-59474E3A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1A1-A781-4FFE-9B63-8BEB277B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421F-CD85-47CE-B2C0-64E0BB2A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7130-9BD7-492E-9E5A-FC98C610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7EF4-AD74-4FB9-B63E-6E26E8DE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5CF1-3C1D-4B02-BFBC-FCC5417F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1BDB-3519-469D-AAB5-E00EF7CC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E21-5045-44B3-B88B-164272A2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7FB-8460-4F90-93E5-2FD7E57C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FC7-C556-4150-B930-35B66928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22E-84B2-4664-9EB3-0E4EF49C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AC40-76E9-4F2A-860B-DF736CF2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B12-C9A6-4DEA-9463-9DD63EC2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E56-3843-4657-B65B-DEE07FE0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801D-FFBB-4BFD-B774-2110D250E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43A3-6DBF-456D-8D41-7DD89045BA5A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AC47-7F10-4D73-95B9-8A0830ED8211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Feudalis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94" name="Object 8"/>
          <p:cNvGraphicFramePr/>
          <p:nvPr/>
        </p:nvGraphicFramePr>
        <p:xfrm>
          <a:off x="2743200" y="2362320"/>
          <a:ext cx="358128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5812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E219-C5D3-41BA-8E56-5CD1A6B55483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Knigh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KNIGH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If he lived to the age of adulthood, he was rewarded by being made a knigh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Special ceremony known as dubbin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were expected to follow certain rules known as the code of chivalry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trained for war by fighting each other in tournamen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Arial"/>
              </a:rPr>
              <a:t>Most popular form of entertainment during the Middle Ag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3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1860-BF56-4C39-9917-63EFC7AF8671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orkers on the Mano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most all peasants who worked on feudal manors were serf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– workers bound to the land by contract with the nobles. They also worked their own land and gave a part of their crops to the noble (They had no freedom - they where the noble’s property.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8" name="Object 9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496800" cy="115596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10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925560" cy="105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E045-8E82-4C3C-9FCB-188A564348B9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eudal Contra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2" name="AutoShape 8"/>
          <p:cNvSpPr/>
          <p:nvPr/>
        </p:nvSpPr>
        <p:spPr>
          <a:xfrm rot="17508000">
            <a:off x="2743200" y="23623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478" y="5399"/>
                  <a:pt x="6417" y="6883"/>
                  <a:pt x="5679" y="9084"/>
                </a:cubicBezTo>
                <a:lnTo>
                  <a:pt x="559" y="7369"/>
                </a:lnTo>
                <a:cubicBezTo>
                  <a:pt x="2034" y="2967"/>
                  <a:pt x="6157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 rot="1679400">
            <a:off x="5333760" y="236196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855" y="5399"/>
                  <a:pt x="7060" y="6445"/>
                  <a:pt x="6101" y="8137"/>
                </a:cubicBezTo>
                <a:lnTo>
                  <a:pt x="1403" y="5475"/>
                </a:lnTo>
                <a:cubicBezTo>
                  <a:pt x="3321" y="2091"/>
                  <a:pt x="6910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AutoShape 11"/>
          <p:cNvSpPr/>
          <p:nvPr/>
        </p:nvSpPr>
        <p:spPr>
          <a:xfrm rot="11903400">
            <a:off x="2743200" y="46483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199" y="10795"/>
                </a:moveTo>
                <a:cubicBezTo>
                  <a:pt x="16197" y="7815"/>
                  <a:pt x="13780" y="5400"/>
                  <a:pt x="10800" y="5400"/>
                </a:cubicBezTo>
                <a:cubicBezTo>
                  <a:pt x="8699" y="5399"/>
                  <a:pt x="6790" y="6617"/>
                  <a:pt x="5904" y="8521"/>
                </a:cubicBezTo>
                <a:lnTo>
                  <a:pt x="1008" y="6243"/>
                </a:lnTo>
                <a:cubicBezTo>
                  <a:pt x="2780" y="2435"/>
                  <a:pt x="6599" y="-1"/>
                  <a:pt x="10800" y="0"/>
                </a:cubicBezTo>
                <a:cubicBezTo>
                  <a:pt x="16761" y="0"/>
                  <a:pt x="21595" y="4830"/>
                  <a:pt x="21599" y="10791"/>
                </a:cubicBezTo>
                <a:lnTo>
                  <a:pt x="24299" y="10789"/>
                </a:lnTo>
                <a:lnTo>
                  <a:pt x="18903" y="16193"/>
                </a:lnTo>
                <a:lnTo>
                  <a:pt x="13499" y="10797"/>
                </a:lnTo>
                <a:lnTo>
                  <a:pt x="16199" y="10795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AutoShape 12"/>
          <p:cNvSpPr/>
          <p:nvPr/>
        </p:nvSpPr>
        <p:spPr>
          <a:xfrm rot="5649000">
            <a:off x="5595120" y="4614480"/>
            <a:ext cx="1078200" cy="839880"/>
          </a:xfrm>
          <a:custGeom>
            <a:avLst/>
            <a:gdLst>
              <a:gd name="textAreaLeft" fmla="*/ 157680 w 1078200"/>
              <a:gd name="textAreaRight" fmla="*/ 920520 w 1078200"/>
              <a:gd name="textAreaTop" fmla="*/ 122760 h 839880"/>
              <a:gd name="textAreaBottom" fmla="*/ 717120 h 8398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802" y="5399"/>
                  <a:pt x="6967" y="6503"/>
                  <a:pt x="6030" y="8267"/>
                </a:cubicBezTo>
                <a:lnTo>
                  <a:pt x="1260" y="5735"/>
                </a:lnTo>
                <a:cubicBezTo>
                  <a:pt x="3134" y="2206"/>
                  <a:pt x="6804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4041720" y="2286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3048120" y="3809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3890520" y="541008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VASSAL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410080" y="35053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ROTECTION AND/OR LAND 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7676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725400" y="3429000"/>
            <a:ext cx="40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VICE/PERFORM DUTIES TO/FO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AutoShape 28"/>
          <p:cNvSpPr/>
          <p:nvPr/>
        </p:nvSpPr>
        <p:spPr>
          <a:xfrm>
            <a:off x="3962520" y="3276720"/>
            <a:ext cx="1143000" cy="12189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7153-A3A8-4ADE-A6DB-3336653D4EBD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Line 5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3886200" y="1523880"/>
            <a:ext cx="14479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K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Line 11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Line 13"/>
          <p:cNvSpPr/>
          <p:nvPr/>
        </p:nvSpPr>
        <p:spPr>
          <a:xfrm flipV="1">
            <a:off x="4059000" y="2123640"/>
            <a:ext cx="262440" cy="628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4934160" y="2141640"/>
            <a:ext cx="266040" cy="593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853960" y="2068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2441520" y="205740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4FDF-66E0-48CC-88E0-DBBA5271B82C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eaknesses of the feudal system: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bles could “hold kings hostage” when kings needed soldiers; in effect, they held the power, not the king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jority of people (knights &amp; peasants) were at the bottom of this pyramid of power; but they were barely able to surviv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t was beneficial to the top groups (kings &amp; higher nobles), but they made up a minority of the popu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t didn’t provide opportunities for change/freedom: if you were born a serf, you would live &amp; die as a serf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60CD-8C00-4EBF-A8A0-CF2F6ED55F0A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The relationship between lords and vassals was the main characteristic of the social &amp; political structure of the feudal system                                        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Vassals were people granted land in exchange for certain duties he performed for the lor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ll nobles were ultimately vassals of the king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9" name="Picture 8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3AE8-BE33-4261-9EEF-D48F75D784A7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lationship Between 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ased on ties of loyalty and duty among nobl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could be both lords and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Fiefs (land grants) were given to vassals by lord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Lords gave vassals the right to govern the people who lived on their fief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Lords promised to protect their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reaking the feudal contract could mean loss of lan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A434-46F8-4044-9AA5-3366EC7662EF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Vassals had certain duties to perform for the l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helped the lord in battl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rticipated personally in military service 40 – 60 days a year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Gave money when the lord’s daughters married and when sons were knigh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id the lord’s ransom or took his place if he was captur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ttended the lord’s cour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rovided food and entertainment when the lord visi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7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E84F-914A-4E6B-ACC2-D6A4BC23BD12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 nobles were ultimately vassals of the k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provided the king with knights to form an army for defense and conques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ecause of this, the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power belonged to the noble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Arial"/>
              </a:rPr>
              <a:t>IF all nobles worked TOGETHER, to withhold their knights/military service, they could force the king to do what they wante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2340-5107-4410-9641-CCE178786BA1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eudal Socie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eudal Society was made up of three main groups-nobles, clergy (church officials), and peasants/serf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society was a fairly strict class society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was very difficult (impossible) to change classe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ere born a noble, you’d remain a nobl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ere born a serf, you’d remain a serf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Arial"/>
              </a:rPr>
              <a:t>Most clergy came from the noble class, although occasionally a peasant became a member of the clergy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50CA-23E6-495D-B15E-70E2DAAABFF5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Knigh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bles were the “elite” of feudal societ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there were different “types” of nobl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ost common type of nobles were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be born into nobility, then train to be a knigh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ining began at age 7, as a page, under the guidance of the lady of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me squires at age 15 and were trained by other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ose deemed worthy were “dubbed”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8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E200-AB35-4E38-BE77-EC2066D43730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Pag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GES-started at age of 7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Taught courtly manners, sometimes reading, music, dancing – all the necessities of a noble and they ran errands and served the lady of the manor in retur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Also began serving the knights performing simple task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3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E955-E887-4DCF-B294-65E14057F554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Squir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000"/>
                </a:solidFill>
                <a:latin typeface="Arial"/>
              </a:rPr>
              <a:t>SQUIRES-age of 15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Taught the skills of knighthood, especially horsemanship and combat skill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8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bes John</dc:creator>
  <dc:description/>
  <dc:language>en-US</dc:language>
  <cp:lastModifiedBy>Debes John</cp:lastModifiedBy>
  <dcterms:modified xsi:type="dcterms:W3CDTF">2017-09-19T10:23:27Z</dcterms:modified>
  <cp:revision>41</cp:revision>
  <dc:subject/>
  <dc:title>PowerPoint Presentation</dc:title>
</cp:coreProperties>
</file>