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9433-4DB2-4EA9-B260-8C46769D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489-5967-4B14-8B2D-310765DBF4B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DE5D-90A5-47B3-B3E7-C74E01D0467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6B10-7624-4440-B31A-336314D08C3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0F7-7B8C-42E7-AABE-3393DD6143B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15B9-8455-4F90-AF00-8CD1368D6B4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0742-067B-4A62-8AF1-8C3279C4458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6D81-7431-4B7E-90FB-A1BDE652D81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EBA-BC98-4F57-B8BD-387F92624C8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2F87-F266-4CA0-A63A-9BEDBD6129C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F98-E189-4D50-B340-A89F42AA80A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35160" y="378000"/>
            <a:ext cx="4236840" cy="3178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AD9-5F52-4487-9A22-9A24D08BA21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7199-A9AA-4215-8B17-F8821AC03B6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529C-E7C1-41ED-83F8-799B825C052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FA62-2A2F-4E5E-A99F-6F85802671F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805040" y="681120"/>
            <a:ext cx="3024000" cy="2268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F39-B681-4666-A37B-069EC835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635-BB0F-4E47-80C6-2C2F2B4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123-97D9-4B50-B3D4-EB75CDD6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B82-EBC8-4CCD-AEED-DC1F98C6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D20-A5C4-45B4-ACB5-CD49CDA0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8337-401B-4E0A-AD6F-6777EB49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303-6644-4797-AA2B-57ED32AA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57AB-9B3B-48D8-850E-CB449281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5F9-48BA-4A38-B0DC-49DE1829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D895-F7A9-4B2E-A28B-72D95A95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40B4-EFF0-42B4-8AE1-7A62C7E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A73-9D25-4CEC-B4FF-0E5E828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260-E862-4C89-9112-49608FC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DE28-E935-49F2-9EB5-722C844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8857-3B46-4689-B899-9A7471D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9A6F-F662-4886-A46B-3006B642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BE6-570E-4EFA-BB2A-1990EFA9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832-7D5E-485F-9E4A-E4E96F0D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5C0-5EEC-4E18-A900-5514F8A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29E-CF40-46B8-B0E1-ACA107AE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72D-116A-4D46-93C7-57BFF88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FD0-79B5-41CE-A251-552FD11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46B-327E-47D1-83BF-C517F1B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E36-32AF-4042-ABDA-6D95A83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6D12-A16F-4EDE-BA5E-6C35D358E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9B10-2A4D-495F-86FF-0D8D0AA9D0DB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D25-BA2A-46A1-92FD-8C3BBD5EEC6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is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095E-877D-403E-86A0-34D1DD94038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Almost all peasants who worked on feudal manors were 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Serfs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 – workers bound to the land by contract with the 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 They also worked their own land and gave a part of their crops to the noble (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hey had no freedom - they where the noble’s property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5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C3E-0102-4D86-8D4D-46639954FD6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AutoShape 3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478" y="5400"/>
                  <a:pt x="6417" y="6883"/>
                  <a:pt x="5679" y="9084"/>
                </a:cubicBezTo>
                <a:lnTo>
                  <a:pt x="559" y="7369"/>
                </a:lnTo>
                <a:cubicBezTo>
                  <a:pt x="2034" y="2967"/>
                  <a:pt x="6157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55" y="5400"/>
                  <a:pt x="7060" y="6445"/>
                  <a:pt x="6101" y="8137"/>
                </a:cubicBezTo>
                <a:lnTo>
                  <a:pt x="1403" y="5475"/>
                </a:lnTo>
                <a:cubicBezTo>
                  <a:pt x="3321" y="2091"/>
                  <a:pt x="6910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0795"/>
                </a:moveTo>
                <a:cubicBezTo>
                  <a:pt x="16197" y="7815"/>
                  <a:pt x="13780" y="5400"/>
                  <a:pt x="10800" y="5400"/>
                </a:cubicBezTo>
                <a:cubicBezTo>
                  <a:pt x="8699" y="5400"/>
                  <a:pt x="6790" y="6617"/>
                  <a:pt x="5904" y="8521"/>
                </a:cubicBezTo>
                <a:lnTo>
                  <a:pt x="1008" y="6243"/>
                </a:lnTo>
                <a:cubicBezTo>
                  <a:pt x="2780" y="2435"/>
                  <a:pt x="6599" y="0"/>
                  <a:pt x="10800" y="0"/>
                </a:cubicBezTo>
                <a:cubicBezTo>
                  <a:pt x="16761" y="0"/>
                  <a:pt x="21595" y="4830"/>
                  <a:pt x="21599" y="10791"/>
                </a:cubicBezTo>
                <a:lnTo>
                  <a:pt x="24299" y="10789"/>
                </a:lnTo>
                <a:lnTo>
                  <a:pt x="18903" y="16193"/>
                </a:lnTo>
                <a:lnTo>
                  <a:pt x="13499" y="10797"/>
                </a:lnTo>
                <a:lnTo>
                  <a:pt x="16199" y="10795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157680 w 1078200"/>
              <a:gd name="textAreaRight" fmla="*/ 920520 w 1078200"/>
              <a:gd name="textAreaTop" fmla="*/ 122760 h 839880"/>
              <a:gd name="textAreaBottom" fmla="*/ 717120 h 839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02" y="5400"/>
                  <a:pt x="6967" y="6503"/>
                  <a:pt x="6030" y="8267"/>
                </a:cubicBezTo>
                <a:lnTo>
                  <a:pt x="1260" y="5735"/>
                </a:lnTo>
                <a:cubicBezTo>
                  <a:pt x="3134" y="2206"/>
                  <a:pt x="6804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ERVICE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630-0847-46DD-9078-C77895BDDBD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Picture 4" descr="dd01510_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sy00943a"/>
          <p:cNvPicPr/>
          <p:nvPr/>
        </p:nvPicPr>
        <p:blipFill>
          <a:blip r:embed="rId2"/>
          <a:stretch/>
        </p:blipFill>
        <p:spPr>
          <a:xfrm>
            <a:off x="7086600" y="5062680"/>
            <a:ext cx="1066680" cy="105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F98F-A7A6-4CF8-9865-11053641977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10000"/>
                </a:solidFill>
                <a:uFillTx/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B6D-5EB5-4C60-A200-09EF85A9372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obles could “hold kings hostag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” when kings needed soldiers; in effect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ajority of peop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(knights &amp; peasants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were at the bottom of this pyramid of pow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; but they wer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It was beneficial to the top group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(kings &amp; higher nobles), but they made up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It didn’t provide opportunities for change/freedo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3A9-E0BF-4AC6-9DE9-A25D8A8073F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8" name="Picture 2" descr="pe03511_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CBB-1B3E-4531-B901-3C0710CD3ED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relationship between lords and vassals was the main characteristic of the social &amp; political structure of the feud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Vassal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were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l nobles were ultimately vassals of the king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912-0EA8-44B1-9E1C-F3ADCD0C89A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Based on ties of loyalty and duty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D093-428A-455E-9A11-2625EA8FDA1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236-CF6D-4DA0-8B89-BDC3BCAD0A7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Nobles provided the king with knight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he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real</a:t>
            </a: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5F1B-78C9-46ED-8C1D-84EE4971E59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Knigh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Society made up of three groups – nobles, clergy and peasants, and townspeopl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raining began at age 7, as a pag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Became squires at age 15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040-208F-4F53-A427-FAC78702B8C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Page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PAGES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aught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courtly manners, sometimes reading, music, dancing –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l the necessities of a noble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0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2454-FCA0-40D2-9C8A-76C3DA2CD44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Squire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10000"/>
                </a:solidFill>
                <a:uFillTx/>
                <a:latin typeface="Arial"/>
              </a:rPr>
              <a:t>SQUIRES</a:t>
            </a: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aught the skills of knighthood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Followed knight into battle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F1AD-E2FF-4FAE-BB2C-42BEFCB9C3B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What is a Knigh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If proven to be a good fighter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</a:t>
            </a:r>
            <a:r>
              <a:rPr b="0" i="1" lang="en-US" sz="3200" spc="-1" strike="noStrike" u="sng">
                <a:solidFill>
                  <a:srgbClr val="010000"/>
                </a:solidFill>
                <a:uFillTx/>
                <a:latin typeface="Arial"/>
              </a:rPr>
              <a:t>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bes John</dc:creator>
  <dc:description/>
  <dc:language>en-US</dc:language>
  <cp:lastModifiedBy>Debes John</cp:lastModifiedBy>
  <dcterms:modified xsi:type="dcterms:W3CDTF">2015-10-16T10:00:06Z</dcterms:modified>
  <cp:revision>32</cp:revision>
  <dc:subject/>
  <dc:title>PowerPoint Presentation</dc:title>
</cp:coreProperties>
</file>