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6172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AA2C-AD8A-4555-B0D4-208AB0AD5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9699-306B-4726-BFF4-1D6C6D3506E0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AF29-2ECB-4C20-A749-52BDBAF797D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two groups of workers o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em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d a skill needed by others o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d seneschals and bailiffs who helped ru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neschals looked after f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visiting each regul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ailif made sure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wns (called shires) also h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ce-keepers know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f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work the noble’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worked their own land and gave a part of their crops to the 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no freedom – they were the noble’s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sants had no political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37D7-DDC1-4899-8B69-EE0021B22D4D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CCB4-CF8B-40A9-8CDE-8807CFA454C2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84AB-6DF5-482D-895F-E51A9FB1AA5D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1948-A1FC-43B0-901C-DD2EF2A32DC2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6FC6-4D74-443B-8E66-FC3212868924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35160" y="378000"/>
            <a:ext cx="4236840" cy="3178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lords and vassals made up a big part of the political and social structure of the feudal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8FF8-A11E-4380-A73C-5307B0BDB0CB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35160" y="378000"/>
            <a:ext cx="4236840" cy="31780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ies of loyalty and duty among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s were both lords and vas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were made official by the “act of homag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fs were given to vassals by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s gave vassals the right to govern the people who lived on their f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s promised to give protection to the vas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the feudal contract could mean loss of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CEE6-6EE1-4EE9-84B9-89F9707EE3EA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35160" y="378000"/>
            <a:ext cx="4236840" cy="31780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sals had certain duties to perform for the l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the lord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d personally in military service 40 – 60 days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ney when the lord’s daughters married and when sons were kn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d the lord’s ransom or took his place if he was cap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ded the lord’s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d food and entertainment when the lord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FC38-39EA-49B5-BECD-56CBAA575599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35160" y="378000"/>
            <a:ext cx="4236840" cy="3178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bles were ultimately vassals of the 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s provided the king with knights to form an army for defense and con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is,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wer belonged to the no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8118-6908-4EC5-93B3-EDBF32367AF9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805040" y="681120"/>
            <a:ext cx="3024000" cy="2268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nobles were kn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y made up of three groups – nobles, clergy and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own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A962-5272-40EC-BA91-DB8C4AAF620B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805040" y="681120"/>
            <a:ext cx="3024000" cy="2268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’s tr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t age 7 as a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guidance of the lady of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ught courtly manners, sometimes reading, music, dancing –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cessities of a 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n errands and served her in 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began serving the knights performing simp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8394-4EC2-4E22-9D2A-23DF8CBFBE90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805040" y="681120"/>
            <a:ext cx="3024000" cy="2268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squire at age 15 and placed under guidance of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ught the skills of knighthood, especially horsemanship and combat sk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llowed knight into battle and  helped him if he was wounded or fell off his h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roven to be a good fighter he was rewarded by being made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ecial ceremony known as dubb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were expected to follow certain rules known as the code of chi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trained for war by fighting each other in tourn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r form of entertainment during 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event was jo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E605-3FA8-448B-9517-0575A760EC3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805040" y="681120"/>
            <a:ext cx="3024000" cy="2268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roven to be a good fighter he was rewarded by being made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ecial ceremony known as dubb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were expected to follow certain rules known as the code of chi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trained for war by fighting each other in tourn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r form of entertainment during 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event was jo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3151-C82F-45CC-AF50-46C98808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6E53-106B-44EF-8F3E-6B1F0E39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7C77-9B5B-4881-B6ED-DB9E77A1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76B-03B5-40BA-82C4-01EF7C5E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885D-9F61-4E22-B8B0-5A7E0511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54E5-2070-4E86-A2D6-3C785C87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9B21-51E2-4430-99D9-5793A2BD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22A2-14B3-4DC8-A867-A4D4E45F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E887-4DF5-4135-80B2-89E11ED3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AE92-2406-40C0-8E28-800A259E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577E-5A31-48A5-B60A-9385D500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CB5E-2643-49E3-85BD-61072DAD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930B-940D-4597-A035-40FB4AED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9479-E865-48BC-82CB-292EF50F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C3D4-D6E2-4DB0-A70B-21EAB8BB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9DBF-C11A-44DC-B694-B7D0E7A5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744E-844B-425F-AFCB-CB5278B9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360-BD65-40DA-A42C-BA9FF3D6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F6C6-9A7D-4918-97B9-16791935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13BC-4C56-4EDC-9B3D-988D48ED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5C6A-E1C0-4785-AA44-D29EE40E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A69A-4CC3-449B-B051-DD024B6B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B5C3-4065-45EB-8437-552E0B11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569-1574-4C0F-B369-C43FB312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0801-3577-4BEE-A685-08C9EEA7A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A539-E985-4F07-B7B3-BC499A5568EA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E582-6A29-4597-A405-7C50672B75BE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Feudalis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94" name="Object 8"/>
          <p:cNvGraphicFramePr/>
          <p:nvPr/>
        </p:nvGraphicFramePr>
        <p:xfrm>
          <a:off x="2743200" y="2362320"/>
          <a:ext cx="358128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362320"/>
                    <a:ext cx="358128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27DC-E216-4315-886C-15A49F6C2895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Workers on the Mano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Almost all peasants who worked on feudal manors were serf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Serfs</a:t>
            </a: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 – workers bound to the land by contract with the nob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 They also worked their own land and gave a part of their crops to the noble (</a:t>
            </a: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They had no freedom - they where the noble’s property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5" name="Object 4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496800" cy="1155960"/>
          </a:xfrm>
          <a:prstGeom prst="rect">
            <a:avLst/>
          </a:prstGeom>
          <a:ln w="0">
            <a:noFill/>
          </a:ln>
        </p:spPr>
      </p:pic>
      <p:pic>
        <p:nvPicPr>
          <p:cNvPr id="136" name="Object 5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925560" cy="1052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DB4F-5591-4575-9CC9-192691AD28E3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eudal Contra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9" name="AutoShape 3"/>
          <p:cNvSpPr/>
          <p:nvPr/>
        </p:nvSpPr>
        <p:spPr>
          <a:xfrm rot="17508000">
            <a:off x="2743200" y="236232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8478" y="5400"/>
                  <a:pt x="6417" y="6883"/>
                  <a:pt x="5679" y="9084"/>
                </a:cubicBezTo>
                <a:lnTo>
                  <a:pt x="559" y="7369"/>
                </a:lnTo>
                <a:cubicBezTo>
                  <a:pt x="2034" y="2967"/>
                  <a:pt x="6157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AutoShape 4"/>
          <p:cNvSpPr/>
          <p:nvPr/>
        </p:nvSpPr>
        <p:spPr>
          <a:xfrm rot="1679400">
            <a:off x="5333760" y="236196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8855" y="5400"/>
                  <a:pt x="7060" y="6445"/>
                  <a:pt x="6101" y="8137"/>
                </a:cubicBezTo>
                <a:lnTo>
                  <a:pt x="1403" y="5475"/>
                </a:lnTo>
                <a:cubicBezTo>
                  <a:pt x="3321" y="2091"/>
                  <a:pt x="6910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AutoShape 5"/>
          <p:cNvSpPr/>
          <p:nvPr/>
        </p:nvSpPr>
        <p:spPr>
          <a:xfrm rot="11903400">
            <a:off x="2743200" y="464832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199" y="10795"/>
                </a:moveTo>
                <a:cubicBezTo>
                  <a:pt x="16197" y="7815"/>
                  <a:pt x="13780" y="5400"/>
                  <a:pt x="10800" y="5400"/>
                </a:cubicBezTo>
                <a:cubicBezTo>
                  <a:pt x="8699" y="5400"/>
                  <a:pt x="6790" y="6617"/>
                  <a:pt x="5904" y="8521"/>
                </a:cubicBezTo>
                <a:lnTo>
                  <a:pt x="1008" y="6243"/>
                </a:lnTo>
                <a:cubicBezTo>
                  <a:pt x="2780" y="2435"/>
                  <a:pt x="6599" y="0"/>
                  <a:pt x="10800" y="0"/>
                </a:cubicBezTo>
                <a:cubicBezTo>
                  <a:pt x="16761" y="0"/>
                  <a:pt x="21595" y="4830"/>
                  <a:pt x="21599" y="10791"/>
                </a:cubicBezTo>
                <a:lnTo>
                  <a:pt x="24299" y="10789"/>
                </a:lnTo>
                <a:lnTo>
                  <a:pt x="18903" y="16193"/>
                </a:lnTo>
                <a:lnTo>
                  <a:pt x="13499" y="10797"/>
                </a:lnTo>
                <a:lnTo>
                  <a:pt x="16199" y="10795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 rot="5649000">
            <a:off x="5595120" y="4614480"/>
            <a:ext cx="1078200" cy="839880"/>
          </a:xfrm>
          <a:custGeom>
            <a:avLst/>
            <a:gdLst>
              <a:gd name="textAreaLeft" fmla="*/ 157680 w 1078200"/>
              <a:gd name="textAreaRight" fmla="*/ 920520 w 1078200"/>
              <a:gd name="textAreaTop" fmla="*/ 122760 h 839880"/>
              <a:gd name="textAreaBottom" fmla="*/ 717120 h 8398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8802" y="5400"/>
                  <a:pt x="6967" y="6503"/>
                  <a:pt x="6030" y="8267"/>
                </a:cubicBezTo>
                <a:lnTo>
                  <a:pt x="1260" y="5735"/>
                </a:lnTo>
                <a:cubicBezTo>
                  <a:pt x="3134" y="2206"/>
                  <a:pt x="6804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041720" y="2286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L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048120" y="3809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890520" y="541008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VASSAL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410080" y="3505320"/>
            <a:ext cx="244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GI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PROTECTION 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7676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2364840" y="3429000"/>
            <a:ext cx="152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GIVE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SERVICE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AutoShape 13"/>
          <p:cNvSpPr/>
          <p:nvPr/>
        </p:nvSpPr>
        <p:spPr>
          <a:xfrm>
            <a:off x="3962520" y="3276720"/>
            <a:ext cx="1143000" cy="121896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DA1D-C164-45AF-A30F-255ADF639835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STRUCTING THE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PYRAMID OR POW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3" name="Picture 4" descr="dd01510_"/>
          <p:cNvPicPr/>
          <p:nvPr/>
        </p:nvPicPr>
        <p:blipFill>
          <a:blip r:embed="rId1"/>
          <a:stretch/>
        </p:blipFill>
        <p:spPr>
          <a:xfrm>
            <a:off x="1905120" y="1905120"/>
            <a:ext cx="4876560" cy="4213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sy00943a"/>
          <p:cNvPicPr/>
          <p:nvPr/>
        </p:nvPicPr>
        <p:blipFill>
          <a:blip r:embed="rId2"/>
          <a:stretch/>
        </p:blipFill>
        <p:spPr>
          <a:xfrm>
            <a:off x="7086600" y="5062680"/>
            <a:ext cx="1066680" cy="1055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04E0-AA44-4544-8B4A-57DC243348C1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NSTRUCTING THE PYRAMID OF POWE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895480" y="4191120"/>
            <a:ext cx="358164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LESSER 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(KNIGHTS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Line 5"/>
          <p:cNvSpPr/>
          <p:nvPr/>
        </p:nvSpPr>
        <p:spPr>
          <a:xfrm flipV="1">
            <a:off x="2850120" y="4934160"/>
            <a:ext cx="396000" cy="7225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Line 6"/>
          <p:cNvSpPr/>
          <p:nvPr/>
        </p:nvSpPr>
        <p:spPr>
          <a:xfrm>
            <a:off x="6044760" y="4863240"/>
            <a:ext cx="407520" cy="7891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1678680" y="515160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10000"/>
                </a:solidFill>
                <a:uFillTx/>
                <a:latin typeface="Times New Roman"/>
              </a:rPr>
              <a:t>LAB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6478560" y="515160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10000"/>
                </a:solidFill>
                <a:uFillTx/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352680" y="2819520"/>
            <a:ext cx="27432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POWERFU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3886200" y="1523880"/>
            <a:ext cx="144792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K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Line 11"/>
          <p:cNvSpPr/>
          <p:nvPr/>
        </p:nvSpPr>
        <p:spPr>
          <a:xfrm flipV="1">
            <a:off x="3524040" y="3496320"/>
            <a:ext cx="267120" cy="62676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Line 12"/>
          <p:cNvSpPr/>
          <p:nvPr/>
        </p:nvSpPr>
        <p:spPr>
          <a:xfrm>
            <a:off x="5466960" y="3514680"/>
            <a:ext cx="343800" cy="66708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Line 13"/>
          <p:cNvSpPr/>
          <p:nvPr/>
        </p:nvSpPr>
        <p:spPr>
          <a:xfrm flipV="1">
            <a:off x="4059000" y="2123640"/>
            <a:ext cx="262440" cy="6289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Line 14"/>
          <p:cNvSpPr/>
          <p:nvPr/>
        </p:nvSpPr>
        <p:spPr>
          <a:xfrm>
            <a:off x="4934160" y="2141640"/>
            <a:ext cx="266040" cy="59364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2438280" y="5638680"/>
            <a:ext cx="44197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SERFS AND FRE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6402600" y="3429000"/>
            <a:ext cx="128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10000"/>
                </a:solidFill>
                <a:uFillTx/>
                <a:latin typeface="Times New Roman"/>
              </a:rPr>
              <a:t>LAND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10000"/>
                </a:solidFill>
                <a:uFillTx/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5853960" y="206856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10000"/>
                </a:solidFill>
                <a:uFillTx/>
                <a:latin typeface="Times New Roman"/>
              </a:rPr>
              <a:t>L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2441520" y="2057400"/>
            <a:ext cx="144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10000"/>
                </a:solidFill>
                <a:uFillTx/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10000"/>
                </a:solidFill>
                <a:uFillTx/>
                <a:latin typeface="Times New Roman"/>
              </a:rPr>
              <a:t>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1372680" y="350532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10000"/>
                </a:solidFill>
                <a:uFillTx/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10000"/>
                </a:solidFill>
                <a:uFillTx/>
                <a:latin typeface="Times New Roman"/>
              </a:rPr>
              <a:t>MILITARY 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D258-CAAC-41BD-826B-19C19FDDE8C6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eaknesses of the feudal system: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Nobles could “hold kings hostag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” when kings needed soldiers; in effect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they held the power, not the king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Majority of peopl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(knights &amp; peasants)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were at the bottom of this pyramid of power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; but they wer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barely able to surviv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It was beneficial to the top group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(kings &amp; higher nobles), but they made up a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minority of the popul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It didn’t provide opportunities for change/freedom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: if you were born a serf, you would live &amp; die as a serf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DC4A-565E-49C3-8537-51BFB3F089BA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78" name="Picture 2" descr="pe03511_"/>
          <p:cNvPicPr/>
          <p:nvPr/>
        </p:nvPicPr>
        <p:blipFill>
          <a:blip r:embed="rId1"/>
          <a:stretch/>
        </p:blipFill>
        <p:spPr>
          <a:xfrm>
            <a:off x="2743200" y="2286000"/>
            <a:ext cx="3767040" cy="3468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1447920" y="114300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99"/>
                </a:solidFill>
                <a:latin typeface="Storybook"/>
              </a:rPr>
              <a:t>THE END</a:t>
            </a:r>
            <a:endParaRPr b="0" lang="en-US" sz="9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 flipV="1" rot="19285200">
            <a:off x="5310000" y="2911680"/>
            <a:ext cx="6408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HISTOR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NOTE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18AC-DE13-4A3D-BE87-4146CF667914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Lords and Vassa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relationship between lords and vassals was the main characteristic of the social &amp; political structure of the feudal system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Vassals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 were </a:t>
            </a: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people granted land in exchange for certain duties he performed for the lor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All nobles were ultimately vassals of the king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9" name="Picture 4" descr="pe02994_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0FC7-A359-4AA8-BB0D-383623D92967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Relationship Between Lords and Vassa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Based on ties of loyalty and duty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 among noble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Nobles could be both lords and vassal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Fiefs (land grants) were given to vassals by lord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Lords gave vassals the right to govern the people who lived on their fief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Lords promised to protect their vassal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Breaking the feudal contract could mean loss of lan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3" name="Picture 4" descr="pe02994_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5258-0CCF-493F-AC3C-1E4C5D426290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Vassals had certain duties to perform for the l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Nobles helped the lord in battl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Participated personally in military service 40 – 60 days a year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Gave money when the lord’s daughters married and when sons were knighte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aid the lord’s ransom or took his place if he was capture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Attended the lord’s cour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rovided food and entertainment when the lord visite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7" name="Picture 4" descr="pe02994_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F4F7-1FB7-458E-AA0A-98984666CF31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All nobles were ultimately vassals of the k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Nobles provided the king with knights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 to form an army for defense and conques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Because of this, </a:t>
            </a: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the </a:t>
            </a:r>
            <a:r>
              <a:rPr b="0" i="1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real</a:t>
            </a: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 power belonged to the noble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1" name="Picture 4" descr="pe02994_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8C37-022F-4D91-8B90-5B9430305A7A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What is a Knight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Society made up of three groups – nobles, clergy and peasants, and townspeopl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Almost all nobles were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Training began at age 7, as a pag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under the guidance of the lady of the mano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Became squires at age 15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were trained by other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Those deemed worthy were “dubbed”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5" name="Picture 4" descr="bd05101_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d05101_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007B-67D1-489A-AF6F-9EF908821300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What is a Page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PAGES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-started at age of 7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Taught 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courtly manners, sometimes reading, music, dancing – </a:t>
            </a:r>
            <a:r>
              <a:rPr b="0" i="1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all the necessities of a noble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 and they ran errands and served the lady of the manor in return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Also began serving the knights performing simple task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0" name="Picture 4" descr="bd05101_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bd05101_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F85B-06DB-4C88-8113-8486A54D1E92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What is a Squire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10000"/>
                </a:solidFill>
                <a:uFillTx/>
                <a:latin typeface="Arial"/>
              </a:rPr>
              <a:t>SQUIRES</a:t>
            </a:r>
            <a:r>
              <a:rPr b="0" lang="en-US" sz="3600" spc="-1" strike="noStrike">
                <a:solidFill>
                  <a:srgbClr val="010000"/>
                </a:solidFill>
                <a:latin typeface="Arial"/>
              </a:rPr>
              <a:t>-age of 15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Taught the skills of knighthood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, especially horsemanship and combat skill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- </a:t>
            </a:r>
            <a:r>
              <a:rPr b="0" i="1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Followed knight into battle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 and  helped him if he was wounded or fell off his hors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5" name="Picture 4" descr="bd05101_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bd05101_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0E25-E816-48BC-924D-B00F07C55810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What is a Knight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KNIGHT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If proven to be a good fighter he was rewarded by being made a knigh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Special ceremony known as dubbing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Knights were </a:t>
            </a:r>
            <a:r>
              <a:rPr b="0" i="1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expected to follow certain rules known as the code of chivalry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Knights </a:t>
            </a:r>
            <a:r>
              <a:rPr b="0" i="1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trained for war by fighting each other in tournament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Most popular form of entertainment during the Middle Age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0" name="Picture 4" descr="bd05101_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bd05101_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bes John</dc:creator>
  <dc:description/>
  <dc:language>en-US</dc:language>
  <cp:lastModifiedBy>Debes John</cp:lastModifiedBy>
  <dcterms:modified xsi:type="dcterms:W3CDTF">2015-10-16T10:00:06Z</dcterms:modified>
  <cp:revision>32</cp:revision>
  <dc:subject/>
  <dc:title>PowerPoint Presentation</dc:title>
</cp:coreProperties>
</file>