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230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230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028A-43AC-471E-BA2C-A91430C84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two groups of workers o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em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d a skill needed by others o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d seneschals and bailiffs who helped ru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neschals looked after fi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visiting each regul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ailif made sure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wns (called shires) also h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ce-keepers know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f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work the noble’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worked their own land and gave a part of their crops to the no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no freedom – they were the noble’s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sants had no political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33360" y="378000"/>
            <a:ext cx="4238640" cy="3178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lords and vassals made up a big part of the political and social structure of the feudal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33360" y="378000"/>
            <a:ext cx="4238640" cy="3178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ies of loyalty and duty among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s were both lords and vas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were made official by the “act of homag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fs were given to vassals by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ds gave vassals the right to govern the people who lived on their fi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ds promised to give protection to the vas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ing the feudal contract could mean loss of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33360" y="378000"/>
            <a:ext cx="4238640" cy="3178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sals had certain duties to perform for the l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the lord in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ted personally in military service 40 – 60 days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money when the lord’s daughters married and when sons were knigh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d the lord’s ransom or took his place if he was cap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ded the lord’s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d food and entertainment when the lord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33360" y="378000"/>
            <a:ext cx="4238640" cy="3178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bles were ultimately vassals of the 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s provided the king with knights to form an army for defense and con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is,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wer belonged to the no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803240" y="681120"/>
            <a:ext cx="3024360" cy="2268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nobles were kn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y made up of three groups – nobles, clergy and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own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803240" y="681120"/>
            <a:ext cx="3024360" cy="2268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’s tr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at age 7 as a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guidance of the lady of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ught courtly manners, sometimes reading, music, dancing –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cessities of a no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n errands and served her in re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began serving the knights performing simp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803240" y="681120"/>
            <a:ext cx="3024360" cy="2268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squire at age 15 and placed under guidance of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ught the skills of knighthood, especially horsemanship and combat sk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llowed knight into battle and  helped him if he was wounded or fell off his h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proven to be a good fighter he was rewarded by being made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ecial ceremony known as dubb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were expected to follow certain rules known as the code of chi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trained for war by fighting each other in tourn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r form of entertainment during 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event was jo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803240" y="681120"/>
            <a:ext cx="3024360" cy="2268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proven to be a good fighter he was rewarded by being made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ecial ceremony known as dubb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were expected to follow certain rules known as the code of chi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trained for war by fighting each other in tourn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r form of entertainment during 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event was jo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5A72-317D-4D60-95A9-A28BF6D8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EDA5-6C41-449C-AA10-F2FF0D4D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2B04-7A01-44BC-8DCA-594785B3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5CC-E622-4EDC-9DD6-E9CB515D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F3E2-ADF4-4D15-9B16-503EB5EC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333E-AA5C-4AD8-99A0-48E47B4E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C187-CBD1-435C-99B4-2E0BB663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4373-CC96-4719-9EF4-D08D59CC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C185-5811-4C50-8B2D-3AFEC633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88B3-03A2-4077-A5A7-E901F07E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94E9-CDB3-4884-8375-8CC23987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31A2-683B-4266-8DEA-30A95760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44E2-ADB0-477A-A2BE-BF31170A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1D6D-B191-46AB-929B-D97C3D87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B610-5C68-46C0-BDEF-81B0036D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3B0F-D393-4209-A13C-995DE0BF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3EA8-5C0B-4910-97D7-9D1605AC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C175-0356-47F6-A969-E2B74F0B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1A1E-79BD-4130-A750-F46E15B1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1B0D-70F6-4629-9DD8-73B1DA52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FC89-D651-4EE6-9113-AEA908D8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B9E1-4CA2-4179-96FA-B569B788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7790-0A74-44DB-B7CB-BA42A174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D440-72B5-4195-B6FE-BAEBDDC8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A678-E8E2-4518-864C-D7003D130773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C9F2-1248-46A2-9AF3-F8484F4B6E17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Feudal Society</a:t>
            </a:r>
            <a:br>
              <a:rPr sz="6600"/>
            </a:b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Political Structur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743200" y="2362320"/>
          <a:ext cx="358128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362320"/>
                    <a:ext cx="358128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25AA-2CB5-4C14-B176-83263107BA5B}" type="slidenum">
              <a:t>1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orkers on the Mano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most all peasants who worked on feudal manors were serf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rf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– workers bound to the land by contract with the nobles. They also worked their own land and gave a part of their crops to the noble (They had no freedom - they where the noble’s property.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496800" cy="1155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925560" cy="105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240F-28B3-4769-8E85-09E5CAA46D94}" type="slidenum">
              <a:t>10</a:t>
            </a:fld>
          </a:p>
        </p:txBody>
      </p:sp>
    </p:spTree>
  </p:cSld>
  <p:transition>
    <p:dissolv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eudal Contra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 rot="17508000">
            <a:off x="2743200" y="236232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9688669"/>
                <a:lnTo>
                  <a:pt x="559" y="7369"/>
                </a:lnTo>
                <a:arcTo wR="10800" hR="10800" stAng="-9688669" swAng="9688669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79400">
            <a:off x="5333760" y="236196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9027850"/>
                <a:lnTo>
                  <a:pt x="1403" y="5476"/>
                </a:lnTo>
                <a:arcTo wR="10800" hR="10800" stAng="-9027850" swAng="902785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1903400">
            <a:off x="2743200" y="464832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4"/>
                </a:moveTo>
                <a:arcTo wR="-5500" hR="-5500" stAng="10797453" swAng="-9300089"/>
                <a:lnTo>
                  <a:pt x="1008" y="6243"/>
                </a:lnTo>
                <a:arcTo wR="10800" hR="10800" stAng="-9302636" swAng="9300089"/>
                <a:lnTo>
                  <a:pt x="24300" y="10790"/>
                </a:lnTo>
                <a:lnTo>
                  <a:pt x="18954" y="16144"/>
                </a:lnTo>
                <a:lnTo>
                  <a:pt x="13600" y="10798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649000">
            <a:off x="5595120" y="4614480"/>
            <a:ext cx="1078200" cy="839880"/>
          </a:xfrm>
          <a:custGeom>
            <a:avLst/>
            <a:gdLst>
              <a:gd name="textAreaLeft" fmla="*/ 0 w 1078200"/>
              <a:gd name="textAreaRight" fmla="*/ 1078200 w 107820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9122183"/>
                <a:lnTo>
                  <a:pt x="1261" y="5736"/>
                </a:lnTo>
                <a:arcTo wR="10800" hR="10800" stAng="-9122183" swAng="9122183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41720" y="2286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L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3809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90520" y="541008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VASSAL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3505320"/>
            <a:ext cx="244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GI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PROTECTION 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47676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64840" y="3429000"/>
            <a:ext cx="152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GIVE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ERVICE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3276720"/>
            <a:ext cx="1143000" cy="121896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5FC1-6BC3-4252-9A48-7F923F4249E4}" type="slidenum">
              <a:t>11</a:t>
            </a:fld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ONSTRUCTING THE PYRAMID OF POWER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4191120"/>
            <a:ext cx="358164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LESSER 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(KNIGHTS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850120" y="4934160"/>
            <a:ext cx="396000" cy="7225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44760" y="4863240"/>
            <a:ext cx="407520" cy="7891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8680" y="515160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B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8560" y="515160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2819520"/>
            <a:ext cx="27432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POWERFU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1523880"/>
            <a:ext cx="144792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K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524040" y="3496320"/>
            <a:ext cx="267120" cy="62676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66960" y="3514680"/>
            <a:ext cx="343800" cy="66708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059000" y="2123640"/>
            <a:ext cx="262440" cy="6289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34160" y="2141640"/>
            <a:ext cx="266040" cy="59364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5638680"/>
            <a:ext cx="441972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ERFS AND FREEM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2600" y="3429000"/>
            <a:ext cx="128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ND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53960" y="206856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41520" y="2057400"/>
            <a:ext cx="144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OYALTY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SERVIC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2680" y="350532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OYALTY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MILITARY SERVIC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71B0-F7DD-4AC1-A65D-1A056DED4506}" type="slidenum">
              <a:t>12</a:t>
            </a:fld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eaknesses of the feudal system: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obles could “hold kings hostage” when kings needed soldiers; in effect, they held the power, not the king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jority of people (knights &amp; peasants) were at the bottom of this pyramid of power; but they were barely able to surviv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t was beneficial to the top groups (kings &amp; higher nobles), but they made up a minority of the popul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t didn’t provide opportunities for change/freedom: if you were born a serf, you would live &amp; die as a serf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DBEE-B08E-4DBC-BF23-DD8E23EE10BD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3767040" cy="34686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447920" y="114300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99"/>
                </a:solidFill>
                <a:latin typeface="Storybook"/>
              </a:rPr>
              <a:t>THE END</a:t>
            </a:r>
            <a:endParaRPr b="0" lang="en-US" sz="9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 rot="19285200">
            <a:off x="5310000" y="2911680"/>
            <a:ext cx="6408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HISTOR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NOTES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254C-36F7-43B7-9553-2F46E4019E81}" type="slidenum">
              <a:t>14</a:t>
            </a:fld>
          </a:p>
        </p:txBody>
      </p:sp>
    </p:spTree>
  </p:cSld>
  <p:transition>
    <p:dissolv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rds and Vassa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The relationship between lords and vassals was the main characteristic of the social &amp; political structure of the feudal system                                        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Vassals were people granted land in exchange for certain duties he performed for the lor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All nobles were ultimately vassals of the king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B1AC-BB03-45D0-89F2-4C7C5A2C5BC9}" type="slidenum">
              <a:t>2</a:t>
            </a:fld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lationship Between Lords and Vassa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Based on ties of loyalty and duty among noble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Nobles could be both lords and vassal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Fiefs (land grants) were given to vassals by lord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Lords gave vassals the right to govern the people who lived on their fief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Lords promised to protect their vassal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Breaking the feudal contract could mean loss of lan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30F6-6FA0-4C61-9FAC-AB5336844644}" type="slidenum">
              <a:t>3</a:t>
            </a:fld>
          </a:p>
        </p:txBody>
      </p:sp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Vassals had certain duties to perform for the l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Nobles helped the lord in battl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Participated personally in military service 40 – 60 days a year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Gave money when the lord’s daughters married and when sons were knighte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Paid the lord’s ransom or took his place if he was capture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Attended the lord’s cour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Provided food and entertainment when the lord visite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C9B2-544F-458F-8365-0607B1923316}" type="slidenum">
              <a:t>4</a:t>
            </a:fld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 nobles were ultimately vassals of the k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Nobles provided the king with knights to form an army for defense and conques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Because of this, the 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real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 power belonged to the noble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9247-33C1-4925-9A0F-C2EA191EEB5F}" type="slidenum">
              <a:t>5</a:t>
            </a:fld>
          </a:p>
        </p:txBody>
      </p:sp>
    </p:spTree>
  </p:cSld>
  <p:transition>
    <p:dissolv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a Knigh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ciety made up of three groups – nobles, clergy and peasants, and townspeople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most all nobles were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ining began at age 7, as a page, under the guidance of the lady of the mano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me squires at age 15 and were trained by other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ose deemed worthy were “dubbed”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F7CD-64CA-474F-9095-727128353A66}" type="slidenum">
              <a:t>6</a:t>
            </a:fld>
          </a:p>
        </p:txBody>
      </p:sp>
    </p:spTree>
  </p:cSld>
  <p:transition>
    <p:dissolv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a Pag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PAGES-started at age of 7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Taught courtly manners, sometimes reading, music, dancing – all the necessities of a noble and they ran errands and served the lady of the manor in return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Also began serving the knights performing simple task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C17D-3D1E-4437-80F2-518C37B8950A}" type="slidenum">
              <a:t>7</a:t>
            </a:fld>
          </a:p>
        </p:txBody>
      </p:sp>
    </p:spTree>
  </p:cSld>
  <p:transition>
    <p:dissolv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a Squir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0000"/>
                </a:solidFill>
                <a:latin typeface="Arial"/>
              </a:rPr>
              <a:t>SQUIRES-age of 15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Taught the skills of knighthood, especially horsemanship and combat skill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- Followed knight into battle and  helped him if he was wounded or fell off his hors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A4C0-A73C-4180-AF69-43380F83BC21}" type="slidenum">
              <a:t>8</a:t>
            </a:fld>
          </a:p>
        </p:txBody>
      </p:sp>
    </p:spTree>
  </p:cSld>
  <p:transition>
    <p:dissolv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a Knigh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KNIGHT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If proven to be a good fighter he was rewarded by being made a knigh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Special ceremony known as dubbing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Knights were expected to follow certain rules known as the code of chivalry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Knights trained for war by fighting each other in tournament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Most popular form of entertainment during the Middle Age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6B12-6A8A-4A40-9C18-E1122ED69032}" type="slidenum">
              <a:t>9</a:t>
            </a:fld>
          </a:p>
        </p:txBody>
      </p:sp>
    </p:spTree>
  </p:cSld>
  <p:transition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5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besJ</cp:lastModifiedBy>
  <dcterms:modified xsi:type="dcterms:W3CDTF">2012-10-11T10:41:48Z</dcterms:modified>
  <cp:revision>30</cp:revision>
  <dc:subject/>
  <dc:title>PowerPoint Presentation</dc:title>
</cp:coreProperties>
</file>