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C030-CC6C-4FEC-A025-3354A3D71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EA6-1E11-4FAC-8DEB-F0ECFCA4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222-3746-4A7F-B26F-234ECFB5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508-81EF-40C7-8ACD-209D245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784-F9ED-4954-B9F8-38F801D8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B7CE-063A-4587-8553-F5FB643E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1C88-B683-47DE-A221-7FD95E0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34C6-9684-44DD-9E25-43BECAA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551F-DB7D-4A1D-BF8E-A6AF9B04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3833-9582-486E-B000-B0E90ADC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9E51-2B1C-4623-9FC7-77E3DBA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FD1F-1099-4DC7-952B-0078F1E5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015-C2A4-4F19-B892-6ABD2CA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6B6-40B9-4665-9834-079BB32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2C08-18A8-4852-8393-7F7A55E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BBC9-A839-462F-90B9-2AEAE46E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CB46-CBCD-4A60-91B5-2BBCCCE8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EE2-32BD-432E-92AF-1E2E3520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751-57E5-4B6E-83EF-14E27E5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B99-00F8-4054-A5C3-4E86A59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D57-3D17-4D57-8DF1-2B5DD13E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41A-3636-4FF3-B90A-2C0BB619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491-752B-4FFF-B803-D14113F3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2E8-BFAF-49FE-9F34-270F4850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A8D-42FC-43C1-8053-123971B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22B-A225-4D2E-9C15-E84CE2567BC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45E6-0599-464B-A8A2-4B40C904A35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7AFA-803C-4E25-8513-1982D8DCD68D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peasants who worked on feudal manors were serf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They also worked their own land and gave a part of their crops to the noble (They had no freedom - they where the noble’s property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CF2-BB0D-4083-AF63-1807C5531AE6}" type="slidenum">
              <a:t>10</a:t>
            </a:fld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9D7-E943-43AF-B069-6D0FB1DDC86C}" type="slidenum">
              <a:t>11</a:t>
            </a:fld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5BE-0A54-4F05-BFB8-CDD096AD4F00}" type="slidenum">
              <a:t>12</a:t>
            </a:fld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les could “hold kings hostage” when kings needed soldiers; in effect, 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jority of people (knights &amp; peasants) were at the bottom of this pyramid of power; but they were 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was beneficial to the top groups (kings &amp; higher nobles), but they made up a 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didn’t provide opportunities for change/freedom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C6E-982F-471E-893D-05CB6BE7782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CC8-36F8-45E1-AF76-1A383D384079}" type="slidenum">
              <a:t>14</a:t>
            </a:fld>
          </a:p>
        </p:txBody>
      </p:sp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relationship between lords and vassals was the main characteristic of the social &amp; political structure of the feudal system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Vassals were 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ll nobles were ultimately vassals of the 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048-1D2D-4D26-BF8B-640B9501653D}" type="slidenum">
              <a:t>2</a:t>
            </a:fld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ased on ties of loyalty and duty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B66-938B-4DC2-9794-6F6CC184D885}" type="slidenum">
              <a:t>3</a:t>
            </a:fld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EB3-2058-48CF-9D6D-35796D9481C4}" type="slidenum">
              <a:t>4</a:t>
            </a:fld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provided the king with knights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the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57D-DE3D-4481-9718-E751A5CCE4D4}" type="slidenum">
              <a:t>5</a:t>
            </a:fld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ciety made up of three groups – nobles, clergy and peasants, and townspeopl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682-CE0E-4C7B-A96B-3720012FCD44}" type="slidenum">
              <a:t>6</a:t>
            </a:fld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Pag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GES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courtly manners, sometimes reading, music, dancing – all the necessities of a noble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1FD-A1BE-4B6E-83B1-90AA50C13F9E}" type="slidenum">
              <a:t>7</a:t>
            </a:fld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Squir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SQUIRES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the skills of knighthood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594-E3B0-4FF9-A5D8-89DA6C4B58EE}" type="slidenum">
              <a:t>8</a:t>
            </a:fld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If proven to be a good fighter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0F4-CF75-4236-94E0-968BF4281A2E}" type="slidenum">
              <a:t>9</a:t>
            </a:fld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besJ</cp:lastModifiedBy>
  <dcterms:modified xsi:type="dcterms:W3CDTF">2012-10-11T10:41:48Z</dcterms:modified>
  <cp:revision>30</cp:revision>
  <dc:subject/>
  <dc:title>PowerPoint Presentation</dc:title>
</cp:coreProperties>
</file>