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172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7973-44E1-4060-8C05-B353A4505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3B77-4ECA-4BA3-9265-94A1EE149F3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812B-585A-429E-ABC8-4A765FF68CF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two groups of work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em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d a skill needed by oth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d seneschals and bailiffs who helped ru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neschals looked afte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visiting each regul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ilif made sure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wns (called shires) also h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-keepers know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f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work the noble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worked their own land and gave a part of their crops to the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no freedom – they were the noble’s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sants had no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5974-E257-49D7-9C32-698611A39AF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56C3-DF4B-4B2F-8643-159E176DBD9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8692-411C-4970-BADA-766F24A99A2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6B33-DD3D-4AEB-9365-93158F8EB6B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0D67-178D-4EE5-8CAF-10A53125A2F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35160" y="378000"/>
            <a:ext cx="4236840" cy="3178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lords and vassals made up a big part of the political and social structure of the feudal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CD07-2B23-40B0-A6BE-1F01D74E528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35160" y="378000"/>
            <a:ext cx="4236840" cy="3178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ies of loyalty and duty among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were both lords and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were made official by the “act of homag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fs were given to vassals by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gave vassals the right to govern the people who lived on thei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promised to give protection to the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the feudal contract could mean loss of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4D75-BA17-4480-B5C8-462ACE2D1B4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35160" y="378000"/>
            <a:ext cx="4236840" cy="3178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sals had certain duties to perform for the l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the lord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d personally in military service 40 – 60 days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ney when the lord’s daughters married and when sons were kn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d the lord’s ransom or took his place if he was cap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ed the lord’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d food and entertainment when the lord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87DE-AC09-4989-B189-ECA632CEF03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35160" y="378000"/>
            <a:ext cx="4236840" cy="3178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bles were ultimately vassals of th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provided the king with knights to form an army for defense and con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is,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wer belonged to the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3FFC-793E-4E17-A06D-026EBF869E7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805040" y="681120"/>
            <a:ext cx="3024000" cy="2268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nobles were kn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y made up of three groups – nobles, clergy and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own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597F-C85E-43FD-83ED-1DAA7F2D92C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805040" y="681120"/>
            <a:ext cx="3024000" cy="2268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’s tr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t age 7 as 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guidance of the lady of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courtly manners, sometimes reading, music, dancing –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cessities of a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errands and served her in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began serving the knights performing simp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31C7-AB00-4806-87FE-B1B1EFBF6FC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805040" y="681120"/>
            <a:ext cx="3024000" cy="2268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squire at age 15 and placed under guidance of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the skills of knighthood, especially horsemanship and combat sk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8E4F-EA0F-4CAF-B17C-4124AF88B6D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805040" y="681120"/>
            <a:ext cx="3024000" cy="2268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547-6BB8-45C4-916D-9CFBBECA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A51-8E47-4B5F-8566-94B3A2C3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F55-EC85-42C7-8C71-DBD63537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DC0-2582-47AF-A593-8B1D31E2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EFBD-3FCA-48F2-A1CC-D10DF568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AA3C-CFD8-47CB-A8F4-9D95F81D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5147-A3F2-471E-88CA-111F66E0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F6E5-2473-40D5-8DB8-97DE31FB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A1A9-A021-4B67-AB0F-063868DD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A2CD-9AD9-4E83-95AF-8B7E99D3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D44E-0995-4B6A-A5D7-F8BDCCCD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238-8A18-4EE6-A89A-70A92E35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DAC9-0045-40C4-B1B9-972B54AE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0A72-BD91-43E2-8FC9-78F941AA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6942-9BF1-45A1-9D89-6FCD46CF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3306-2E76-4BAF-8DA5-EE2388BC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B290-5462-4BE2-BBEC-E67DDEDC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FD1-7536-4C4D-97D7-39E80CD3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7A3-23CF-4D9E-9AA4-F7A313CA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AE1-58EF-4F32-A1EB-4CE62BD2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47D-C0C8-44C1-B92C-E161C9A4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0DAB-A991-4514-ACE6-A230F6C7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4B9-9732-413D-AA63-875F94A8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297-C9C5-4CC1-871E-1773B8C5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7540-F779-493B-A174-567A87137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9A9C-8036-4ECE-BA62-613E579FE715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32C0-BBBF-4AE3-84CD-A02C513BA60D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Feudalis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94" name="Object 8"/>
          <p:cNvGraphicFramePr/>
          <p:nvPr/>
        </p:nvGraphicFramePr>
        <p:xfrm>
          <a:off x="2743200" y="2362320"/>
          <a:ext cx="358128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5812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636D-7F62-403F-9A2A-CEE4B7E8BF43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Workers on the Mano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Almost all peasants who worked on feudal manors were serf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Serfs</a:t>
            </a: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 – workers bound to the land by contract with the nob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 They also worked their own land and gave a part of their crops to the noble (</a:t>
            </a: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They had no freedom - they where the noble’s property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5" name="Object 4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496800" cy="115596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5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925560" cy="105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330D-BE29-4841-BD40-2EC5622154A9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eudal Contra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9" name="AutoShape 3"/>
          <p:cNvSpPr/>
          <p:nvPr/>
        </p:nvSpPr>
        <p:spPr>
          <a:xfrm rot="17508000">
            <a:off x="2743200" y="23623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478" y="5400"/>
                  <a:pt x="6417" y="6883"/>
                  <a:pt x="5679" y="9084"/>
                </a:cubicBezTo>
                <a:lnTo>
                  <a:pt x="559" y="7369"/>
                </a:lnTo>
                <a:cubicBezTo>
                  <a:pt x="2034" y="2967"/>
                  <a:pt x="6157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 rot="1679400">
            <a:off x="5333760" y="236196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855" y="5400"/>
                  <a:pt x="7060" y="6445"/>
                  <a:pt x="6101" y="8137"/>
                </a:cubicBezTo>
                <a:lnTo>
                  <a:pt x="1403" y="5475"/>
                </a:lnTo>
                <a:cubicBezTo>
                  <a:pt x="3321" y="2091"/>
                  <a:pt x="6910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AutoShape 5"/>
          <p:cNvSpPr/>
          <p:nvPr/>
        </p:nvSpPr>
        <p:spPr>
          <a:xfrm rot="11903400">
            <a:off x="2743200" y="46483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199" y="10795"/>
                </a:moveTo>
                <a:cubicBezTo>
                  <a:pt x="16197" y="7815"/>
                  <a:pt x="13780" y="5400"/>
                  <a:pt x="10800" y="5400"/>
                </a:cubicBezTo>
                <a:cubicBezTo>
                  <a:pt x="8699" y="5400"/>
                  <a:pt x="6790" y="6617"/>
                  <a:pt x="5904" y="8521"/>
                </a:cubicBezTo>
                <a:lnTo>
                  <a:pt x="1008" y="6243"/>
                </a:lnTo>
                <a:cubicBezTo>
                  <a:pt x="2780" y="2435"/>
                  <a:pt x="6599" y="0"/>
                  <a:pt x="10800" y="0"/>
                </a:cubicBezTo>
                <a:cubicBezTo>
                  <a:pt x="16761" y="0"/>
                  <a:pt x="21595" y="4830"/>
                  <a:pt x="21599" y="10791"/>
                </a:cubicBezTo>
                <a:lnTo>
                  <a:pt x="24299" y="10789"/>
                </a:lnTo>
                <a:lnTo>
                  <a:pt x="18903" y="16193"/>
                </a:lnTo>
                <a:lnTo>
                  <a:pt x="13499" y="10797"/>
                </a:lnTo>
                <a:lnTo>
                  <a:pt x="16199" y="10795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 rot="5649000">
            <a:off x="5595120" y="4614480"/>
            <a:ext cx="1078200" cy="839880"/>
          </a:xfrm>
          <a:custGeom>
            <a:avLst/>
            <a:gdLst>
              <a:gd name="textAreaLeft" fmla="*/ 157680 w 1078200"/>
              <a:gd name="textAreaRight" fmla="*/ 920520 w 1078200"/>
              <a:gd name="textAreaTop" fmla="*/ 122760 h 839880"/>
              <a:gd name="textAreaBottom" fmla="*/ 717120 h 8398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802" y="5400"/>
                  <a:pt x="6967" y="6503"/>
                  <a:pt x="6030" y="8267"/>
                </a:cubicBezTo>
                <a:lnTo>
                  <a:pt x="1260" y="5735"/>
                </a:lnTo>
                <a:cubicBezTo>
                  <a:pt x="3134" y="2206"/>
                  <a:pt x="6804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041720" y="2286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L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048120" y="3809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890520" y="541008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VASSAL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410080" y="3505320"/>
            <a:ext cx="244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GI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PROTECTION 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7676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2364840" y="3429000"/>
            <a:ext cx="15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GIV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SERVICE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3962520" y="3276720"/>
            <a:ext cx="1143000" cy="12189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0D00-69BB-457A-A687-F985915D0BF2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STRUCTING THE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PYRAMID OR POW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3" name="Picture 4" descr="dd01510_"/>
          <p:cNvPicPr/>
          <p:nvPr/>
        </p:nvPicPr>
        <p:blipFill>
          <a:blip r:embed="rId1"/>
          <a:stretch/>
        </p:blipFill>
        <p:spPr>
          <a:xfrm>
            <a:off x="1905120" y="1905120"/>
            <a:ext cx="4876560" cy="4213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sy00943a"/>
          <p:cNvPicPr/>
          <p:nvPr/>
        </p:nvPicPr>
        <p:blipFill>
          <a:blip r:embed="rId2"/>
          <a:stretch/>
        </p:blipFill>
        <p:spPr>
          <a:xfrm>
            <a:off x="7086600" y="5062680"/>
            <a:ext cx="1066680" cy="105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B264-34BA-4C1C-B575-00EFCC6434E4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Line 5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352680" y="281952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POWERFU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886200" y="1523880"/>
            <a:ext cx="14479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K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Line 11"/>
          <p:cNvSpPr/>
          <p:nvPr/>
        </p:nvSpPr>
        <p:spPr>
          <a:xfrm flipV="1">
            <a:off x="3524040" y="3496320"/>
            <a:ext cx="267120" cy="6267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5466960" y="3514680"/>
            <a:ext cx="343800" cy="66708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Line 13"/>
          <p:cNvSpPr/>
          <p:nvPr/>
        </p:nvSpPr>
        <p:spPr>
          <a:xfrm flipV="1">
            <a:off x="4059000" y="2123640"/>
            <a:ext cx="262440" cy="628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4934160" y="2141640"/>
            <a:ext cx="266040" cy="593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6402600" y="342900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LAND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5853960" y="2068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L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2441520" y="2057400"/>
            <a:ext cx="14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1372680" y="350532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MILITARY 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504E-DD2E-4A55-AD85-A81AD1B32CEE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eaknesses of the feudal system: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Nobles could “hold kings hostag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” when kings needed soldiers; in effect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they held the power, not the king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Majority of peopl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(knights &amp; peasants)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were at the bottom of this pyramid of powe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; but they wer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barely able to surviv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It was beneficial to the top group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(kings &amp; higher nobles), but they made up 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minority of the popul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It didn’t provide opportunities for change/freedom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: if you were born a serf, you would live &amp; die as a serf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F084-7072-45AC-BDED-11810D92EB26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78" name="Picture 2" descr="pe03511_"/>
          <p:cNvPicPr/>
          <p:nvPr/>
        </p:nvPicPr>
        <p:blipFill>
          <a:blip r:embed="rId1"/>
          <a:stretch/>
        </p:blipFill>
        <p:spPr>
          <a:xfrm>
            <a:off x="2743200" y="2286000"/>
            <a:ext cx="3767040" cy="3468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1447920" y="114300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99"/>
                </a:solidFill>
                <a:latin typeface="Storybook"/>
              </a:rPr>
              <a:t>THE END</a:t>
            </a:r>
            <a:endParaRPr b="0" lang="en-US" sz="9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 flipV="1" rot="19285200">
            <a:off x="5310000" y="2911680"/>
            <a:ext cx="6408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HISTOR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NOT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DF00-E22F-4FC7-83FE-2843A08188D0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relationship between lords and vassals was the main characteristic of the social &amp; political structure of the feudal system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Vassals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were </a:t>
            </a: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people granted land in exchange for certain duties he performed for the lor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All nobles were ultimately vassals of the king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9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E168-E605-47C0-AA1C-FD0645CA086F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Relationship Between 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Based on ties of loyalty and duty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among nobl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Nobles could be both lords and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Fiefs (land grants) were given to vassals by lord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Lords gave vassals the right to govern the people who lived on their fief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Lords promised to protect their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Breaking the feudal contract could mean loss of lan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3221-9C6D-42FB-AFD3-BD656F3F5506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Vassals had certain duties to perform for the l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Nobles helped the lord in battl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Participated personally in military service 40 – 60 days a year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Gave money when the lord’s daughters married and when sons were knigh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id the lord’s ransom or took his place if he was captur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ttended the lord’s cour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rovided food and entertainment when the lord visi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7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762B-371C-4044-8C0E-C243DA405276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All nobles were ultimately vassals of the k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Nobles provided the king with knights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to form an army for defense and conques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ecause of this, </a:t>
            </a: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the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real</a:t>
            </a: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 power belonged to the noble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1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AE10-ADE9-4CC8-806B-4232D6BC4FE6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What is a Knight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Society made up of three groups – nobles, clergy and peasants, and townspeopl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Almost all nobles were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Training began at age 7, as a pag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under the guidance of the lady of the man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Became squires at age 15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were trained by other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Those deemed worthy were “dubbed”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5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4186-1E93-4D95-B6EF-4C7E03BB532B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What is a Page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PAGES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-started at age of 7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Taught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courtly manners, sometimes reading, music, dancing –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all the necessities of a noble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 and they ran errands and served the lady of the manor in retur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Also began serving the knights performing simple task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0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AA33-EA9E-4D90-A158-120B3D5D7785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What is a Squire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10000"/>
                </a:solidFill>
                <a:uFillTx/>
                <a:latin typeface="Arial"/>
              </a:rPr>
              <a:t>SQUIRES</a:t>
            </a:r>
            <a:r>
              <a:rPr b="0" lang="en-US" sz="3600" spc="-1" strike="noStrike">
                <a:solidFill>
                  <a:srgbClr val="010000"/>
                </a:solidFill>
                <a:latin typeface="Arial"/>
              </a:rPr>
              <a:t>-age of 15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Taught the skills of knighthood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, especially horsemanship and combat skill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-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Followed knight into battle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 and  helped him if he was wounded or fell off his hors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5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70E4-FCA8-4C85-9916-1A44AD9014D8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What is a Knight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KNIGH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If proven to be a good fighter he was rewarded by being made a knigh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Special ceremony known as dubbin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were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expected to follow certain rules known as the code of chivalry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trained for war by fighting each other in tournamen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Most popular form of entertainment during the Middle Ag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0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bes John</dc:creator>
  <dc:description/>
  <dc:language>en-US</dc:language>
  <cp:lastModifiedBy>Debes John</cp:lastModifiedBy>
  <dcterms:modified xsi:type="dcterms:W3CDTF">2015-10-16T10:00:06Z</dcterms:modified>
  <cp:revision>32</cp:revision>
  <dc:subject/>
  <dc:title>PowerPoint Presentation</dc:title>
</cp:coreProperties>
</file>