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B7B5-E276-4615-B966-B06C31436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groups of work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d a skill needed by oth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seneschals and bailiffs who helped ru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neschals looked afte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visiting each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ilif made sure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wns (called shires) also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-keepers know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work the noble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worked their own land and gave a part of their crops to the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no freedom – they were the noble’s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s had no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lords and vassals made up a big part of the political and social structure of the feud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ies of loyalty and duty among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were both lords and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were made official by the “act of homag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fs were given to vassals by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gave vassals the right to govern the people who lived on thei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promised to give protection to the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the feudal contract could mean loss 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sals had certain duties to perform for the l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the lord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d personally in military service 40 – 60 days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ney when the lord’s daughters married and when sons were kn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the lord’s ransom or took his place if he was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d the lord’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ood and entertainment when the lord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33360" y="378000"/>
            <a:ext cx="4238640" cy="3178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3630600"/>
            <a:ext cx="51055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bles were ultimately vassals of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provided the king with knights to form an army for defense and con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is,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wer belonged to the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’s tr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t age 7 as 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guidance of the lady of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courtly manners, sometimes reading, music, dancing –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cessities of a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errands and served her in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began serving the knights performing simp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squire at age 15 and placed under guidance of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the skills of knighthood, especially horsemanship and combat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803240" y="681120"/>
            <a:ext cx="3024360" cy="2268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0360" y="3176640"/>
            <a:ext cx="510516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FC1-3533-4E32-A48F-A6D916D7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F94-81BF-4481-8FA7-413E47AE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FB9-8B1F-4A06-8757-EFDE3570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599-1F87-4676-906E-2ECF9DD1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761C-7C84-4A92-91E1-75F24BA2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723A-1FD9-49C0-9C52-AB0A0D39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AACC-38EE-4572-9887-6AE376F0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81C6-7926-471E-905A-951E537E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3B21-EC4D-46F3-91FB-1C318C54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6937-13E3-419F-984D-1D53B48A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E59C-CB80-4E80-BC61-50FDBA6E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279-622B-48C2-8AF7-15F34D36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1877-3C74-4F8D-9E3A-8C5A435F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DE50-DCFE-4D8C-B90B-8C98F5CA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EFF0-AAF2-4F97-ADC3-7BC735C3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2291-92F3-4B80-AD6D-DBC5AF93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E618-B2BC-4CE8-B57F-3B44B0CD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753-FD00-44CE-B0FB-0254BFC6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D6A-9EB5-40D6-8E3D-3CC0F5C7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426-FDDE-43E3-A7B1-F1BF5A2D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F8C-834C-4472-9668-F18A8ECF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796-8515-44C1-983F-55A17EBF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F85-ECE1-400F-8CEA-862F9D22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EA0-ED53-4579-AEB9-48BF21AD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CA59-07FB-4624-921E-0802AB428809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2549-F592-4709-9AD0-541ABDB3DB0C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Feudal Society</a:t>
            </a:r>
            <a:br>
              <a:rPr sz="6600"/>
            </a:b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Political Structur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743200" y="2362320"/>
          <a:ext cx="35812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5812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D218-A673-43C9-82AF-0470CF01FE33}" type="slidenum">
              <a:t>1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orkers on the Mano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most all peasants who worked on feudal manors were serf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– workers bound to the land by contract with the nobles. They also worked their own land and gave a part of their crops to the noble (They had no freedom - they where the noble’s property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496800" cy="1155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925560" cy="105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0DA-6306-442B-967F-90AFA74EC9FA}" type="slidenum">
              <a:t>10</a:t>
            </a:fld>
          </a:p>
        </p:txBody>
      </p:sp>
    </p:spTree>
  </p:cSld>
  <p:transition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Contra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 rot="17508000">
            <a:off x="2743200" y="2362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688669"/>
                <a:lnTo>
                  <a:pt x="559" y="7369"/>
                </a:lnTo>
                <a:arcTo wR="10800" hR="10800" stAng="-9688669" swAng="968866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79400">
            <a:off x="5333760" y="236196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027850"/>
                <a:lnTo>
                  <a:pt x="1403" y="5476"/>
                </a:lnTo>
                <a:arcTo wR="10800" hR="10800" stAng="-9027850" swAng="902785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1903400">
            <a:off x="2743200" y="4648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4"/>
                </a:moveTo>
                <a:arcTo wR="-5500" hR="-5500" stAng="10797453" swAng="-9300089"/>
                <a:lnTo>
                  <a:pt x="1008" y="6243"/>
                </a:lnTo>
                <a:arcTo wR="10800" hR="10800" stAng="-9302636" swAng="9300089"/>
                <a:lnTo>
                  <a:pt x="24300" y="10790"/>
                </a:lnTo>
                <a:lnTo>
                  <a:pt x="18954" y="16144"/>
                </a:lnTo>
                <a:lnTo>
                  <a:pt x="13600" y="10798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649000">
            <a:off x="5595120" y="4614480"/>
            <a:ext cx="1078200" cy="839880"/>
          </a:xfrm>
          <a:custGeom>
            <a:avLst/>
            <a:gdLst>
              <a:gd name="textAreaLeft" fmla="*/ 0 w 1078200"/>
              <a:gd name="textAreaRight" fmla="*/ 1078200 w 10782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122183"/>
                <a:lnTo>
                  <a:pt x="1261" y="5736"/>
                </a:lnTo>
                <a:arcTo wR="10800" hR="10800" stAng="-9122183" swAng="912218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41720" y="2286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809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90520" y="54100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VASSA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3505320"/>
            <a:ext cx="24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ROTECTION 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767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4840" y="3429000"/>
            <a:ext cx="15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VIC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3276720"/>
            <a:ext cx="1143000" cy="12189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F21-BB1D-4904-BBA5-28BE62EE882F}" type="slidenum">
              <a:t>11</a:t>
            </a:fld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1523880"/>
            <a:ext cx="1447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059000" y="2123640"/>
            <a:ext cx="262440" cy="628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34160" y="2141640"/>
            <a:ext cx="266040" cy="593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3960" y="2068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41520" y="205740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346-407D-46C3-9A62-4BBF3C05BD35}" type="slidenum">
              <a:t>12</a:t>
            </a:fld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eaknesses of the feudal system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bles could “hold kings hostage” when kings needed soldiers; in effect, they held the power, not the king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jority of people (knights &amp; peasants) were at the bottom of this pyramid of power; but they were barely able to surviv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was beneficial to the top groups (kings &amp; higher nobles), but they made up a minority of the pop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didn’t provide opportunities for change/freedom: if you were born a serf, you would live &amp; die as a serf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62F-FB36-45B8-94C1-6AE513F6F1EF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767040" cy="3468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47920" y="11430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Storybook"/>
              </a:rPr>
              <a:t>THE END</a:t>
            </a:r>
            <a:endParaRPr b="0" lang="en-US" sz="9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 rot="19285200">
            <a:off x="5310000" y="2911680"/>
            <a:ext cx="640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NOT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377-3A66-4440-B1A2-4F97BCAA0755}" type="slidenum">
              <a:t>14</a:t>
            </a:fld>
          </a:p>
        </p:txBody>
      </p:sp>
    </p:spTree>
  </p:cSld>
  <p:transition>
    <p:dissolv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The relationship between lords and vassals was the main characteristic of the social &amp; political structure of the feudal system                                       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Vassals were people granted land in exchange for certain duties he performed for the lor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ll nobles were ultimately vassals of the king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C1F-00AE-473A-96FF-F273BFDC3BC4}" type="slidenum">
              <a:t>2</a:t>
            </a:fld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ationship Between 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ased on ties of loyalty and duty among nobl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could be both lords and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Fiefs (land grants) were given to vassals by lord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gave vassals the right to govern the people who lived on their fief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Lords promised to protect their vassal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reaking the feudal contract could mean loss of lan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F65-A258-424D-BF2E-9A078D6A2291}" type="slidenum">
              <a:t>3</a:t>
            </a:fld>
          </a:p>
        </p:txBody>
      </p: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Vassals had certain duties to perform for the l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helped the lord in battl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rticipated personally in military service 40 – 60 days a yea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Gave money when the lord’s daughters married and when sons were knigh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id the lord’s ransom or took his place if he was captur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ttended the lord’s cour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rovided food and entertainment when the lord visite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663-8096-4B01-BB68-1B5E5A52FC8B}" type="slidenum">
              <a:t>4</a:t>
            </a:fld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 nobles were ultimately vassals of the k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Nobles provided the king with knights to form an army for defense and conques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Because of this, the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power belonged to the nobl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9B7-DE60-43AF-8FB4-BA61775851F3}" type="slidenum">
              <a:t>5</a:t>
            </a:fld>
          </a:p>
        </p:txBody>
      </p:sp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ciety made up of three groups – nobles, clergy and peasants, and townspeopl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most all nobles were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ining began at age 7, as a page, under the guidance of the lady of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me squires at age 15 and were trained by other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ose deemed worthy were “dubbed”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40E-B6C4-41F2-9D90-5FB10673B970}" type="slidenum">
              <a:t>6</a:t>
            </a:fld>
          </a:p>
        </p:txBody>
      </p:sp>
    </p:spTree>
  </p:cSld>
  <p:transition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Pag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PAGES-started at age of 7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Taught courtly manners, sometimes reading, music, dancing – all the necessities of a noble and they ran errands and served the lady of the manor in retur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Also began serving the knights performing simple task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6BA-6442-417E-9BDA-F63BDB41E602}" type="slidenum">
              <a:t>7</a:t>
            </a:fld>
          </a:p>
        </p:txBody>
      </p:sp>
    </p:spTree>
  </p:cSld>
  <p:transition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Squir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000"/>
                </a:solidFill>
                <a:latin typeface="Arial"/>
              </a:rPr>
              <a:t>SQUIRES-age of 15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Taught the skills of knighthood, especially horsemanship and combat skill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D0B-F4A7-450E-8B75-D06954BDADBB}" type="slidenum">
              <a:t>8</a:t>
            </a:fld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KNIGH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If proven to be a good fighter he was rewarded by being made a knigh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Special ceremony known as dubbin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were expected to follow certain rules known as the code of chivalry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Knights trained for war by fighting each other in tournament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000"/>
                </a:solidFill>
                <a:latin typeface="Arial"/>
              </a:rPr>
              <a:t>Most popular form of entertainment during the Middle Ag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758960" cy="15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0B9-E515-4697-8FB3-0F2A17319EAA}" type="slidenum">
              <a:t>9</a:t>
            </a:fld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besJ</cp:lastModifiedBy>
  <dcterms:modified xsi:type="dcterms:W3CDTF">2012-10-11T10:41:48Z</dcterms:modified>
  <cp:revision>30</cp:revision>
  <dc:subject/>
  <dc:title>PowerPoint Presentation</dc:title>
</cp:coreProperties>
</file>