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046-9EEA-48AF-822B-F370CC87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1D9-3500-4D4E-8FDC-FE7821E8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F98-41DA-4F27-BE54-6DEC7105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2DE-516B-4D3B-9124-944ED0F9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EA32-9121-4077-B147-517B41A6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6B86-A0E5-4AFB-B2BC-F823AFB3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4901-5C10-47A5-8A6B-86E6B55B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06BD-C904-4F26-9CF8-5D04310C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A733-D243-4D1E-B7A9-B939D33F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8389-1328-4C35-98CE-592375E4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635C-8309-4A11-A5F7-053C3E51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AB5-721B-439D-9CD8-5168D223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6A4B-966A-4AD4-B506-9A65CB6F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0D88-EE07-420B-9697-C3752FF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6D8B-D13A-4370-96C0-084AAD37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2509-B284-4697-8949-9C750A63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7B1E-2057-4781-AFF2-C26F4CE2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8BB-7C1F-410B-B7DB-E015B009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24A-9CB2-4B14-BC44-4F01F5FE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9DF-95DC-4396-9E2A-02C2AA4F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7A5-C329-44E9-AE4E-6B973E99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695-B87A-461E-A6F3-0ADA2241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F30-D281-4212-BA50-6A59D53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A0A-52F6-4CF3-AC06-22A4409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CF12-B62F-488F-B494-1A23D3444A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650E-4389-4DDE-88DF-3C8D8C214F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200040"/>
            <a:ext cx="52578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Federalists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   v.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ti-Federalis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114800" y="204840"/>
            <a:ext cx="5029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ompromise: Ratification &amp; a Bill of Rights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890640"/>
            <a:ext cx="4724280" cy="5967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724280" y="990720"/>
            <a:ext cx="441972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890640"/>
            <a:ext cx="4724280" cy="5967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24280" y="990720"/>
            <a:ext cx="441972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890640"/>
            <a:ext cx="4648320" cy="596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990720"/>
            <a:ext cx="4495680" cy="50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890640"/>
            <a:ext cx="4724280" cy="5967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724280" y="990720"/>
            <a:ext cx="4419720" cy="55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765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wo-Party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System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28240"/>
            <a:ext cx="4800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991040" y="2133720"/>
            <a:ext cx="4152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he Debate Over the U.S. Constitu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7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_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3013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The Debate Over the U.S. Constitu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7760" y="838080"/>
            <a:ext cx="6095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3013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The Debate Over the U.S. Constitu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2914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Who Were the Federalists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858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934320" y="838080"/>
            <a:ext cx="213336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934320" y="3962520"/>
            <a:ext cx="21333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he Federalists’ Argumen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Who Were the Anti-Federalists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240" y="762120"/>
            <a:ext cx="6629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6320" y="380988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76320" y="838080"/>
            <a:ext cx="2422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Anti-Federalist Argu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ompromise: Ratification &amp; a Bill of Righ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3:47:16Z</dcterms:created>
  <dc:creator>Artemus Ward</dc:creator>
  <dc:description/>
  <dc:language>en-US</dc:language>
  <cp:lastModifiedBy>Debes John</cp:lastModifiedBy>
  <cp:lastPrinted>2014-10-29T10:05:20Z</cp:lastPrinted>
  <dcterms:modified xsi:type="dcterms:W3CDTF">2014-10-30T10:17:48Z</dcterms:modified>
  <cp:revision>31</cp:revision>
  <dc:subject/>
  <dc:title>Federalists  v.  Anti-Federalists</dc:title>
</cp:coreProperties>
</file>