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A02-28AA-4CA3-9972-5EBFA10C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8C3-28D9-4449-99BB-98CB7513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7E1-4999-4638-874E-CCD2C23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F2B-8F00-4C03-84B8-C297DBA1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04D-21CC-4487-83EE-88905DC0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958-F83B-4084-BD80-E060C127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4BC-49FC-4350-8C7B-0BF2316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1403-4A09-47E2-B417-79CD093F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506F-1B65-4BB7-8BBC-AD75907C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690-FB22-4D32-97A1-0571AE3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BAC-0A82-422F-B795-54B44CE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D21-BEE8-48DC-8713-366A6A8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467D-AC78-4E21-B25B-B573936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E5F4-B892-4572-BC59-11C625D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070A-B7D1-4629-A7B8-123DA48F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7DB-C829-4D99-9297-FE69B614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54B-556A-4092-8E84-013C5734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6FE-8887-4265-BBFC-ACE1DA4E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B58-0662-40F6-8E5F-B77BE3E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51D-EA81-48D3-81AF-EAFA41FD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6CA-4554-4B79-9D97-B5D61D1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BEA-A5AF-4BA6-92E7-C0C1BC8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370-9B69-4297-822B-992BFFB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3B8-D6B7-414B-AB60-7FCC060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EE0-308A-439E-9CF4-612C4A67D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E24-783C-4596-AC64-BC2F81892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2000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ederalists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  v.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ti-Federalis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114800" y="204840"/>
            <a:ext cx="5029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648320" cy="59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990720"/>
            <a:ext cx="449568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724280" y="990720"/>
            <a:ext cx="4419720" cy="55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765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wo-Party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Syste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28240"/>
            <a:ext cx="4800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991040" y="2133720"/>
            <a:ext cx="4152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Debate Over the U.S. Constitu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95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2914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858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213336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2133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Federalists’ Argumen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Anti-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76212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6320" y="838080"/>
            <a:ext cx="2422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Anti-Federalist Argu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3:47:16Z</dcterms:created>
  <dc:creator>Artemus Ward</dc:creator>
  <dc:description/>
  <dc:language>en-US</dc:language>
  <cp:lastModifiedBy>Debes John</cp:lastModifiedBy>
  <cp:lastPrinted>2014-10-29T10:05:20Z</cp:lastPrinted>
  <dcterms:modified xsi:type="dcterms:W3CDTF">2014-10-30T10:17:48Z</dcterms:modified>
  <cp:revision>31</cp:revision>
  <dc:subject/>
  <dc:title>Federalists  v.  Anti-Federalists</dc:title>
</cp:coreProperties>
</file>