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4AB-26DF-437F-A672-0625F0B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347-356C-40A3-A11C-8F7E2CB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9E3-4E3E-4855-9169-B8A9403A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79C-CAC7-4092-9A6E-8B866152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663F-3BDC-4C30-9985-1DAE2C9D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6905-9B65-4856-BCFE-8936BB19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FF7-4607-4BA5-9627-6AC119A6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005-8D03-4443-8B7F-2AA23813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17B-28B3-4DA4-BB27-68635BA7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014-C3EA-4B78-8EAC-C5964C43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5F57-E38A-4D81-B04B-7D6440A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24D-1E70-4214-8AAF-D481575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813A-674C-4106-B62B-0F92C3A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CA86-7D01-40FE-89A3-3838827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D3F-1177-4187-BEB9-7DFF0CE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5998-C0E3-4232-B758-7FE02086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D36B-351C-45B1-8409-EA8A719E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11F-5317-4A60-A93C-5AAA4AC3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105-DC29-4F4B-9D76-20B9636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D0E-CF7A-423E-B9D7-4AD4E0CF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48B-A348-4BC1-81EF-4D9F962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EAF-732B-4A82-BF44-958CDBA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391-4DE2-442F-BBDC-94018AC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E73-98CB-4DAF-BC21-8E1D7788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A48C-D3C2-4727-99F4-166C4D7ED8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46A5-147B-4420-9510-4C2409AEF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20004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ederalists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  v.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ti-Federalis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114800" y="204840"/>
            <a:ext cx="5029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mpromise: Ratification &amp; a Bill of Rights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24280" y="990720"/>
            <a:ext cx="441972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24280" y="990720"/>
            <a:ext cx="441972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648320" cy="59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990720"/>
            <a:ext cx="4495680" cy="50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Ratific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890640"/>
            <a:ext cx="4724280" cy="5967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6095880" y="1098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724280" y="990720"/>
            <a:ext cx="4419720" cy="55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765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wo-Party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Syste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28240"/>
            <a:ext cx="4800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991040" y="2133720"/>
            <a:ext cx="4152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 Debate Over the U.S. Constitu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7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_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3013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Debate Over the U.S. Constitu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7760" y="838080"/>
            <a:ext cx="6095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3013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Debate Over the U.S. Constitution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cont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2914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Who Were the Federalist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858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213336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934320" y="3962520"/>
            <a:ext cx="2133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he Federalists’ Argumen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Who Were the Anti-Federalist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76212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76320" y="838080"/>
            <a:ext cx="2422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Anti-Federalist Argu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mpromise: Ratification &amp; a Bill of Righ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3:47:16Z</dcterms:created>
  <dc:creator>Artemus Ward</dc:creator>
  <dc:description/>
  <dc:language>en-US</dc:language>
  <cp:lastModifiedBy>Debes John</cp:lastModifiedBy>
  <cp:lastPrinted>2014-10-29T10:05:20Z</cp:lastPrinted>
  <dcterms:modified xsi:type="dcterms:W3CDTF">2014-10-30T10:17:48Z</dcterms:modified>
  <cp:revision>31</cp:revision>
  <dc:subject/>
  <dc:title>Federalists  v.  Anti-Federalists</dc:title>
</cp:coreProperties>
</file>