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25D8D2-E9D0-44B6-A760-CA1F267BE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7E7BD4-3B82-47F0-AA21-890DAC493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27DC20-D0C7-483F-B690-B3807F33B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DC6562-0A5B-4D7C-B310-FF256BF9F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904A5C-2F75-48FA-ACA3-0AA3F62F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05384A-7E16-4A8E-99B6-32AAE9068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18F98E-108B-480F-8CB3-3495CC7F8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A35991-C2C1-439E-88C5-660A26F31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E53274-5907-4012-8DD1-1E0E9D15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D775D3-4B2A-4BBC-9634-7B08FCDA2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42D9CA-D3FE-414F-BDE3-3247F5138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21E858-9BC9-45E3-9FC2-AE3245E6E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47759E-A497-42D1-B63B-F2CDE3D57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1A9369-A6BE-4265-B203-D6DC4FF70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A2D9C2-6B45-4576-B73C-F3C4284D1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9F92F4-B53D-4E61-9D74-9EA762B21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75DF9A-63B8-4A2B-9A64-BC1017C50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2419B2-2973-435F-97B4-8CA78C51C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D85C03-6B3B-4E22-B9D0-6F495B49C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001478-D04A-45E7-96F4-9BAFD0257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E29061-87EF-4CC5-9641-018E1A127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5C71E2-DFF6-43CB-B910-8B1F8FC34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5B13DB-F4F2-45A0-9640-5948B99B7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6F000F-6005-4F3C-B73A-8C83A419D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D04960-58F7-4962-A799-4E25A14DB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763B81-50E7-47A1-8955-1DB7F111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43A3A0-A266-4533-977A-A828981BE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13C620-AC72-472A-99B1-0B14D6063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8B4408-71AF-4B3F-893B-6C2FBA7AB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3524B9-B361-47DD-9897-F936497A4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2CBB04-5C51-4789-806C-FFACA0449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FB1343-6ADF-466A-A392-2F45C8BFC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C4C3E6-9D39-4E16-8BF2-4E6FF0C5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9F2884-4FF8-416E-AAB5-D8EA6BA12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4E1024-6076-4959-8122-8B5C552C8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80F5C1-EFD6-460F-A5C3-EFD564E5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C0B732-E06F-4E5E-9348-772D040D2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136F10-0A21-47CD-8D08-666841977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9EFF9A-83F2-48FA-86F2-93BADC6F7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7C7D72-F58F-422A-BD6C-7E8EC261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5DA-BA74-4F93-9442-C38C9BED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705-FC21-4E6C-8533-76D904A2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1E2-81E8-45BC-99F2-5783247F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CB6-30DD-499E-913B-662A4910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468-99FB-4666-8E7C-E75E3E27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3C9-B084-48A8-AAC2-7A29162D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A50-43F0-4188-970E-4745834F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544-B1ED-4B6A-9459-672032EB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086-B5A1-46A2-BBAE-3628933A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A70-ED23-489F-8DAE-8582935F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62D-257A-4CD9-B7AB-6E38BA17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C12-2994-478D-A3CD-5F38237A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D17D-93D7-43E9-B117-84F73699B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upload.wikimedia.org/wikipedia/commons/c/cf/Portrait_of_William_III%2C_%281650-1702%29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219320" y="914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Elephant"/>
              </a:rPr>
              <a:t>English</a:t>
            </a:r>
            <a:br>
              <a:rPr sz="7200"/>
            </a:br>
            <a:r>
              <a:rPr b="0" lang="en-US" sz="7200" spc="-1" strike="noStrike">
                <a:solidFill>
                  <a:srgbClr val="0066ff"/>
                </a:solidFill>
                <a:latin typeface="Elephant"/>
              </a:rPr>
              <a:t>Civil War &amp; Restor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8600" y="289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811600" y="1015920"/>
            <a:ext cx="6103800" cy="60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also alienated the ______________by his strong defense of the ____________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Many of England’s gentry [mostly rich landowners below the level of the nobility] became Purit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Comic Sans MS"/>
              </a:rPr>
              <a:t>&gt;These _________________ ___________formed an important and large part of the House of Comm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Comic Sans MS"/>
              </a:rPr>
              <a:t>&gt;It was NOT WISE to alienate them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ames I-b"/>
          <p:cNvPicPr/>
          <p:nvPr/>
        </p:nvPicPr>
        <p:blipFill>
          <a:blip r:embed="rId1">
            <a:lum contrast="6000"/>
          </a:blip>
          <a:srcRect l="9880" t="5647" r="6171" b="13410"/>
          <a:stretch/>
        </p:blipFill>
        <p:spPr>
          <a:xfrm>
            <a:off x="220680" y="1008000"/>
            <a:ext cx="2590920" cy="32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2127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James I-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53120" y="914400"/>
            <a:ext cx="299088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0" y="914400"/>
            <a:ext cx="64008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 he fa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Large royal de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wasn’t English </a:t>
            </a:r>
            <a:r>
              <a:rPr b="0" lang="en-US" sz="28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he didn’t understand _____________ _________ [esp. English law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Believed in 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Clashed with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36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raised 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36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without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6381360" y="629136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harles I  [king from 1625-1649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harles I - Daniel Mytens the Elder"/>
          <p:cNvPicPr/>
          <p:nvPr/>
        </p:nvPicPr>
        <p:blipFill>
          <a:blip r:embed="rId1">
            <a:lum contrast="6000"/>
          </a:blip>
          <a:srcRect l="2003" t="0" r="0" b="0"/>
          <a:stretch/>
        </p:blipFill>
        <p:spPr>
          <a:xfrm>
            <a:off x="6121440" y="965160"/>
            <a:ext cx="3022560" cy="533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4" name="Text Box 5"/>
          <p:cNvSpPr/>
          <p:nvPr/>
        </p:nvSpPr>
        <p:spPr>
          <a:xfrm>
            <a:off x="0" y="965160"/>
            <a:ext cx="612144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Pro- _____________________ ceremonies and rit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Uniformity of church services imposed by a church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Anglican </a:t>
            </a:r>
            <a:r>
              <a:rPr b="0" i="1" lang="en-US" sz="2800" spc="-1" strike="noStrike">
                <a:solidFill>
                  <a:srgbClr val="262626"/>
                </a:solidFill>
                <a:latin typeface="Comic Sans MS"/>
              </a:rPr>
              <a:t>Book of Common Prayer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for both England AND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Seen as too ________________________  by the Purit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-1676520" y="4190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harles I &amp;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x3"/>
          <p:cNvPicPr/>
          <p:nvPr/>
        </p:nvPicPr>
        <p:blipFill>
          <a:blip r:embed="rId1"/>
          <a:stretch/>
        </p:blipFill>
        <p:spPr>
          <a:xfrm>
            <a:off x="5867280" y="0"/>
            <a:ext cx="228600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7" name="Text Box 6"/>
          <p:cNvSpPr/>
          <p:nvPr/>
        </p:nvSpPr>
        <p:spPr>
          <a:xfrm>
            <a:off x="0" y="1538280"/>
            <a:ext cx="91440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Charles constantly at war with Spain and Fr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&gt;Always needed ________________, but how to get it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mic Sans MS"/>
              </a:rPr>
              <a:t>Usually Parliament would give Charles money from taxes to fund his w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Periodically, Parliament would 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&gt;In ______________, Charles would 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__________________________and try to rule England without it </a:t>
            </a:r>
            <a:r>
              <a:rPr b="0" lang="en-US" sz="26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 have to find funds in other way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262626"/>
                </a:solidFill>
                <a:latin typeface="Comic Sans MS"/>
              </a:rPr>
              <a:t>Forced “____________,” selling aristocratic ____________ ___________________________________________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Forced loans &amp; sale of tit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1006560"/>
            <a:ext cx="79246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 _____________-sent letters telling his subjects "lovingly, freely, and voluntarily" to give him money, under the _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if they 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 (with little hope of being repa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Sale of aristocratic titles-Charles sold 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(______________________________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in order to raise f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196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Ship Money Assess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ap-ship money assessments-1636"/>
          <p:cNvPicPr/>
          <p:nvPr/>
        </p:nvPicPr>
        <p:blipFill>
          <a:blip r:embed="rId1"/>
          <a:srcRect l="3569" t="12053" r="3569" b="2157"/>
          <a:stretch/>
        </p:blipFill>
        <p:spPr>
          <a:xfrm>
            <a:off x="17640" y="1430280"/>
            <a:ext cx="380340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Text Box 5"/>
          <p:cNvSpPr/>
          <p:nvPr/>
        </p:nvSpPr>
        <p:spPr>
          <a:xfrm>
            <a:off x="3811680" y="1066680"/>
            <a:ext cx="531468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A medieval 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____  for def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Charles began to 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____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These things got him around the need to call Parliament into session for a while, but eventually he needed to 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_________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76040" y="16524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Petition of Rights, 16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Petition of Rights - 1628"/>
          <p:cNvPicPr/>
          <p:nvPr/>
        </p:nvPicPr>
        <p:blipFill>
          <a:blip r:embed="rId1"/>
          <a:stretch/>
        </p:blipFill>
        <p:spPr>
          <a:xfrm>
            <a:off x="5238720" y="90360"/>
            <a:ext cx="3371760" cy="173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160200" y="1828800"/>
            <a:ext cx="891540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return for 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, Charles I agr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mprisonment without due c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________ Parliament’s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utting soldiers in private h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martial law during peace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harles signed it, and then ____________________,  dissolving Parliament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60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Short”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harles I Resting from the Hunt-Van Dyck-1635"/>
          <p:cNvPicPr/>
          <p:nvPr/>
        </p:nvPicPr>
        <p:blipFill>
          <a:blip r:embed="rId1"/>
          <a:stretch/>
        </p:blipFill>
        <p:spPr>
          <a:xfrm>
            <a:off x="6108840" y="762120"/>
            <a:ext cx="3046320" cy="40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8" name="Text Box 5"/>
          <p:cNvSpPr/>
          <p:nvPr/>
        </p:nvSpPr>
        <p:spPr>
          <a:xfrm>
            <a:off x="0" y="628560"/>
            <a:ext cx="610884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Parlia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No Parliament for _______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Charles ____________________ to end a rebellion in Scotland &amp; for a war with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 in 16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Parliament demands 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Charles ____________________ ____________ after 3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181480" y="6019920"/>
            <a:ext cx="358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Charles I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by Van Dyck (163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28600" y="698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Long”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666880" y="762120"/>
            <a:ext cx="6477120" cy="67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rles _____________________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 he ___________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 into session later that ye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 of the first things Parliament did was pass the 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, saying the king MU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__, &amp; only Parliament could end a s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375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les goes into the Parliament to try to end the session-Fai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375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les heads north to form an arm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375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rles I - Daniel Mytens the Elder"/>
          <p:cNvPicPr/>
          <p:nvPr/>
        </p:nvPicPr>
        <p:blipFill>
          <a:blip r:embed="rId1">
            <a:lum contrast="6000"/>
          </a:blip>
          <a:srcRect l="2671" t="0" r="4006" b="0"/>
          <a:stretch/>
        </p:blipFill>
        <p:spPr>
          <a:xfrm>
            <a:off x="11160" y="716040"/>
            <a:ext cx="2666880" cy="4076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914400" y="1544760"/>
            <a:ext cx="75438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Civil W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42-1649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914400" y="1544760"/>
            <a:ext cx="75438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Background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215-1603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28600" y="349200"/>
            <a:ext cx="8686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ivil War </a:t>
            </a:r>
            <a:br>
              <a:rPr sz="4000"/>
            </a:br>
            <a:r>
              <a:rPr b="0" lang="en-US" sz="3600" spc="-1" strike="noStrike" u="sng">
                <a:solidFill>
                  <a:srgbClr val="ff4f4f"/>
                </a:solidFill>
                <a:uFillTx/>
                <a:latin typeface="BlackChancery"/>
              </a:rPr>
              <a:t>(1642-16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124080" y="272736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5333760" y="272736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3962520" y="2117880"/>
            <a:ext cx="1218960" cy="1143000"/>
          </a:xfrm>
          <a:custGeom>
            <a:avLst/>
            <a:gdLst>
              <a:gd name="textAreaLeft" fmla="*/ 278280 w 1218960"/>
              <a:gd name="textAreaRight" fmla="*/ 940680 w 121896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40000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96920" y="2970360"/>
            <a:ext cx="422280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use of 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 &amp; W Eng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rge landow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urch offic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56080" y="2970360"/>
            <a:ext cx="378792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use of 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 &amp; E Eng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rit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cavalier"/>
          <p:cNvPicPr/>
          <p:nvPr/>
        </p:nvPicPr>
        <p:blipFill>
          <a:blip r:embed="rId1"/>
          <a:stretch/>
        </p:blipFill>
        <p:spPr>
          <a:xfrm>
            <a:off x="990720" y="130320"/>
            <a:ext cx="1299960" cy="1606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2" name="Picture 14" descr="roundhead"/>
          <p:cNvPicPr/>
          <p:nvPr/>
        </p:nvPicPr>
        <p:blipFill>
          <a:blip r:embed="rId2"/>
          <a:stretch/>
        </p:blipFill>
        <p:spPr>
          <a:xfrm>
            <a:off x="6697800" y="135000"/>
            <a:ext cx="1158840" cy="162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Rectangle 7"/>
          <p:cNvSpPr/>
          <p:nvPr/>
        </p:nvSpPr>
        <p:spPr>
          <a:xfrm>
            <a:off x="6008760" y="1674720"/>
            <a:ext cx="2514600" cy="12956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Chancery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lackChancery"/>
              </a:rPr>
              <a:t>(Roundhea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1619280"/>
            <a:ext cx="2514600" cy="1295280"/>
          </a:xfrm>
          <a:prstGeom prst="rect">
            <a:avLst/>
          </a:prstGeom>
          <a:solidFill>
            <a:srgbClr val="c4a7ff"/>
          </a:solidFill>
          <a:ln w="0">
            <a:noFill/>
          </a:ln>
          <a:effectLst>
            <a:outerShdw dist="17819" dir="2700000" blurRad="0" rotWithShape="0">
              <a:srgbClr val="7664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Chancery"/>
              </a:rPr>
              <a:t>_______________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BlackChancery"/>
              </a:rPr>
              <a:t>(Cavali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92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192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192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192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28600" y="289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Oliver Cromwell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1599-1658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Oliver Cromwell-1657"/>
          <p:cNvPicPr/>
          <p:nvPr/>
        </p:nvPicPr>
        <p:blipFill>
          <a:blip r:embed="rId1"/>
          <a:stretch/>
        </p:blipFill>
        <p:spPr>
          <a:xfrm>
            <a:off x="6586560" y="3200400"/>
            <a:ext cx="235260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7" name="Text Box 5"/>
          <p:cNvSpPr/>
          <p:nvPr/>
        </p:nvSpPr>
        <p:spPr>
          <a:xfrm>
            <a:off x="246240" y="107964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icer of the _______________________ army [cavalry]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New Model Ar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d the army that defeated royal forces and now controlled the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75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harles’ def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746280"/>
            <a:ext cx="91440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 I is ______________________ at Marston Moor, Naseby, and Pres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is _______________________ to Parlia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liament expected him to accept its demands for _________________________ , but he escaped &amp; attempted to forge an alliance with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rovoked the ________________________ (1648–49) and a second defeat for Charles, who was captured, tried, convicted, &amp; 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archy was ______________ &amp; a republic called the _____________________ (also known as the Cromwellian Interregnum) was decla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914400" y="1544760"/>
            <a:ext cx="7543800" cy="45136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Interregnu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Elephant"/>
              </a:rPr>
              <a:t>(period between Monarc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49-1660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28600" y="349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4f4f"/>
                </a:solidFill>
                <a:uFillTx/>
                <a:latin typeface="BlackChancery"/>
              </a:rPr>
              <a:t>The “Interregnum” Period  [</a:t>
            </a:r>
            <a:r>
              <a:rPr b="0" lang="en-US" sz="2800" spc="-1" strike="noStrike" u="sng">
                <a:solidFill>
                  <a:srgbClr val="ff4f4f"/>
                </a:solidFill>
                <a:uFillTx/>
                <a:latin typeface="BlackChancery"/>
              </a:rPr>
              <a:t>1649-1660</a:t>
            </a:r>
            <a:r>
              <a:rPr b="0" lang="en-US" sz="36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Oliver_Cromwell_-_Statue_-_Palace_of_Westminster_-_London"/>
          <p:cNvPicPr/>
          <p:nvPr/>
        </p:nvPicPr>
        <p:blipFill>
          <a:blip r:embed="rId1"/>
          <a:stretch/>
        </p:blipFill>
        <p:spPr>
          <a:xfrm>
            <a:off x="3274920" y="1219320"/>
            <a:ext cx="2592360" cy="396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4" name="Text Box 5"/>
          <p:cNvSpPr/>
          <p:nvPr/>
        </p:nvSpPr>
        <p:spPr>
          <a:xfrm>
            <a:off x="380880" y="5435640"/>
            <a:ext cx="8305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(1649-16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(1654-1660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Pu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PridesPurge"/>
          <p:cNvPicPr/>
          <p:nvPr/>
        </p:nvPicPr>
        <p:blipFill>
          <a:blip r:embed="rId1"/>
          <a:stretch/>
        </p:blipFill>
        <p:spPr>
          <a:xfrm>
            <a:off x="1828800" y="990720"/>
            <a:ext cx="557208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7" name="Text Box 5"/>
          <p:cNvSpPr/>
          <p:nvPr/>
        </p:nvSpPr>
        <p:spPr>
          <a:xfrm>
            <a:off x="228600" y="4175280"/>
            <a:ext cx="8686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mwell purges the House of Commons of moderates [anyone who wasn’t _____________ _________________________ 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ults is the “______________________” Parliament. (the “remaining” Parlia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28600" y="22860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4f4f"/>
                </a:solidFill>
                <a:latin typeface="BlackChancery"/>
              </a:rPr>
              <a:t>The Puritan Commonwealth </a:t>
            </a:r>
            <a:r>
              <a:rPr b="0" lang="en-US" sz="3200" spc="-1" strike="noStrike">
                <a:solidFill>
                  <a:srgbClr val="ff4f4f"/>
                </a:solidFill>
                <a:latin typeface="BlackChancery"/>
              </a:rPr>
              <a:t>[1649-165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048120" y="838080"/>
            <a:ext cx="6075360" cy="61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mwell rules with the Rump Parliament; now government is a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Created a constitution called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strument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n executive [Cromwell]/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 Legislative bod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nually elected the committee of Parli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&gt;Europe is appalled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ther nations don’t recognize 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Oliver Cromwell-2"/>
          <p:cNvPicPr/>
          <p:nvPr/>
        </p:nvPicPr>
        <p:blipFill>
          <a:blip r:embed="rId1"/>
          <a:stretch/>
        </p:blipFill>
        <p:spPr>
          <a:xfrm>
            <a:off x="20520" y="912960"/>
            <a:ext cx="281952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28600" y="125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BlackChancery"/>
              </a:rPr>
              <a:t>The Protectorat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BlackChancery"/>
              </a:rPr>
              <a:t>[1653-166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685800"/>
            <a:ext cx="883908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Commonwealth wasn’t 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_________                        tears up the ineffective Constit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misses the Rump Parliamen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d rules with ___________________                    ____________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236520">
              <a:lnSpc>
                <a:spcPct val="100000"/>
              </a:lnSpc>
              <a:spcBef>
                <a:spcPts val="1624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clares _________________ l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236520">
              <a:lnSpc>
                <a:spcPct val="100000"/>
              </a:lnSpc>
              <a:spcBef>
                <a:spcPts val="1624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litary __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ligious tolerance for all, except for Catholics.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ushes a rebellion in Scotland &amp; among the Catholics of Irelan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kills 40% of all ethnic Iris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Oliver Cromwell-2"/>
          <p:cNvPicPr/>
          <p:nvPr/>
        </p:nvPicPr>
        <p:blipFill>
          <a:blip r:embed="rId1"/>
          <a:stretch/>
        </p:blipFill>
        <p:spPr>
          <a:xfrm>
            <a:off x="6705720" y="1219320"/>
            <a:ext cx="243828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28600" y="763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romwell—Lord Protector or King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artoon-Oliver Cromwell"/>
          <p:cNvPicPr/>
          <p:nvPr/>
        </p:nvPicPr>
        <p:blipFill>
          <a:blip r:embed="rId1"/>
          <a:stretch/>
        </p:blipFill>
        <p:spPr>
          <a:xfrm>
            <a:off x="2419200" y="762120"/>
            <a:ext cx="459108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Text Box 4"/>
          <p:cNvSpPr/>
          <p:nvPr/>
        </p:nvSpPr>
        <p:spPr>
          <a:xfrm>
            <a:off x="0" y="43434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land longs for _________________________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mwell dies in 1658 and ______________, takes over, but is a weak leader and military offi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rmy faction ___________the Rump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1143000" y="990720"/>
            <a:ext cx="68580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Restor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60-1688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5289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rliament could no more exist without the Crown than the Crown without Parliament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is was the most important lesson of the English Civil W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3492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4f4f"/>
                </a:solidFill>
                <a:latin typeface="BlackChancery"/>
              </a:rPr>
              <a:t>              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Magna Carta, 12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332080" y="1228680"/>
            <a:ext cx="681192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g John I forced to ____________________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ist of demands made by the no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d a CONTRACT between the king and the no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blished principles which limited the power of the 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stablished ___________________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____________________ righ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king must ask for popula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_____________________ for tax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ccused must have jury tri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Magna Carta-1"/>
          <p:cNvPicPr/>
          <p:nvPr/>
        </p:nvPicPr>
        <p:blipFill>
          <a:blip r:embed="rId1"/>
          <a:stretch/>
        </p:blipFill>
        <p:spPr>
          <a:xfrm>
            <a:off x="380880" y="2971800"/>
            <a:ext cx="1808280" cy="32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5" name="Picture 6" descr="john_1199"/>
          <p:cNvPicPr/>
          <p:nvPr/>
        </p:nvPicPr>
        <p:blipFill>
          <a:blip r:embed="rId2"/>
          <a:stretch/>
        </p:blipFill>
        <p:spPr>
          <a:xfrm>
            <a:off x="380880" y="457200"/>
            <a:ext cx="1798920" cy="228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5228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Charles II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king from 1660-1685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Charles_II_of_England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031080" y="685800"/>
            <a:ext cx="311292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Text Box 4"/>
          <p:cNvSpPr/>
          <p:nvPr/>
        </p:nvSpPr>
        <p:spPr>
          <a:xfrm>
            <a:off x="-6480" y="861840"/>
            <a:ext cx="59500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 made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 by the Rump Parliament in 16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charm, poise, &amp; political skills [unlike his father!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vored religious tol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secret Catholic sympath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zed that he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his father had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228600" y="-158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Charl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609480"/>
            <a:ext cx="914400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6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led the “Cavalier” Parliament [filled with Royalist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Disbanded the 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________________________most Puritan reb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Restored the authority of the Church of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6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Act of Uniformit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ll clergy &amp; church officials had to conform to the Anglica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ook of Common Pr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forbade “non-conformists” to ______________ _________________, or attend English universiti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Charl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853920"/>
            <a:ext cx="91440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7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Parliament excluded all but ___________________ from civilian and military positions. [to the Anglican gentry, the Puritans were considered “radicals” and the Catholics were seen as “traitors!”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79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ny unjustly imprisoned persons could obtain a writ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habeas corp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lling the government to explain _____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0492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James II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king from 1685-1688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James II"/>
          <p:cNvPicPr/>
          <p:nvPr/>
        </p:nvPicPr>
        <p:blipFill>
          <a:blip r:embed="rId1"/>
          <a:stretch/>
        </p:blipFill>
        <p:spPr>
          <a:xfrm>
            <a:off x="20520" y="930240"/>
            <a:ext cx="3408480" cy="462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Text Box 4"/>
          <p:cNvSpPr/>
          <p:nvPr/>
        </p:nvSpPr>
        <p:spPr>
          <a:xfrm>
            <a:off x="3429000" y="701640"/>
            <a:ext cx="556272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 II’ brother (Ch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____________________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 a bigoted convert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without any of Charles II’s shrewdness or 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oked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that Charles II had succeeded in avoid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302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Jam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731880"/>
            <a:ext cx="914400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ed Catholics into the 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the army and na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mped a standing army outside of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rounded himself with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 &amp; attacked Anglican control of the univer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imed the power to 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 with Acts of Parlia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687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Declaration of Liberty of Con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He extended religious toleration without Parliament’s approval or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1143000" y="990720"/>
            <a:ext cx="6858000" cy="505476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Glorious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Revolu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168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Glorious” Revolution: 16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82224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stants in Parliament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to James II’s daughter Mary [raised a Protestant] &amp; her husband, William of O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9480" indent="-235080">
              <a:lnSpc>
                <a:spcPct val="100000"/>
              </a:lnSpc>
              <a:spcBef>
                <a:spcPts val="1749"/>
              </a:spcBef>
              <a:buClr>
                <a:srgbClr val="ff4f4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 was seen as a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9480" indent="-235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ary_ii_england"/>
          <p:cNvPicPr/>
          <p:nvPr/>
        </p:nvPicPr>
        <p:blipFill>
          <a:blip r:embed="rId1"/>
          <a:stretch/>
        </p:blipFill>
        <p:spPr>
          <a:xfrm>
            <a:off x="5334120" y="4367160"/>
            <a:ext cx="1879560" cy="243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7" name="Picture 8" descr="478px-Portrait_of_William_III%2C_%281650-1702%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4386240"/>
            <a:ext cx="1913040" cy="240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28600" y="-158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Glorious” Revolution: 16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685800"/>
            <a:ext cx="91440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volution lasted _______________________,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mes’ forces were quickly def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689, 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_____ (continuing the Stuart line through Mary’s side), but ending the unpopular rule of Jam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xchange for being named joint monarchs, William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y agreed to 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regarded by many historians as the en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_________________________, &amp;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ginnings of its’ ________________________________ ; never again would the king have unlimite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9480" indent="-235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2860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English Bill of Rights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1689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379680" y="609480"/>
            <a:ext cx="576432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settled all of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 between the King &amp; Parlia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ould later serve as a model for the U. S. Bill of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also formed a base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in th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early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entury in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BillOfRights-1689"/>
          <p:cNvPicPr/>
          <p:nvPr/>
        </p:nvPicPr>
        <p:blipFill>
          <a:blip r:embed="rId1"/>
          <a:stretch/>
        </p:blipFill>
        <p:spPr>
          <a:xfrm>
            <a:off x="0" y="693720"/>
            <a:ext cx="3379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5228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English Bill of Rights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1689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514440"/>
            <a:ext cx="8991720" cy="63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 provi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ing could not _______________________________ la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ing could not interfere with the ordinary course of jus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2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taxes levied or standard army maintained in peacetime ________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dom of speech in Parlia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ions of Parliament would be held 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jects had the right of bail, petition, and freedom from excessive fines and cruel and unusual pun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onarch must be a Prote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dom from arbitrary ar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sorship of the press was dr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gious 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Model Parliament, 12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990720"/>
            <a:ext cx="54864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g Edward I brought his military leaders and nobility together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 to ask their consent for new taxes (to satisfy the ____________ ______________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ed the principle of parliament’s “power of the purse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adical new idea for any monarch to ask for an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Medieval_parliament_edward"/>
          <p:cNvPicPr/>
          <p:nvPr/>
        </p:nvPicPr>
        <p:blipFill>
          <a:blip r:embed="rId1"/>
          <a:stretch/>
        </p:blipFill>
        <p:spPr>
          <a:xfrm>
            <a:off x="5591160" y="1071720"/>
            <a:ext cx="3552840" cy="542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57600" y="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Elizabethen “Barg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57600" y="1281240"/>
            <a:ext cx="54864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lia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uld have the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debate and amend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_________________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the royal prerogative [right/choice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Elizabeth &amp; Parliament"/>
          <p:cNvPicPr/>
          <p:nvPr/>
        </p:nvPicPr>
        <p:blipFill>
          <a:blip r:embed="rId1">
            <a:lum contrast="12000"/>
          </a:blip>
          <a:srcRect l="2231" t="0" r="2581" b="0"/>
          <a:stretch/>
        </p:blipFill>
        <p:spPr>
          <a:xfrm>
            <a:off x="284040" y="304920"/>
            <a:ext cx="337356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2" name="Picture 8" descr="elizabeth-1600-coronation"/>
          <p:cNvPicPr/>
          <p:nvPr/>
        </p:nvPicPr>
        <p:blipFill>
          <a:blip r:embed="rId2"/>
          <a:stretch/>
        </p:blipFill>
        <p:spPr>
          <a:xfrm>
            <a:off x="7772400" y="4699080"/>
            <a:ext cx="1346040" cy="2133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14400" y="1544760"/>
            <a:ext cx="75438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Early Stuar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03-1649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Stuart Mon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1418" t="20152" r="1418" b="2238"/>
          <a:stretch/>
        </p:blipFill>
        <p:spPr>
          <a:xfrm>
            <a:off x="0" y="1143000"/>
            <a:ext cx="9124920" cy="46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7" name="Picture 9" descr="StuartCrest"/>
          <p:cNvPicPr/>
          <p:nvPr/>
        </p:nvPicPr>
        <p:blipFill>
          <a:blip r:embed="rId2"/>
          <a:stretch/>
        </p:blipFill>
        <p:spPr>
          <a:xfrm>
            <a:off x="76320" y="5073480"/>
            <a:ext cx="2009520" cy="1676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4038480" y="4952880"/>
            <a:ext cx="50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 quite common for the Stuart monarchs to marry/be royalty from other nations: Denmark, Scotland, France, Portuga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  [ king from 1603-1625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James I-a"/>
          <p:cNvPicPr/>
          <p:nvPr/>
        </p:nvPicPr>
        <p:blipFill>
          <a:blip r:embed="rId1"/>
          <a:stretch/>
        </p:blipFill>
        <p:spPr>
          <a:xfrm>
            <a:off x="760320" y="914400"/>
            <a:ext cx="3278160" cy="56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6"/>
          <p:cNvSpPr/>
          <p:nvPr/>
        </p:nvSpPr>
        <p:spPr>
          <a:xfrm>
            <a:off x="4572000" y="1066680"/>
            <a:ext cx="411480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am surprised that my ancestors should ever be permitted such an institution to come into existence.  I am a stranger, and found it here when I arrived, so that I am obliged to put up with what I cannot get rid o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mic Sans MS"/>
              </a:rPr>
              <a:t>-James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omic Sans MS"/>
              </a:rPr>
              <a:t>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2127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ames I"/>
          <p:cNvPicPr/>
          <p:nvPr/>
        </p:nvPicPr>
        <p:blipFill>
          <a:blip r:embed="rId1"/>
          <a:srcRect l="8812" t="0" r="0" b="0"/>
          <a:stretch/>
        </p:blipFill>
        <p:spPr>
          <a:xfrm>
            <a:off x="6477120" y="1066680"/>
            <a:ext cx="2438280" cy="542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0" y="1041480"/>
            <a:ext cx="632448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Scottish, so he was not accustomed to 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with a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Wanted _____________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quickly alienated a Parliament grown accustomed under the Tudors to act on the premise that _______________ and _________________ </a:t>
            </a:r>
            <a:r>
              <a:rPr b="0" lang="en-US" sz="2500" spc="-1" strike="noStrike">
                <a:solidFill>
                  <a:srgbClr val="262626"/>
                </a:solidFill>
                <a:latin typeface="Comic Sans MS"/>
              </a:rPr>
              <a:t>TOGETHER ruled England as a “balance polity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1:55:34Z</dcterms:created>
  <dc:creator>Ms. Susan M. Pojer</dc:creator>
  <dc:description/>
  <dc:language>en-US</dc:language>
  <cp:lastModifiedBy>Debes John</cp:lastModifiedBy>
  <cp:lastPrinted>2014-03-31T13:31:40Z</cp:lastPrinted>
  <dcterms:modified xsi:type="dcterms:W3CDTF">2014-03-31T17:13:01Z</dcterms:modified>
  <cp:revision>128</cp:revision>
  <dc:subject/>
  <dc:title>English Constitutional Monarchy</dc:title>
</cp:coreProperties>
</file>