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DF8411-F654-453D-A220-E5CAC367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332A1C-CEBE-4CDC-AF05-1890F7B6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B29B22-E55E-4514-99C6-C69F4410A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586F7D-ADA0-4096-B024-1A895369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C4B838-D0D7-47E9-8311-56C55A22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58605D-50E8-4190-B059-CDE7940B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2738F3-6E4C-4E48-9D82-19F68A78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DFCE01-5F0F-420D-B40D-9194E225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68B1D7-2FBB-492D-81E2-9C7E715D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F44C2F-27AA-4442-B9EA-54EA392AC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DAB0F0-6B64-48A6-8FE5-070A0B099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C62E0D-90C7-49A3-8CA7-AFF33C13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B49F22-15E0-4621-8DD7-47C4D6F7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41E57A-3FC1-4043-B83C-22AA610F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C2E6B4-026C-4E6E-A9AC-3B3CB018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3E598E-8329-4167-B52A-59B5AD94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55E281-FD9C-4041-AC50-ADF0DD17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32963D-D98A-4B51-BA57-C24238156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3DC3B-C95A-4CD1-906D-D78E893A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C53130-096B-4C21-B65E-81307F3B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4082BC-2B17-4BBF-BB07-AD1DE2D3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7653FF-6A79-490C-A97D-229611D6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6D16B6-2C7A-4D16-A438-39A6C5F0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DCBDB3-E40E-4E66-A8FA-B85B3E39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506ECD-7ED2-4FC5-A0A9-C8CF24D8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1B4E9F-3859-421E-9048-82206755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0EE3D9-37C5-49BB-BC97-AEFE1294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EAE338-DE63-4657-996E-6BEA3C90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EB6142-2E7B-43DD-BA40-B90F352F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0D3873-4F01-4404-9B60-63434567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8C0298-61C1-48CF-9589-0824DDD8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80928A-80B4-4A2D-82D6-FE8A3EC9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20041C-E2E2-4609-94CF-90B949E9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4E8D63-234A-4ADA-8F1C-0719330A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892492-7BE0-495F-B29F-44DD1831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12557-118B-46F0-9DDE-68AFEF09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DF8DD4-5C52-4856-AC9B-83C2E0002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41D3E8-3C9A-4366-A509-45A455D6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0697C3-8E42-4B53-A523-7F7B962F8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DFB299-5EFA-4E4E-A8FD-2438E41EF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D06-E25F-4279-9F0D-F86E3C89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65C-DD5F-47AA-82F3-5FBC2E8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4A-23FD-4589-BB52-D92B75FF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DDE-FA6B-42EA-BED7-2FA72A09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A37-2F54-4E17-9178-DF80A12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9FE-9F72-49CB-A579-96C56EB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BA1-F56A-4405-8E39-7E872EF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922-3F7A-43C3-8C0F-694580D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F0E-A909-4964-B812-D570673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6ED-9701-431C-A244-9B8D11E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9A1-07AF-4FA8-9C1B-B533F73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B98-102E-4D51-BBF6-D93115F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6A7-1E59-467E-8610-C884BC00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upload.wikimedia.org/wikipedia/commons/c/cf/Portrait_of_William_III%2C_%281650-1702%29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219320" y="914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English</a:t>
            </a:r>
            <a:br>
              <a:rPr sz="7200"/>
            </a:br>
            <a:r>
              <a:rPr b="0" lang="en-US" sz="7200" spc="-1" strike="noStrike">
                <a:solidFill>
                  <a:srgbClr val="0066ff"/>
                </a:solidFill>
                <a:latin typeface="Elephant"/>
              </a:rPr>
              <a:t>Civil War &amp; 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811600" y="1015920"/>
            <a:ext cx="61038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also alienated the ______________by his strong defense of the ____________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Many of England’s gentry [mostly rich landowners below the level of the nobility] becam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These _________________ ___________formed an important and large part of the House of Comm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&gt;It was NOT WISE to alienate them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ames I-b"/>
          <p:cNvPicPr/>
          <p:nvPr/>
        </p:nvPicPr>
        <p:blipFill>
          <a:blip r:embed="rId1">
            <a:lum contrast="6000"/>
          </a:blip>
          <a:srcRect l="9880" t="5647" r="6171" b="13410"/>
          <a:stretch/>
        </p:blipFill>
        <p:spPr>
          <a:xfrm>
            <a:off x="220680" y="1008000"/>
            <a:ext cx="259092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ames I-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53120" y="914400"/>
            <a:ext cx="299088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0" y="914400"/>
            <a:ext cx="6400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 he fa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Large royal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wasn’t English </a:t>
            </a:r>
            <a:r>
              <a:rPr b="0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he didn’t understand _____________ _________ [esp. English law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Believed in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339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lashed with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raised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36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ithout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381360" y="629136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 [king from 1625-1649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harles I - Daniel Mytens the Elder"/>
          <p:cNvPicPr/>
          <p:nvPr/>
        </p:nvPicPr>
        <p:blipFill>
          <a:blip r:embed="rId1">
            <a:lum contrast="6000"/>
          </a:blip>
          <a:srcRect l="2003" t="0" r="0" b="0"/>
          <a:stretch/>
        </p:blipFill>
        <p:spPr>
          <a:xfrm>
            <a:off x="6121440" y="965160"/>
            <a:ext cx="302256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0" y="965160"/>
            <a:ext cx="61214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ro- _____________________ ceremonies and rit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Uniformity of church services imposed by a church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nglican </a:t>
            </a:r>
            <a:r>
              <a:rPr b="0" i="1" lang="en-US" sz="2800" spc="-1" strike="noStrike">
                <a:solidFill>
                  <a:srgbClr val="262626"/>
                </a:solidFill>
                <a:latin typeface="Comic Sans MS"/>
              </a:rPr>
              <a:t>Book of Common Prayer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for both England AND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een as too ________________________  by the Purit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-1676520" y="419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 I &amp;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x3"/>
          <p:cNvPicPr/>
          <p:nvPr/>
        </p:nvPicPr>
        <p:blipFill>
          <a:blip r:embed="rId1"/>
          <a:stretch/>
        </p:blipFill>
        <p:spPr>
          <a:xfrm>
            <a:off x="5867280" y="0"/>
            <a:ext cx="228600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0" y="1538280"/>
            <a:ext cx="9144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Charles constantly at war with Spain and Fr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Always needed ________________, but how to get it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Usually Parliament would give Charles money from taxes to fund his w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Periodically, Parliament would 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In ______________, Charles would 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__and try to rule England without it </a:t>
            </a:r>
            <a:r>
              <a:rPr b="0" lang="en-US" sz="2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 have to find funds in other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62626"/>
                </a:solidFill>
                <a:latin typeface="Comic Sans MS"/>
              </a:rPr>
              <a:t>Forced “____________,” selling aristocratic ____________ ___________________________________________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Forced loans &amp; sale of tit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1006560"/>
            <a:ext cx="79246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 _____________-sent letters telling his subjects "lovingly, freely, and voluntarily" to give him money, under the 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f they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 (with little hope of being repa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ale of aristocratic titles-Charles sold 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(______________________________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in order to raise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96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Ship Money Assess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ap-ship money assessments-1636"/>
          <p:cNvPicPr/>
          <p:nvPr/>
        </p:nvPicPr>
        <p:blipFill>
          <a:blip r:embed="rId1"/>
          <a:srcRect l="3569" t="12053" r="3569" b="2157"/>
          <a:stretch/>
        </p:blipFill>
        <p:spPr>
          <a:xfrm>
            <a:off x="17640" y="1430280"/>
            <a:ext cx="38034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3811680" y="1066680"/>
            <a:ext cx="531468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A medieval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 for def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Charles began to 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____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These things got him around the need to call Parliament into session for a while, but eventually he needed to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mic Sans MS"/>
              </a:rPr>
              <a:t>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6040" y="1652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etition of Rights, 16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tition of Rights - 1628"/>
          <p:cNvPicPr/>
          <p:nvPr/>
        </p:nvPicPr>
        <p:blipFill>
          <a:blip r:embed="rId1"/>
          <a:stretch/>
        </p:blipFill>
        <p:spPr>
          <a:xfrm>
            <a:off x="5238720" y="90360"/>
            <a:ext cx="3371760" cy="173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160200" y="1828800"/>
            <a:ext cx="891540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eturn for 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, Charles I agr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mprisonment without due c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 Parliament’s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utting soldiers in private h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3184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artial law during peac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harles signed it, and then ____________________,  dissolving Parliament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60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Short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harles I Resting from the Hunt-Van Dyck-1635"/>
          <p:cNvPicPr/>
          <p:nvPr/>
        </p:nvPicPr>
        <p:blipFill>
          <a:blip r:embed="rId1"/>
          <a:stretch/>
        </p:blipFill>
        <p:spPr>
          <a:xfrm>
            <a:off x="6108840" y="762120"/>
            <a:ext cx="3046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0" y="628560"/>
            <a:ext cx="610884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Parlia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No Parliament for _______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to end a rebellion in Scotland &amp; for a war with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 in 16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demands 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harles ____________________ ____________ after 3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181480" y="6019920"/>
            <a:ext cx="358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Charles I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by Van Dyck (163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69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Long”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666880" y="762120"/>
            <a:ext cx="647712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rles _____________________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he 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 into session later that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first things Parliament did was pass the 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, saying the king MU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, &amp; only Parliament could end a 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goes into the Parliament to try to end the session-Fai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les heads north to form an arm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375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rles I - Daniel Mytens the Elder"/>
          <p:cNvPicPr/>
          <p:nvPr/>
        </p:nvPicPr>
        <p:blipFill>
          <a:blip r:embed="rId1">
            <a:lum contrast="6000"/>
          </a:blip>
          <a:srcRect l="2671" t="0" r="4006" b="0"/>
          <a:stretch/>
        </p:blipFill>
        <p:spPr>
          <a:xfrm>
            <a:off x="11160" y="716040"/>
            <a:ext cx="2666880" cy="407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Civil 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2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Backgrou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215-160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3492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ivil War </a:t>
            </a:r>
            <a:br>
              <a:rPr sz="4000"/>
            </a:b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(1642-16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12408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5333760" y="27273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962520" y="2117880"/>
            <a:ext cx="1218960" cy="114300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40000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96920" y="2970360"/>
            <a:ext cx="42228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 &amp; W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rge land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urch offic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35712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56080" y="2970360"/>
            <a:ext cx="378792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of 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 &amp; E Eng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rit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23328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cavalier"/>
          <p:cNvPicPr/>
          <p:nvPr/>
        </p:nvPicPr>
        <p:blipFill>
          <a:blip r:embed="rId1"/>
          <a:stretch/>
        </p:blipFill>
        <p:spPr>
          <a:xfrm>
            <a:off x="990720" y="130320"/>
            <a:ext cx="1299960" cy="160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Picture 14" descr="roundhead"/>
          <p:cNvPicPr/>
          <p:nvPr/>
        </p:nvPicPr>
        <p:blipFill>
          <a:blip r:embed="rId2"/>
          <a:stretch/>
        </p:blipFill>
        <p:spPr>
          <a:xfrm>
            <a:off x="6697800" y="135000"/>
            <a:ext cx="1158840" cy="162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7"/>
          <p:cNvSpPr/>
          <p:nvPr/>
        </p:nvSpPr>
        <p:spPr>
          <a:xfrm>
            <a:off x="6008760" y="1674720"/>
            <a:ext cx="2514600" cy="1295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Roundhea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1619280"/>
            <a:ext cx="2514600" cy="1295280"/>
          </a:xfrm>
          <a:prstGeom prst="rect">
            <a:avLst/>
          </a:prstGeom>
          <a:solidFill>
            <a:srgbClr val="c4a7ff"/>
          </a:solidFill>
          <a:ln w="0">
            <a:noFill/>
          </a:ln>
          <a:effectLst>
            <a:outerShdw dist="17819" dir="2700000" blurRad="0" rotWithShape="0">
              <a:srgbClr val="766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Chancery"/>
              </a:rPr>
              <a:t>_______________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BlackChancery"/>
              </a:rPr>
              <a:t>(Cavali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92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192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289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Oliver Cromwell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599-165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Oliver Cromwell-1657"/>
          <p:cNvPicPr/>
          <p:nvPr/>
        </p:nvPicPr>
        <p:blipFill>
          <a:blip r:embed="rId1"/>
          <a:stretch/>
        </p:blipFill>
        <p:spPr>
          <a:xfrm>
            <a:off x="6586560" y="3200400"/>
            <a:ext cx="235260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6240" y="10796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icer of the _______________________ army [cavalry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New Model Ar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the army that defeated royal forces and now controlled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75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harles’ def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746280"/>
            <a:ext cx="9144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 is ______________________ at Marston Moor, Naseby, and Pre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_______________________ to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 expected him to accept its demands for _________________________ , but he escaped &amp; attempted to forge an alliance with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rovoked the ________________________ (1648–49) and a second defeat for Charles, who was captured, tried, convicted, &amp;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archy was ______________ &amp; a republic called the _____________________ (also known as the Cromwellian Interregnum) was decl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14400" y="1544760"/>
            <a:ext cx="7543800" cy="45136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Interregn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Elephant"/>
              </a:rPr>
              <a:t>(period between Monarc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49-1660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28600" y="349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The “Interregnum” Period  [</a:t>
            </a:r>
            <a:r>
              <a:rPr b="0" lang="en-US" sz="2800" spc="-1" strike="noStrike" u="sng">
                <a:solidFill>
                  <a:srgbClr val="ff4f4f"/>
                </a:solidFill>
                <a:uFillTx/>
                <a:latin typeface="BlackChancery"/>
              </a:rPr>
              <a:t>1649-1660</a:t>
            </a:r>
            <a:r>
              <a:rPr b="0" lang="en-US" sz="36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Oliver_Cromwell_-_Statue_-_Palace_of_Westminster_-_London"/>
          <p:cNvPicPr/>
          <p:nvPr/>
        </p:nvPicPr>
        <p:blipFill>
          <a:blip r:embed="rId1"/>
          <a:stretch/>
        </p:blipFill>
        <p:spPr>
          <a:xfrm>
            <a:off x="3274920" y="1219320"/>
            <a:ext cx="2592360" cy="39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80880" y="543564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49-16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(1654-1660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Pu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ridesPurge"/>
          <p:cNvPicPr/>
          <p:nvPr/>
        </p:nvPicPr>
        <p:blipFill>
          <a:blip r:embed="rId1"/>
          <a:stretch/>
        </p:blipFill>
        <p:spPr>
          <a:xfrm>
            <a:off x="1828800" y="990720"/>
            <a:ext cx="557208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228600" y="4175280"/>
            <a:ext cx="8686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purges the House of Commons of moderates [anyone who wasn’t _____________ _________________________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s is the “______________________” Parliament. (the “remaining”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The Puritan Commonwealth </a:t>
            </a:r>
            <a:r>
              <a:rPr b="0" lang="en-US" sz="3200" spc="-1" strike="noStrike">
                <a:solidFill>
                  <a:srgbClr val="ff4f4f"/>
                </a:solidFill>
                <a:latin typeface="BlackChancery"/>
              </a:rPr>
              <a:t>[1649-165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8120" y="838080"/>
            <a:ext cx="6075360" cy="61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rules with the Rump Parliament; now government is a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Created a constitution called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strument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 executive [Cromwell]/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 Legislative bod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nually elected the committee of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&gt;Europe is appalled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ther nations don’t recognize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Oliver Cromwell-2"/>
          <p:cNvPicPr/>
          <p:nvPr/>
        </p:nvPicPr>
        <p:blipFill>
          <a:blip r:embed="rId1"/>
          <a:stretch/>
        </p:blipFill>
        <p:spPr>
          <a:xfrm>
            <a:off x="20520" y="912960"/>
            <a:ext cx="28195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125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BlackChancery"/>
              </a:rPr>
              <a:t>The Protectorat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BlackChancery"/>
              </a:rPr>
              <a:t>[1653-166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685800"/>
            <a:ext cx="88390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ommonwealth wasn’t 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__________________________                        tears up the ineffective Constit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misses the Rump Parliam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d rules with ___________________                    ____________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clares _________________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23652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litary 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igious tolerance for all, except for Catholics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3840" indent="-331920">
              <a:lnSpc>
                <a:spcPct val="100000"/>
              </a:lnSpc>
              <a:spcBef>
                <a:spcPts val="1624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ushes a rebellion in Scotland &amp; among the Catholics of Irelan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kills 40% of all ethnic Iris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Oliver Cromwell-2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" y="763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Cromwell—Lord Protector or King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artoon-Oliver Cromwell"/>
          <p:cNvPicPr/>
          <p:nvPr/>
        </p:nvPicPr>
        <p:blipFill>
          <a:blip r:embed="rId1"/>
          <a:stretch/>
        </p:blipFill>
        <p:spPr>
          <a:xfrm>
            <a:off x="2419200" y="762120"/>
            <a:ext cx="45910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Text Box 4"/>
          <p:cNvSpPr/>
          <p:nvPr/>
        </p:nvSpPr>
        <p:spPr>
          <a:xfrm>
            <a:off x="0" y="43434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land longs for 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mwell dies in 1658 and ______________, takes over, but is a weak leader and military offi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Dauphi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my faction ___________the Rump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143000" y="990720"/>
            <a:ext cx="68580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st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60-1688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528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rliament could no more exist without the Crown than the Crown without Parliament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is was the most important lesson of the English Civil W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349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4f4f"/>
                </a:solidFill>
                <a:latin typeface="BlackChancery"/>
              </a:rPr>
              <a:t>              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agna Carta, 12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32080" y="1228680"/>
            <a:ext cx="68119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 John I forced to ____________________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ist of demands made by the no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CONTRACT between the king and the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ed principles which limited the power of the 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stablished ___________________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 righ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king must ask for popula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_____________________ for tax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277920">
              <a:lnSpc>
                <a:spcPct val="100000"/>
              </a:lnSpc>
              <a:spcBef>
                <a:spcPts val="1312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ccused must have jury t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agna Carta-1"/>
          <p:cNvPicPr/>
          <p:nvPr/>
        </p:nvPicPr>
        <p:blipFill>
          <a:blip r:embed="rId1"/>
          <a:stretch/>
        </p:blipFill>
        <p:spPr>
          <a:xfrm>
            <a:off x="380880" y="2971800"/>
            <a:ext cx="180828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" name="Picture 6" descr="john_1199"/>
          <p:cNvPicPr/>
          <p:nvPr/>
        </p:nvPicPr>
        <p:blipFill>
          <a:blip r:embed="rId2"/>
          <a:stretch/>
        </p:blipFill>
        <p:spPr>
          <a:xfrm>
            <a:off x="380880" y="457200"/>
            <a:ext cx="17989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60-1685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harles_II_of_Englan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31080" y="685800"/>
            <a:ext cx="311292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Text Box 4"/>
          <p:cNvSpPr/>
          <p:nvPr/>
        </p:nvSpPr>
        <p:spPr>
          <a:xfrm>
            <a:off x="-6480" y="861840"/>
            <a:ext cx="5950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made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by the Rump Parliament in 16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charm, poise, &amp; political skills [unlike his father!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vored religious tol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secret Catholic sympath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zed that 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his father had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609480"/>
            <a:ext cx="91440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led the “Cavalier” Parliament [filled with Royalis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Disbanded the 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________________________most Puritan re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Restored the authority of the Church of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ct of Uniformit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ll clergy &amp; church officials had to conform to the Anglic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ook of Common Pr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forbade “non-conformists” to ______________ _________________, or attend English universiti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Charl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85392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Parliament excluded all but ___________________ from civilian and military positions. [to the Anglican gentry, the Puritans were considered “radicals” and the Catholics were seen as “traitors!”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7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Any unjustly imprisoned persons could obtain a wri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abeas corp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lling the government to explain __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king from 1685-1688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ames II"/>
          <p:cNvPicPr/>
          <p:nvPr/>
        </p:nvPicPr>
        <p:blipFill>
          <a:blip r:embed="rId1"/>
          <a:stretch/>
        </p:blipFill>
        <p:spPr>
          <a:xfrm>
            <a:off x="20520" y="930240"/>
            <a:ext cx="3408480" cy="462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Text Box 4"/>
          <p:cNvSpPr/>
          <p:nvPr/>
        </p:nvSpPr>
        <p:spPr>
          <a:xfrm>
            <a:off x="3429000" y="701640"/>
            <a:ext cx="55627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 II’ brother (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a bigoted conver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without any of Charles II’s shrewdness or 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oke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hat Charles II had succeeded in avoi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302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King Jam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731880"/>
            <a:ext cx="914400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ed Catholics into the 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the army and na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mped a standing army outside of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rounded himself with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 &amp; attacked Anglican control of the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imed the power to 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 with Acts of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624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687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Declaration of Liberty of Con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He extended religious toleration without Parliament’s approval 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143000" y="990720"/>
            <a:ext cx="6858000" cy="505476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 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Glorious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Revolu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168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82224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stants in Parliament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 to James II’s daughter Mary [raised a Protestant] &amp; her husband, William of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buClr>
                <a:srgbClr val="ff4f4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 was seen as a 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ary_ii_england"/>
          <p:cNvPicPr/>
          <p:nvPr/>
        </p:nvPicPr>
        <p:blipFill>
          <a:blip r:embed="rId1"/>
          <a:stretch/>
        </p:blipFill>
        <p:spPr>
          <a:xfrm>
            <a:off x="5334120" y="4367160"/>
            <a:ext cx="187956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8" descr="478px-Portrait_of_William_III%2C_%281650-1702%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4386240"/>
            <a:ext cx="191304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-158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“Glorious” Revolution: 16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85800"/>
            <a:ext cx="91440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volution lasted _______________________,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’ forces were quickly def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689, 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 (continuing the Stuart line through Mary’s side), but ending the unpopular rule of Jam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xchange for being named joint monarchs, William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y agreed to 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regarded by many historians as the e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, &amp;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nings of its’ ________________________________ ; never again would the king have un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94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79680" y="609480"/>
            <a:ext cx="576432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ettled all of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 between the King &amp; Parli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later serve as a model for the U. S. Bill of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also formed a bas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_____ 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y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BillOfRights-1689"/>
          <p:cNvPicPr/>
          <p:nvPr/>
        </p:nvPicPr>
        <p:blipFill>
          <a:blip r:embed="rId1"/>
          <a:stretch/>
        </p:blipFill>
        <p:spPr>
          <a:xfrm>
            <a:off x="0" y="693720"/>
            <a:ext cx="3379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28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English Bill of Rights  [</a:t>
            </a:r>
            <a:r>
              <a:rPr b="0" lang="en-US" sz="3200" spc="-1" strike="noStrike" u="sng">
                <a:solidFill>
                  <a:srgbClr val="ff4f4f"/>
                </a:solidFill>
                <a:uFillTx/>
                <a:latin typeface="BlackChancery"/>
              </a:rPr>
              <a:t>1689</a:t>
            </a: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514440"/>
            <a:ext cx="899172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pro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_______________________________ 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 could not interfere with the ordinary course of jus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2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taxes levied or standard army maintained in peacetime 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of speech in Parlia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s of Parliament would be held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jects had the right of bail, petition, and freedom from excessive fines and cruel and unusual pu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narch must be a Prote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dom from arbitrary ar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sorship of the press was dr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45960">
              <a:lnSpc>
                <a:spcPct val="100000"/>
              </a:lnSpc>
              <a:spcBef>
                <a:spcPts val="1250"/>
              </a:spcBef>
              <a:buClr>
                <a:srgbClr val="ff4f4f"/>
              </a:buClr>
              <a:buSzPct val="9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gious 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Model Parliament, 12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990720"/>
            <a:ext cx="5486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g Edward I brought his military leaders and nobility together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 to ask their consent for new taxes (to satisfy the ____________ ______________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ed the principle of parliament’s “power of the purse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adical new idea for any monarch to ask for an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edieval_parliament_edward"/>
          <p:cNvPicPr/>
          <p:nvPr/>
        </p:nvPicPr>
        <p:blipFill>
          <a:blip r:embed="rId1"/>
          <a:stretch/>
        </p:blipFill>
        <p:spPr>
          <a:xfrm>
            <a:off x="5591160" y="1071720"/>
            <a:ext cx="3552840" cy="542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57600" y="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Elizabethen “Bar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57600" y="128124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have the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debate and amend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_________________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27792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d the royal prerogative [right/choice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Elizabeth &amp; Parliament"/>
          <p:cNvPicPr/>
          <p:nvPr/>
        </p:nvPicPr>
        <p:blipFill>
          <a:blip r:embed="rId1">
            <a:lum contrast="12000"/>
          </a:blip>
          <a:srcRect l="2231" t="0" r="2581" b="0"/>
          <a:stretch/>
        </p:blipFill>
        <p:spPr>
          <a:xfrm>
            <a:off x="284040" y="304920"/>
            <a:ext cx="337356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8" descr="elizabeth-1600-coronation"/>
          <p:cNvPicPr/>
          <p:nvPr/>
        </p:nvPicPr>
        <p:blipFill>
          <a:blip r:embed="rId2"/>
          <a:stretch/>
        </p:blipFill>
        <p:spPr>
          <a:xfrm>
            <a:off x="7772400" y="4699080"/>
            <a:ext cx="1346040" cy="213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ritish%20Flag"/>
          <p:cNvPicPr/>
          <p:nvPr/>
        </p:nvPicPr>
        <p:blipFill>
          <a:blip r:embed="rId1"/>
          <a:srcRect l="870" t="1294" r="1455" b="1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14400" y="1544760"/>
            <a:ext cx="7543800" cy="3957480"/>
          </a:xfrm>
          <a:prstGeom prst="rect">
            <a:avLst/>
          </a:prstGeom>
          <a:noFill/>
          <a:ln w="9360">
            <a:solidFill>
              <a:srgbClr val="b40000"/>
            </a:solidFill>
            <a:miter/>
          </a:ln>
          <a:effectLst>
            <a:outerShdw dist="17819" dir="2700000" blurRad="0" rotWithShape="0">
              <a:srgbClr val="6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Early Stuar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Elephant"/>
              </a:rPr>
              <a:t>(1603-164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The Stuart Mon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418" t="20152" r="1418" b="2238"/>
          <a:stretch/>
        </p:blipFill>
        <p:spPr>
          <a:xfrm>
            <a:off x="0" y="1143000"/>
            <a:ext cx="912492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Picture 9" descr="StuartCrest"/>
          <p:cNvPicPr/>
          <p:nvPr/>
        </p:nvPicPr>
        <p:blipFill>
          <a:blip r:embed="rId2"/>
          <a:stretch/>
        </p:blipFill>
        <p:spPr>
          <a:xfrm>
            <a:off x="76320" y="5073480"/>
            <a:ext cx="200952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038480" y="4952880"/>
            <a:ext cx="50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quite common for the Stuart monarchs to marry/be royalty from other nations: Denmark, Scotland, France, Portug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  [ king from 1603-1625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ames I-a"/>
          <p:cNvPicPr/>
          <p:nvPr/>
        </p:nvPicPr>
        <p:blipFill>
          <a:blip r:embed="rId1"/>
          <a:stretch/>
        </p:blipFill>
        <p:spPr>
          <a:xfrm>
            <a:off x="760320" y="914400"/>
            <a:ext cx="327816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4572000" y="1066680"/>
            <a:ext cx="41148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am surprised that my ancestors should ever be permitted such an institution to come into existence.  I am a stranger, and found it here when I arrived, so that I am obliged to put up with what I cannot get rid o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-Jame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omic Sans MS"/>
              </a:rPr>
              <a:t>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127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4f4f"/>
                </a:solidFill>
                <a:uFillTx/>
                <a:latin typeface="BlackChancery"/>
              </a:rPr>
              <a:t>Jam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ames I"/>
          <p:cNvPicPr/>
          <p:nvPr/>
        </p:nvPicPr>
        <p:blipFill>
          <a:blip r:embed="rId1"/>
          <a:srcRect l="8812" t="0" r="0" b="0"/>
          <a:stretch/>
        </p:blipFill>
        <p:spPr>
          <a:xfrm>
            <a:off x="6477120" y="1066680"/>
            <a:ext cx="2438280" cy="542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0" y="1041480"/>
            <a:ext cx="632448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Scottish, so he was not accustomed to 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___________________with a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Wanted _____________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62"/>
              </a:spcBef>
              <a:buClr>
                <a:srgbClr val="c4a7ff"/>
              </a:buClr>
              <a:buSzPct val="90000"/>
              <a:buFont typeface="Monarchbat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mic Sans MS"/>
              </a:rPr>
              <a:t>He quickly alienated a Parliament grown accustomed under the Tudors to act on the premise that _______________ and _________________ </a:t>
            </a:r>
            <a:r>
              <a:rPr b="0" lang="en-US" sz="2500" spc="-1" strike="noStrike">
                <a:solidFill>
                  <a:srgbClr val="262626"/>
                </a:solidFill>
                <a:latin typeface="Comic Sans MS"/>
              </a:rPr>
              <a:t>TOGETHER ruled England as a “balance polity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55:34Z</dcterms:created>
  <dc:creator>Ms. Susan M. Pojer</dc:creator>
  <dc:description/>
  <dc:language>en-US</dc:language>
  <cp:lastModifiedBy>Debes John</cp:lastModifiedBy>
  <cp:lastPrinted>2014-03-31T13:31:40Z</cp:lastPrinted>
  <dcterms:modified xsi:type="dcterms:W3CDTF">2014-03-31T17:13:01Z</dcterms:modified>
  <cp:revision>128</cp:revision>
  <dc:subject/>
  <dc:title>English Constitutional Monarchy</dc:title>
</cp:coreProperties>
</file>