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A00CB-BD6E-4EDE-98AB-4C2F6FFAA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33F4-B765-44A8-864C-2668505B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8BEC-D82C-4B1F-8848-4A6F62E63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54AD1-2670-4D03-9DCD-C71C7E9EC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47CD3-CD62-4289-ABA5-1FCB5D01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BAC8-BD1E-4361-B6E9-965A591D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507B-1ACF-4B11-9668-85A50964C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3837-F680-4730-9DEF-7C26A490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016A2-97F7-43D3-9912-E56C76C6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F5C4-30C6-45A7-88BE-94BB07BE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ECB4-262D-4E6B-AAAB-6DBA4CBB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1912-61DF-47A4-9020-3EE413C44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856B-73A7-4CD1-BBBE-46CED4AE7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electors pledged to the candidate who receives  the largest number of popular votes will be that state’s representatives in the electoral college.</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82"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84"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votes </a:t>
            </a:r>
            <a:endParaRPr b="0" lang="en-US" sz="3600" spc="-1" strike="noStrike">
              <a:solidFill>
                <a:srgbClr val="ffffff"/>
              </a:solidFill>
              <a:latin typeface="Times New Roman"/>
            </a:endParaRPr>
          </a:p>
        </p:txBody>
      </p:sp>
      <p:sp>
        <p:nvSpPr>
          <p:cNvPr id="85"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88"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8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91"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9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9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9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0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03"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0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06"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08"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0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11"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13" name="Text Box 7"/>
          <p:cNvSpPr/>
          <p:nvPr/>
        </p:nvSpPr>
        <p:spPr>
          <a:xfrm>
            <a:off x="0" y="838080"/>
            <a:ext cx="9296280" cy="5292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 addition, since each state gets a # of electoral votes equal to its’ Congressmen/women, all people are not equally represented. This gives citizens of smaller states a “larger” voice in the electoral vote.</a:t>
            </a:r>
            <a:endParaRPr b="0" lang="en-US" sz="24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
        <p:nvSpPr>
          <p:cNvPr id="11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6" name="Text Box 7"/>
          <p:cNvSpPr/>
          <p:nvPr/>
        </p:nvSpPr>
        <p:spPr>
          <a:xfrm>
            <a:off x="0" y="838080"/>
            <a:ext cx="9296280" cy="51084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House has decided two elections: in 1800 &amp; 1824.</a:t>
            </a:r>
            <a:r>
              <a:rPr b="1" i="1"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117"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9"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20"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22"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23"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5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5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5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6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6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65"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66"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67"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68"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69"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7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7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76"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77"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79" name="Rectangle 3"/>
          <p:cNvSpPr/>
          <p:nvPr/>
        </p:nvSpPr>
        <p:spPr>
          <a:xfrm>
            <a:off x="0" y="2362320"/>
            <a:ext cx="914400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i.e.-if you cast  your vote for “Obama,” you’re actually voting for a democratic elector, who has pledged to cast their electoral vote for Obama, if Obama wins PA’s popular vote</a:t>
            </a:r>
            <a:endParaRPr b="0" lang="en-US" sz="3200" spc="-1" strike="noStrike">
              <a:solidFill>
                <a:srgbClr val="ffffff"/>
              </a:solidFill>
              <a:latin typeface="Times New Roman"/>
            </a:endParaRPr>
          </a:p>
        </p:txBody>
      </p:sp>
      <p:sp>
        <p:nvSpPr>
          <p:cNvPr id="80"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5-01-07T15:20:25Z</dcterms:modified>
  <cp:revision>41</cp:revision>
  <dc:subject/>
  <dc:title>No Slide Title</dc:title>
</cp:coreProperties>
</file>