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9BD-E329-408C-BDF1-0EED5F41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991-D037-4AE7-9DC0-0477042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8A6-B2FF-4597-ADFB-9093944F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379-3732-4982-892C-D843025A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2F9D-1218-474E-911C-4EECC3E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1FCE-DE32-4A80-8F0D-7A57D5D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6E1F-B611-4512-B794-A5134121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642E-4B78-43CE-BD5A-6A6E6C5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5BF-2EE8-4142-A129-75561B0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D9AE-47A6-427D-A74F-782EEC49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43F7-2204-416C-8CBC-B54C779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A50-A116-4F9A-8B1D-0746D93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CF42-8C3D-4940-B53D-BEDC241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33E8-78D3-4233-851D-23FABFF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2EBF-03AF-45E7-B41F-6B95D614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FDF-F986-496B-A375-055DE1F0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D5A5-5D5A-4B35-99BE-BA41BFD4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AD3-EB2D-418B-AAC8-FD57366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E11-490B-4844-A149-E1A8924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1D5-1C30-4FF1-9C59-CFC9F42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E1D-AD1B-4B1E-8CCB-B8008945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986-3B7E-49BF-AACA-F56E088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230-D9F8-48AB-A94C-1DA490A2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890-2462-4797-A70E-79ED672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9FE-CC13-4FCD-8B28-61ADC492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3FE-693D-4598-B376-6804FB7B1A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MERCIAL REVOLU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rcanti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ording to this theory, there was a certain amount of wealth in 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ments, therefore, were beholden to try to accumulate as much of this wealth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ment control of foreign trade became extremely important, in order to ensure the prosperity and military security of the st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particular, it demands a positive balance of tra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lon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the 1640's, demand led to inflation, then speculation, then something of an economic slum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 a result of this slump, combined with the increasingly popular mercantilist theory;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ngland, France, Holland, Russia &amp; other European countries became determined to establish foreign colon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ommercial Revolution was a direct cause of the age of discovery &amp; exploration; as nations tried to accumulate more wealth, they looked overseas to do 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orts of silver from the New World and population growth led to inflation – effected the poor and peasants the m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ndowners, merchants, artisans grow rich – and often reinvested money in exploration ven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pulation growth and enclosure pushed people of the land into c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of the Commercial Revolu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pulation growth: 60 million in 1400; 75 million in 1500; 100 million in 16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ce revolution”: (long slow upward trend); increased food prices, increased volume of money, influx of gold &amp; silver from the New Wor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se of capita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pita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pitalism had existed in some forms in antiquity, but faded away with manorial system of the Middle 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uring the Middle Ages (especially early), investment and money lending (usury) limited by Church la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vived in the late Middle Ages through trade and population grow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ntrepreneurs ignore church laws banning usury, leading to growth in bank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n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irculation of foreign coins (a result of increased trade) began to cause problem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ney changers became a necessity. As they traded local and foreign coins, money changers set the value of various currenc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adually money changers became established  bankers. They started issuing letters of credit, the ancestors of modern credit c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n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584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major banking firms being in northern Italy (the Medici fami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rn Europ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gger family of Augsb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ob Fugger (1459-152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ed Charles V, allowing him to become Holy Roman Emper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ed a lot of money to the Catholic Chu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fugger"/>
          <p:cNvPicPr/>
          <p:nvPr/>
        </p:nvPicPr>
        <p:blipFill>
          <a:blip r:embed="rId1"/>
          <a:stretch/>
        </p:blipFill>
        <p:spPr>
          <a:xfrm>
            <a:off x="380880" y="1371600"/>
            <a:ext cx="3503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ew Kinds of Busin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king expanded to Antwerp in 16th c.,  Amsterdam in 17th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artered companies: the government allowed monopolies in certain area, and the governments profited from those ven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int-stock companies: investors pooled resources for common purpose (forerunner of modern corporation), reduced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oint-Stock compan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iginated in the 14th century, it was the ancestor to the modern corpo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enabled investors to buy shares of ownership with  limited liability- investors were protected from losing any more than their initial investment should the scheme fai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int stock companies could raise larger sums of money for business ven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rthward mov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new practices originated in Italy, quickly spread north, where nation states became the governing political organiz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peculation in the buying and selling of stock offered another possibility for individuals, companies, and nations to get ric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althy European merchants and early bankers formed uneasy alliances with their rulers as commercial interests and government decisions (mercantilism) became intertwined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Europe, an increasing demand for goods forced an inflationary spi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goods started to be in high demand, speculators would try to obtain as much of that good as possible, in many cases, borrowing money to do 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evitably, the demand for those goods would dry up, and those speculators would often be unable to repay the money they borr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1:03:09Z</dcterms:created>
  <dc:creator>MSJ</dc:creator>
  <dc:description/>
  <dc:language>en-US</dc:language>
  <cp:lastModifiedBy>Debes John</cp:lastModifiedBy>
  <dcterms:modified xsi:type="dcterms:W3CDTF">2018-02-21T16:48:53Z</dcterms:modified>
  <cp:revision>12</cp:revision>
  <dc:subject/>
  <dc:title>COMMERCIAL REVOLUTION</dc:title>
</cp:coreProperties>
</file>