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6DAA-3657-4C4D-80E0-C77CA97F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5F3-6735-4F93-BD15-0D912A0E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FD6-B063-4007-A548-38EB3993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69E-DEA7-4159-B08D-811CE921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CE2A-6137-4861-B705-9284B462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DBED-56D9-4A0D-9356-21891487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E0C7-2CF5-4CAC-94E9-79381678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1EB5-8E2E-42AE-85AF-B5BC9D2B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6D2E-71BF-4797-8D06-0E6C659C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FF27-C129-4D82-B2CD-8FC12E6F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BBFC-B110-4E03-B325-C41FDFEF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3CE9-AA7E-40CB-8C24-CB228937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7D53-3A71-4DAC-8F09-8B646AAE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2FAC-3DA7-4C2F-BAFF-BDFA0DDF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79CA-B9F0-42C7-B6AF-A9CE5885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07E1-2BAB-4A85-9DD3-C13B76B8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ACB0-5DC1-4013-9C8E-C22487BB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38ED-B697-479B-B8B6-3923108F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DDA2-2823-48B4-91F3-8CF83A12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ADB0-863B-422E-A6FE-52EE90D7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B068-29B5-4B82-A95B-FB5974CD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E305-7C9E-4B7F-A8C4-4FDE58A6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BCDB-9D7C-408C-A367-238E1AA8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414C-87C9-4DDD-92E8-681A42A7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4AAD-041A-48C3-AAF1-AC2959390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CC03-A0B9-4C61-972A-148990F614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OMMERCIAL REVOLUTION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ercantilis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ccording to this theory, there was a certain amount of wealth in the wor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vernments, therefore, were beholden to try to accumulate as much of this wealth as poss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vernment control of foreign trade became extremely important, in order to ensure the prosperity and military security of the stat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 particular, it demands a positive balance of trad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4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4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loniz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y the 1640's, demand led to inflation, then speculation, then something of an economic slum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s a result of this slump, combined with the increasingly popular mercantilist theory;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ngland, France, Holland, Russia &amp; other European countries became determined to establish foreign colon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Commercial Revolution was a direct cause of the age of discovery &amp; exploration; as nations tried to accumulate more wealth, they looked overseas to do s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mports of silver from the New World and population growth led to inflation – effected the poor and peasants the m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ndowners, merchants, artisans grow rich – and often reinvested money in exploration ven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pulation growth and enclosure pushed people of the land into c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auses of the Commercial Revolution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pulation growth: 60 million in 1400; 75 million in 1500; 100 million in 16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ce revolution”: (long slow upward trend); increased food prices, increased volume of money, influx of gold &amp; silver from the New Worl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ise of capital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apitalis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apitalism had existed in some forms in antiquity, but faded away with manorial system of the Middle Ag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uring the Middle Ages (especially early), investment and money lending (usury) limited by Church law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vived in the late Middle Ages through trade and population growt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ntrepreneurs ignore church laws banning usury, leading to growth in bank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Bank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circulation of foreign coins (a result of increased trade) began to cause problem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ney changers became a necessity. As they traded local and foreign coins, money changers set the value of various currenc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radually money changers became established  bankers. They started issuing letters of credit, the ancestors of modern credit car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Bank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85840" y="914400"/>
            <a:ext cx="5257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 major banking firms being in northern Italy (the Medici famil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rthern Europ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gger family of Augsbur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kob Fugger (1459-152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nced Charles V, allowing him to become Holy Roman Emper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aned a lot of money to the Catholic Chur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4" descr="fugger"/>
          <p:cNvPicPr/>
          <p:nvPr/>
        </p:nvPicPr>
        <p:blipFill>
          <a:blip r:embed="rId1"/>
          <a:stretch/>
        </p:blipFill>
        <p:spPr>
          <a:xfrm>
            <a:off x="380880" y="1371600"/>
            <a:ext cx="3503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ew Kinds of Busines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anking expanded to Antwerp in 16th c.,  Amsterdam in 17th 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artered companies: the government allowed monopolies in certain area, and the governments profited from those vent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oint-stock companies: investors pooled resources for common purpose (forerunner of modern corporation), reduced ris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Joint-Stock compani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riginated in the 14th century, it was the ancestor to the modern corpo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enabled investors to buy shares of ownership with  limited liability- investors were protected from losing any more than their initial investment should the scheme fail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oint stock companies could raise larger sums of money for business ven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orthward movemen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se new practices originated in Italy, quickly spread north, where nation states became the governing political organiz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peculation in the buying and selling of stock offered another possibility for individuals, companies, and nations to get rich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ealthy European merchants and early bankers formed uneasy alliances with their rulers as commercial interests and government decisions (mercantilism) became intertwined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pecul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 Europe, an increasing demand for goods forced an inflationary spir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en goods started to be in high demand, speculators would try to obtain as much of that good as possible, in many cases, borrowing money to do s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evitably, the demand for those goods would dry up, and those speculators would often be unable to repay the money they borrow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1:03:09Z</dcterms:created>
  <dc:creator>MSJ</dc:creator>
  <dc:description/>
  <dc:language>en-US</dc:language>
  <cp:lastModifiedBy>Debes John</cp:lastModifiedBy>
  <dcterms:modified xsi:type="dcterms:W3CDTF">2018-02-21T16:48:53Z</dcterms:modified>
  <cp:revision>12</cp:revision>
  <dc:subject/>
  <dc:title>COMMERCIAL REVOLUTION</dc:title>
</cp:coreProperties>
</file>