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E9F-C5F1-4593-B3EE-04BE7345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28B-6624-4FEE-910B-451F79B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9C7-2ED1-4130-9FFF-8449EB3B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1C2-DB15-404A-ADE9-966DAD00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210A-A90D-42C5-A2BE-D8AE680B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696-B6C6-462A-88B5-121F3E8C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5FAD-F67A-46F1-805E-A509C50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86C-64B3-464A-BA7A-E392B16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CE83-F290-4A17-B31D-659731F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7B8-88F0-4C02-9E82-297B322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200-E0F5-4B60-84A2-D1AB1C9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BC3-6E3B-4F38-B17A-C2EBE2A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C97A-F4A8-4C32-8050-DD1BE05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8BC-036C-4FA6-86DD-C4B912C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052A-06D4-4653-BE21-E63B2E83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EF0F-A472-40D5-88B7-9573E8B7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EEB3-AF0A-44C6-B38D-2AC16E55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F85-D24E-4FCA-A62B-91E0785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2A8-C162-4611-9516-B55EEA08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7D7-D7E1-4BC0-BC4F-194F350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572-7340-4FD3-8FD0-A81BA0B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53D-BD57-4715-8B7E-ED69773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3D3-B49B-476D-A516-1A55B05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009-6F22-4577-8F12-3AEFBCB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F28-29F7-405E-87BD-22E7DA65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CBB3-32A3-4B51-ACF3-1555607F9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MERCIAL REVOLU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rcanti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ording to this theory, there was a certain amount of wealth in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s, therefore, were beholden to try to accumulate as much of this wealth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ment control of foreign trade became extremely important, in order to ensure the prosperity and military security of the st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particular, it demands a positive balance of tra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lon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the 1640's, demand led to inflation, then speculation, then something of an economic slum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 a result of this slump, combined with the increasingly popular mercantilist theory;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gland, France, Holland, Russia &amp; other European countries became determined to establish foreign colon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ommercial Revolution was a direct cause of the age of discovery &amp; exploration; as nations tried to accumulate more wealth, they looked overseas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orts of silver from the New World and population growth led to inflation – effected the poor and peasants the m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ndowners, merchants, artisans grow rich – and often reinvested money in exploration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 and enclosure pushed people of the land into c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of the Commercial Revolu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pulation growth: 60 million in 1400; 75 million in 1500; 100 million in 16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ce revolution”: (long slow upward trend); increased food prices, increased volume of money, influx of gold &amp; silver from the New Wor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se of capita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pita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pitalism had existed in some forms in antiquity, but faded away with manorial system of the Middle 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uring the Middle Ages (especially early), investment and money lending (usury) limited by Church la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ved in the late Middle Ages through trade and population grow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ntrepreneurs ignore church laws banning usury, leading to growth in bank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irculation of foreign coins (a result of increased trade) began to cause problem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ney changers became a necessity. As they traded local and foreign coins, money changers set the value of various currenc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adually money changers became established  bankers. They started issuing letters of credit, the ancestors of modern credit c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n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major banking firms being in northern Italy (the Medici fami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rn Europ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gger family of Augsb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ob Fugger (1459-152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ed Charles V, allowing him to become Holy Roman Emper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ed a lot of money to the Catholic Chu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fugger"/>
          <p:cNvPicPr/>
          <p:nvPr/>
        </p:nvPicPr>
        <p:blipFill>
          <a:blip r:embed="rId1"/>
          <a:stretch/>
        </p:blipFill>
        <p:spPr>
          <a:xfrm>
            <a:off x="380880" y="1371600"/>
            <a:ext cx="3503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ew Kinds of Busin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king expanded to Antwerp in 16th c.,  Amsterdam in 17th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artered companies: the government allowed monopolies in certain area, and the governments profited from those ven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-stock companies: investors pooled resources for common purpose (forerunner of modern corporation), reduced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oint-Stock compan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iginated in the 14th century, it was the ancestor to the modern corpo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enabled investors to buy shares of ownership with  limited liability- investors were protected from losing any more than their initial investment should the scheme fai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int stock companies could raise larger sums of money for business ven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rthward mov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new practices originated in Italy, quickly spread north, where nation states became the governing political organiz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eculation in the buying and selling of stock offered another possibility for individuals, companies, and nations to get ric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althy European merchants and early bankers formed uneasy alliances with their rulers as commercial interests and government decisions (mercantilism) became intertwined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Europe, an increasing demand for goods forced an inflationary spi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goods started to be in high demand, speculators would try to obtain as much of that good as possible, in many cases, borrowing money to do 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evitably, the demand for those goods would dry up, and those speculators would often be unable to repay the money they borr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03:09Z</dcterms:created>
  <dc:creator>MSJ</dc:creator>
  <dc:description/>
  <dc:language>en-US</dc:language>
  <cp:lastModifiedBy>Debes John</cp:lastModifiedBy>
  <dcterms:modified xsi:type="dcterms:W3CDTF">2018-02-21T16:48:53Z</dcterms:modified>
  <cp:revision>12</cp:revision>
  <dc:subject/>
  <dc:title>COMMERCIAL REVOLUTION</dc:title>
</cp:coreProperties>
</file>