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BB3-1E24-47A1-B6A8-7005C711B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4D96-EE81-4AEE-8E99-0110DB750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C9CA-2EB8-46BC-9F89-0CE00CF24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53D-A565-46D4-BA5D-E4542DF3D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5C0-70DA-4ED4-84B5-2EB69ADD2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D3A-0E5D-4101-9307-67EC0CBAA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31B-D4E6-4CF2-8811-B68FB908AE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F65-009A-4396-93A0-D3F66C45F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45D-7D62-438B-ACAA-D0FC01DED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409A-3D82-4C12-A6AE-128D0EE0C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B407-C795-4428-9BD1-DE9C4DED2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5A70-786B-4B53-A17B-D9E22EE7AD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EF7E-C311-4F01-A8A1-312A16BF5C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7BF7-E6CD-46F0-BACD-725E5B6D56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9BC7-C450-4DAE-9ECA-6D780A975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85C-170E-48E8-96C8-B8F73653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EBE-24DA-44E2-82BD-25247BA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3E9-52CE-4C8A-8CC0-5449ADDA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1EA-54FE-4CAB-BD7E-7AF0598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7FD-5125-4A4B-94AA-32A5EEA4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E64A-7035-43A8-AE30-3B189509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924-44AB-4E97-887C-C47E4ABC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2250-9EA0-44D0-9DEC-E031DF9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6AE7-8AB1-40A8-BC0C-05D60657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F484-090F-4D4C-9940-8D0338D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022-A594-4EE1-BA0A-A56FBAA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854-6D4F-4929-9E3C-6FAFA87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E6C-EB91-4A3D-BB97-BBCEF46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581-247F-4B5D-AE09-E8670BD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E996-D8EE-45C2-BFB6-2C49D9C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C84-1D9B-4F0F-90CE-B149CF81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EE1-5493-460F-91FB-64CD9143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4D4-4748-4F87-8400-EEDA4941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FE1-F6A2-4E71-BC7A-0D63DDB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98-D7F8-4537-97DD-9BC875C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A8B-1BFB-4582-894B-F7F705D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F3F-2E74-4CFD-86F7-23220E8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ECA-9288-4245-9369-39C1F816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0C0-E452-434D-87C5-75B2FED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87F2-8B06-423F-9AFD-2DA29139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A4E4-D398-472D-9CBC-7366DF180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Constitutional Convention begins</a:t>
            </a:r>
            <a:br>
              <a:rPr sz="3800"/>
            </a:b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ok place in ______________, in 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Delegates from all the states were invi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 try to ____________ the ___________ ____________________of the Articles of Confede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55 Delegates attended, with only _______ __________________failing to send a deleg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6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504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Would settle the issue of ____________________ _____________________________ in Congre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Congress would have two house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A ______________ of ______________________ and a ___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House of Representatives - based on the _____________________________ of each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enate - two senators per each state (____________________ repres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uggested by the Connecticut delegation, it’s als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known as the __________________ Compromi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The Senate would be viewed as the “_____________ ” house, but the House of Representative would be given “the _________ ________________,” which meant they would initiate any new bills about how the government would spend its money (or tax citiz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It also settled the questions of _____________ ____________________ by having 3 separate bra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440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1440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Founding Fathers saw the ___________________ between slavery and the sentiments of the Declaration of Independence, but the South was ________________________ on slavery for it’s _____________________ succe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 wanted the institution of _________________ protected, AND they wanted slaves to be included in determining _____________________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00"/>
                </a:solidFill>
                <a:latin typeface="Arial"/>
              </a:rPr>
              <a:t>(to get more representation in the House of Representativ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ern states refused to _______________ the Constitution unless the slave trade was protected &amp; slaves were counted as part of their popu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Northern states had no choice.  If they wanted a Constitution, they would have to give the Southern states (some of) 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is would lead to the _______ additional compromises: the 3/5 compromise, &amp; the Commerce &amp; Slave Trade comprom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ree-Fifths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_____________ Compromise - Made each ______________ worth 3/5 of a person when determining __________________________ to decide numbers in  House of Representat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t also made each __________________ worth 3/5 of a person when determining any ____________________ levied by Congress on the st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mmerce &amp; Slave Trade Compromis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was ____________________ the power to tax the ________________ of goods from any st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is also ____________________ to act on the _______________________ for a period of at least 20 year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**In _______________ (20 years later), Congress banned the slave tra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n exchange, the Southern delegates agreed to ___________________ the new Constitu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2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inalizing the Constitutio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The compromises necessary resulted in a document that no delegate was 100% _______________________ with, but that most of the delegates could 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njamin Franklin said </a:t>
            </a:r>
            <a:r>
              <a:rPr b="1" i="1" lang="en-US" sz="1800" spc="-1" strike="noStrike">
                <a:solidFill>
                  <a:srgbClr val="292900"/>
                </a:solidFill>
                <a:latin typeface="Arial"/>
              </a:rPr>
              <a:t>"I confess that There are several parts of this Constitution which I do not at present approve, but I am not sure I shall never approve them. ... I doubt too whether any other Convention we can obtain, may be able to make a better Constitution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On _________________________, </a:t>
            </a: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55 delegates signed the final draft of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It was sent to the individual states for 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came the new government on ____________ _______________, when New Hampshire became the 9</a:t>
            </a:r>
            <a:r>
              <a:rPr b="1" lang="en-US" sz="3000" spc="-1" strike="noStrike" baseline="30000">
                <a:solidFill>
                  <a:srgbClr val="2929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 state to ratify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024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George Washington was asked to preside (lead) over the convention; ____________ __________________ kept notes of the discussions and is often called “________ _________________ of the Constitutio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men who wrote the Constitution are called the “_______________________ ____________________;” also referred to as “the _____________________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participants in the Convention w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ll 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se men quickly agreed tha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rticles of Confederation _____________ ________________; they would have to come up with a totally new gover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y decided to keep that decision _____ ______________, since they didn’t have the permission of the States or Congress to form a new government;  essentially they were committing 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ssues that divided the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Would the states or the federal government have the most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(How many members in Congress would each state get?) – small states wanted equal representation, large states wanted it to be determined by population of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How would slaves be counted? Would the slave trade contin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Power of the Federal Government</a:t>
            </a: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delegates knew that they needed a ____________________ central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feared a _______________________  government would be too strong, limiting states’ righ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Others feared that states' rights would prevent a ___________________________ central government (which was happening under the Articles)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A compromise created _________________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a strong central government with specific powers, and strong states with their own, specific po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Representation in Congres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representation to be based on 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__________________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Neither group was willing to accept any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59832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Called for 3 _________________ of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legislative, executive, &amp; judicial powers would all be _________________________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Legislative branch would have two ________________ (_________________), &amp; representation in both houses would be ___________________________________ of a st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states, especially smaller ones, had problems with this pla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Virginia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New Jersey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5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Only ________ branch-___________________ Executive powers would be held by a group chosen by Congress &amp; who could be recalled by Congress (under Congress’ control).  Judicial powers would be held by a Tribunal chosen by the Executive group (so still under Congress’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Congress would be ______________________ (one _________________), each state ______ __________________  regardless of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mall states like the plan, the large states hate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Compromi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the ______________ states refused to endorse the Virginia Plan, and the __________ states refused to get behind the New Jersey Plan, a _____________________ w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______________ states &amp; ___________ states had very different views on slavery (and how to count slaves, for Congressional representation) a ________________________ was also needed in this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Since Industrial and Agricultural states had different views on trade &amp; commerce, compromise was needed here,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21:50Z</dcterms:created>
  <dc:creator>Jeff Kash</dc:creator>
  <dc:description/>
  <dc:language>en-US</dc:language>
  <cp:lastModifiedBy>Debes John</cp:lastModifiedBy>
  <cp:lastPrinted>2015-04-10T12:25:35Z</cp:lastPrinted>
  <dcterms:modified xsi:type="dcterms:W3CDTF">2015-04-10T18:10:33Z</dcterms:modified>
  <cp:revision>53</cp:revision>
  <dc:subject/>
  <dc:title>Constitutional Convention Cornell Notes</dc:title>
</cp:coreProperties>
</file>