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dt" idx="7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8E0E-E5C7-4C67-AE5D-E07F42598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897B-B034-47D1-92CC-D823945346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075B-A22D-4A4D-BD45-F9E76BC609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3FDD-F40D-421B-80B0-14E65BB539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7FAF-3191-4F7A-A41D-ED04B23424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3E24-40D4-4B96-8F18-57065622A9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535F-7855-4FB4-ADAA-9A64475A0D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FBBD-06DA-4337-B39F-301A9D6E6D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755A-999A-4A8F-9532-0180DF1E06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BFD8-1312-49BE-A4E5-AD4BADFDB2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7AE0-F7FB-4DBC-9650-F550F78E14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32B8-DC5B-4F9B-888C-4D165EB513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AD92-8529-4CED-9EB9-9465D1CB26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844E-645E-48AF-A285-8E2CABD15D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0DE6-970F-4CF2-960A-44D3B71F49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204C-464E-43FF-9851-9FBB11B2E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94A5-541A-4BDE-9CE2-CA411FC2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D216-599A-48BA-927E-E41AB47F1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000E-C828-471D-88CA-F9710AA15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2EA5-1CAC-4FCB-9C30-AA757D172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5E68-2952-4ED6-8B00-80248491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12673-C5AE-4A86-859B-8CC21ADB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B322-8480-4CEC-B9E6-832EBDC9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EC12-3E87-4663-86EB-2FDE752F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6A7D-C76A-4237-B293-565A33E2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D250-DB78-4520-848F-BFAD009D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04A6-96D0-4A54-8155-9768342E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2DC2-2229-4850-A5A6-B8C601B8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CD25-058B-436D-8F40-CC437EC2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3057-AFCA-4F72-BA31-5C83EFEC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03A7-0929-4DDE-A1B5-8873A47F7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DD0D-7FB0-4C2C-8115-51045CAE4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8425-879E-4215-9104-C853146B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21AB-02E0-442C-BA00-9906435C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235C-6A7D-4F63-BAEF-C3548C8B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A6B2-7E96-4363-B8AC-56612118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4AAA-300F-47AD-B549-9CCFE504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0F5A-F0E2-4E10-90D7-C5BA63F9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5CA1-E0CD-4FB7-9104-7D08D2B8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ffffff">
                <a:alpha val="0"/>
              </a:srgbClr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2F66-69EB-4AD3-986F-AC929EC87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ffffff">
                <a:alpha val="0"/>
              </a:srgbClr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2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EFA6-A880-4537-9D52-FB7645A1EE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99"/>
                </a:solidFill>
                <a:latin typeface="Arial"/>
              </a:rPr>
              <a:t>The Constitutional Convention begins</a:t>
            </a:r>
            <a:br>
              <a:rPr sz="3800"/>
            </a:br>
            <a:endParaRPr b="1" lang="en-US" sz="3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Took place in ______________, in ________________________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Delegates from all the states were invite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to try to ____________ the ___________ ____________________of the Articles of Confede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55 Delegates attended, with only _______ __________________failing to send a deleg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2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360" y="-143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99"/>
                </a:solidFill>
                <a:uFillTx/>
                <a:latin typeface="Arial"/>
              </a:rPr>
              <a:t>The Great Compromise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95040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2900"/>
                </a:solidFill>
                <a:latin typeface="Arial"/>
              </a:rPr>
              <a:t>Would settle the issue of ____________________ _____________________________ in Congres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2900"/>
                </a:solidFill>
                <a:latin typeface="Arial"/>
              </a:rPr>
              <a:t>Congress would have two houses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29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292900"/>
                </a:solidFill>
                <a:latin typeface="Arial"/>
              </a:rPr>
              <a:t>A ______________ of ______________________ and a ___________________________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2900"/>
                </a:solidFill>
                <a:latin typeface="Arial"/>
              </a:rPr>
              <a:t>House of Representatives - based on the _____________________________ of each st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2900"/>
                </a:solidFill>
                <a:latin typeface="Arial"/>
              </a:rPr>
              <a:t>Senate - two senators per each state (____________________ represented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2900"/>
                </a:solidFill>
                <a:latin typeface="Arial"/>
              </a:rPr>
              <a:t>Suggested by the Connecticut delegation, it’s als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29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292900"/>
                </a:solidFill>
                <a:latin typeface="Arial"/>
              </a:rPr>
              <a:t>known as the __________________ Compromis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2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7" dur="2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0" dur="2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5" dur="2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0" dur="2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5" dur="20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8" dur="20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2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6" dur="2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0" dur="2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2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8" dur="20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20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6" dur="20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99"/>
                </a:solidFill>
                <a:uFillTx/>
                <a:latin typeface="Arial"/>
              </a:rPr>
              <a:t>The Great Compromise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00"/>
                </a:solidFill>
                <a:latin typeface="Arial"/>
              </a:rPr>
              <a:t>The Senate would be viewed as the “_____________ ” house, but the House of Representative would be given “the _________ ________________,” which meant they would initiate any new bills about how the government would spend its money (or tax citizen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00"/>
                </a:solidFill>
                <a:latin typeface="Arial"/>
              </a:rPr>
              <a:t>It also settled the questions of _____________ ____________________ by having 3 separate branch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3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8" dur="2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6" dur="2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1440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Slavery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-14400" y="8377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Founding Fathers saw the ___________________ between slavery and the sentiments of the Declaration of Independence, but the South was ________________________ on slavery for it’s _____________________ succes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The South wanted the institution of _________________ protected, AND they wanted slaves to be included in determining _____________________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00"/>
                </a:solidFill>
                <a:latin typeface="Arial"/>
              </a:rPr>
              <a:t>(to get more representation in the House of Representatives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3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8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1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5" dur="2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Slavery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The Southern states refused to _______________ the Constitution unless the slave trade was protected &amp; slaves were counted as part of their population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The Northern states had no choice.  If they wanted a Constitution, they would have to give the Southern states (some of) ____________________________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This would lead to the _______ additional compromises: the 3/5 compromise, &amp; the Commerce &amp; Slave Trade compromis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7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Three-Fifths Compromise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The _____________ Compromise - Made each ______________ worth 3/5 of a person when determining __________________________ to decide numbers in  House of Representativ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It also made each __________________ worth 3/5 of a person when determining any ____________________ levied by Congress on the stat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2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ommerce &amp; Slave Trade Compromise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Congress was ____________________ the power to tax the ________________ of goods from any stat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Congress is also ____________________ to act on the _______________________ for a period of at least 20 years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**In _______________ (20 years later), Congress banned the slave tra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In exchange, the Southern delegates agreed to ___________________ the new Constitution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2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2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5" dur="2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052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Finalizing the Constitution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92900"/>
                </a:solidFill>
                <a:latin typeface="Arial"/>
              </a:rPr>
              <a:t>The compromises necessary resulted in a document that no delegate was 100% _______________________ with, but that most of the delegates could _____________________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92900"/>
                </a:solidFill>
                <a:latin typeface="Arial"/>
              </a:rPr>
              <a:t>Benjamin Franklin said </a:t>
            </a:r>
            <a:r>
              <a:rPr b="1" i="1" lang="en-US" sz="1800" spc="-1" strike="noStrike">
                <a:solidFill>
                  <a:srgbClr val="292900"/>
                </a:solidFill>
                <a:latin typeface="Arial"/>
              </a:rPr>
              <a:t>"I confess that There are several parts of this Constitution which I do not at present approve, but I am not sure I shall never approve them. ... I doubt too whether any other Convention we can obtain, may be able to make a better Constitution.”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92900"/>
                </a:solidFill>
                <a:latin typeface="Arial"/>
              </a:rPr>
              <a:t>On _________________________, </a:t>
            </a:r>
            <a:r>
              <a:rPr b="1" lang="en-US" sz="2800" spc="-1" strike="noStrike">
                <a:solidFill>
                  <a:srgbClr val="292900"/>
                </a:solidFill>
                <a:latin typeface="Arial"/>
              </a:rPr>
              <a:t>55 delegates signed the final draft of the Constit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00"/>
                </a:solidFill>
                <a:latin typeface="Arial"/>
              </a:rPr>
              <a:t>It was sent to the individual states for </a:t>
            </a:r>
            <a:r>
              <a:rPr b="1" lang="en-US" sz="3000" spc="-1" strike="noStrike">
                <a:solidFill>
                  <a:srgbClr val="292900"/>
                </a:solidFill>
                <a:latin typeface="Arial"/>
              </a:rPr>
              <a:t>________________________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92900"/>
                </a:solidFill>
                <a:latin typeface="Arial"/>
              </a:rPr>
              <a:t>Became the new government on ____________ _______________, when New Hampshire became the 9</a:t>
            </a:r>
            <a:r>
              <a:rPr b="1" lang="en-US" sz="3000" spc="-1" strike="noStrike" baseline="30000">
                <a:solidFill>
                  <a:srgbClr val="292900"/>
                </a:solidFill>
                <a:latin typeface="Arial"/>
              </a:rPr>
              <a:t>th</a:t>
            </a:r>
            <a:r>
              <a:rPr b="1" lang="en-US" sz="3000" spc="-1" strike="noStrike">
                <a:solidFill>
                  <a:srgbClr val="292900"/>
                </a:solidFill>
                <a:latin typeface="Arial"/>
              </a:rPr>
              <a:t> state to ratify i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3" dur="2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7" dur="2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0240" y="-143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The Founding Father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George Washington was asked to preside (lead) over the convention; ____________ __________________ kept notes of the discussions and is often called “________ _________________ of the Constitution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The men who wrote the Constitution are called the “_______________________ ____________________;” also referred to as “the _____________________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The participants in the Convention w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all __________________________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2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The Founding Father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These men quickly agreed that th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Articles of Confederation _____________ ________________; they would have to come up with a totally new governm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They decided to keep that decision _____ ______________, since they didn’t have the permission of the States or Congress to form a new government;  essentially they were committing ___________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2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Issues that divided the Father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____________________________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929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292900"/>
                </a:solidFill>
                <a:latin typeface="Arial"/>
              </a:rPr>
              <a:t>Would the states or the federal government have the most pow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____________________________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929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292900"/>
                </a:solidFill>
                <a:latin typeface="Arial"/>
              </a:rPr>
              <a:t>(How many members in Congress would each state get?) – small states wanted equal representation, large states wanted it to be determined by population of the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_______________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292900"/>
                </a:solidFill>
                <a:latin typeface="Arial"/>
              </a:rPr>
              <a:t>How would slaves be counted? Would the slave trade continu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2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2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99"/>
                </a:solidFill>
                <a:latin typeface="Arial"/>
              </a:rPr>
              <a:t>The Power of the Federal Government</a:t>
            </a:r>
            <a:endParaRPr b="1" lang="en-US" sz="3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85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92900"/>
                </a:solidFill>
                <a:latin typeface="Arial"/>
              </a:rPr>
              <a:t>The delegates knew that they needed a ____________________ central governmen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85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92900"/>
                </a:solidFill>
                <a:latin typeface="Arial"/>
              </a:rPr>
              <a:t>Some feared a _______________________  government would be too strong, limiting states’ right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85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92900"/>
                </a:solidFill>
                <a:latin typeface="Arial"/>
              </a:rPr>
              <a:t>Others feared that states' rights would prevent a ___________________________ central government (which was happening under the Articles).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85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92900"/>
                </a:solidFill>
                <a:latin typeface="Arial"/>
              </a:rPr>
              <a:t>A compromise created _________________: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92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92900"/>
                </a:solidFill>
                <a:latin typeface="Arial"/>
              </a:rPr>
              <a:t>a strong central government with specific powers, and strong states with their own, specific pow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2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" dur="2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" dur="2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2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52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Representation in Congres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_________________ states wanted representation to be based on ______________________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_________________ states wanted __________________ represen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Neither group was willing to accept anything el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2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d6fc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d6fc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0" y="59832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92900"/>
                </a:solidFill>
                <a:latin typeface="Arial"/>
              </a:rPr>
              <a:t>Called for 3 _________________ of governmen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929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292900"/>
                </a:solidFill>
                <a:latin typeface="Arial"/>
              </a:rPr>
              <a:t>The legislative, executive, &amp; judicial powers would all be _________________________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92900"/>
                </a:solidFill>
                <a:latin typeface="Arial"/>
              </a:rPr>
              <a:t>Legislative branch would have two ________________ (_________________), &amp; representation in both houses would be ___________________________________ of a state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92900"/>
                </a:solidFill>
                <a:latin typeface="Arial"/>
              </a:rPr>
              <a:t>Some states, especially smaller ones, had problems with this plan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99"/>
                </a:solidFill>
                <a:uFillTx/>
                <a:latin typeface="Arial"/>
              </a:rPr>
              <a:t>The Virginia Plan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2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3" dur="2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2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9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99"/>
                </a:solidFill>
                <a:uFillTx/>
                <a:latin typeface="Arial"/>
              </a:rPr>
              <a:t>New Jersey Plan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59508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00"/>
                </a:solidFill>
                <a:latin typeface="Arial"/>
              </a:rPr>
              <a:t>Only ________ branch-___________________ Executive powers would be held by a group chosen by Congress &amp; who could be recalled by Congress (under Congress’ control).  Judicial powers would be held by a Tribunal chosen by the Executive group (so still under Congress’ contro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00"/>
                </a:solidFill>
                <a:latin typeface="Arial"/>
              </a:rPr>
              <a:t>Congress would be ______________________ (one _________________), each state ______ __________________  regardless of popul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2900"/>
                </a:solidFill>
                <a:latin typeface="Arial"/>
              </a:rPr>
              <a:t>Small states like the plan, the large states hate i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2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6" dur="2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99"/>
                </a:solidFill>
                <a:uFillTx/>
                <a:latin typeface="Arial"/>
              </a:rPr>
              <a:t>Compromise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00"/>
                </a:solidFill>
                <a:latin typeface="Arial"/>
              </a:rPr>
              <a:t>Since the ______________ states refused to endorse the Virginia Plan, and the __________ states refused to get behind the New Jersey Plan, a _____________________ was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00"/>
                </a:solidFill>
                <a:latin typeface="Arial"/>
              </a:rPr>
              <a:t>Since ______________ states &amp; ___________ states had very different views on slavery (and how to count slaves, for Congressional representation) a ________________________ was also needed in this are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00"/>
                </a:solidFill>
                <a:latin typeface="Arial"/>
              </a:rPr>
              <a:t>Since Industrial and Agricultural states had different views on trade &amp; commerce, compromise was needed here, as w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3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8" dur="2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3" dur="2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7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2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5" dur="2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3T15:21:50Z</dcterms:created>
  <dc:creator>Jeff Kash</dc:creator>
  <dc:description/>
  <dc:language>en-US</dc:language>
  <cp:lastModifiedBy>Debes John</cp:lastModifiedBy>
  <cp:lastPrinted>2015-04-10T12:25:35Z</cp:lastPrinted>
  <dcterms:modified xsi:type="dcterms:W3CDTF">2015-04-10T18:10:33Z</dcterms:modified>
  <cp:revision>53</cp:revision>
  <dc:subject/>
  <dc:title>Constitutional Convention Cornell Notes</dc:title>
</cp:coreProperties>
</file>