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BE28-A29B-45BC-92FA-630C2109A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5F78-7CCF-4378-A3C1-A5CCF44966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D555-D48E-429E-800D-5BDCDD8022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4946-126A-4A8A-8A2E-D4B882C546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2962-43D8-4911-83AF-921651B8DF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217B-57D5-40B8-AC31-58555F9536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7010-930E-4398-9583-1D8C2AD40E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DCF5-622D-493D-89FC-D52777FB39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9F2E-486F-487B-BD7D-C5EE0EB908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6D11-87E8-49FA-821B-E24405BD86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AAC7-DE08-4594-94FA-BCA80A1A4B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C6C8-462A-4B06-8DE2-2339AD2303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D2A4-D277-4D74-865F-7A20EE3CEB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A6DE-EE8E-4504-8D3F-275261DEF2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9F3F-F80E-4202-945D-9F0FCE8F3C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863F-6441-40CA-BC0F-FC2429CC1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7A5E-FC79-4CF0-9CCE-C87F5358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B7FE-3956-4D55-BD10-69635BB9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B791-99AE-437E-A1F0-8BB5A80A2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2275-B08B-449E-8EB1-88FE8C84D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CEB2-842E-47DF-859E-C6ED45B8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EA74-E9A3-4A0E-B731-597EA146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1FF1-06C4-4715-AD97-D78662D1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DB1D-E648-42CB-ADFF-ADDC939F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67A8-0D61-472F-9D16-DDB18B07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93FC-7D17-43CF-9D46-B442F5CC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9059-D60A-4D99-896E-044E1DBB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18C0-A75F-4DF0-9769-80955FCB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A934-B2BB-4109-9955-A3A79378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AB23-B4EB-47C8-AE34-D306AAFE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F7CE-E8E3-472E-9E32-6AA7CDFA5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7025-206E-414A-B64D-A89B33ACC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EC42-6B6C-4569-A4E2-40C3AE85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CA1B-11FA-4484-949D-6572621A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7EF4-1D36-4898-B187-9B46DDA5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7172-6D1D-494C-9FF7-60E473B5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7250-2EBB-46A8-A636-B0AD7367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6D63-74F9-4D79-9F6F-D5B839EF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3AE4-BEE3-4950-B661-D270A2CB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ffffff">
                <a:alpha val="0"/>
              </a:srgbClr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0521-6C2C-465C-81D9-F521B7898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ffffff">
                <a:alpha val="0"/>
              </a:srgbClr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9472-5A79-4001-9939-77B6532995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99"/>
                </a:solidFill>
                <a:latin typeface="Arial"/>
              </a:rPr>
              <a:t>The Constitutional Convention begins</a:t>
            </a:r>
            <a:br>
              <a:rPr sz="3800"/>
            </a:br>
            <a:endParaRPr b="1" lang="en-US" sz="3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Took place in ______________, in ____________________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Delegates from all the states were invit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to try to ____________ the ___________ ____________________of the Articles of Confede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55 Delegates attended, with only _______ __________________failing to send a deleg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360" y="-143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Arial"/>
              </a:rPr>
              <a:t>The Great Compromise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95040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00"/>
                </a:solidFill>
                <a:latin typeface="Arial"/>
              </a:rPr>
              <a:t>Would settle the issue of ____________________ _____________________________ in Congres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00"/>
                </a:solidFill>
                <a:latin typeface="Arial"/>
              </a:rPr>
              <a:t>Congress would have two houses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292900"/>
                </a:solidFill>
                <a:latin typeface="Arial"/>
              </a:rPr>
              <a:t>A ______________ of ______________________ and a _______________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00"/>
                </a:solidFill>
                <a:latin typeface="Arial"/>
              </a:rPr>
              <a:t>House of Representatives - based on the _____________________________ of each st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00"/>
                </a:solidFill>
                <a:latin typeface="Arial"/>
              </a:rPr>
              <a:t>Senate - two senators per each state (____________________ represented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00"/>
                </a:solidFill>
                <a:latin typeface="Arial"/>
              </a:rPr>
              <a:t>Suggested by the Connecticut delegation, it’s als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292900"/>
                </a:solidFill>
                <a:latin typeface="Arial"/>
              </a:rPr>
              <a:t>known as the __________________ Compromis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4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2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2" dur="2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7" dur="2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7" dur="20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0" dur="2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8" dur="2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2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6" dur="2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0" dur="2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4" dur="2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8" dur="2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Arial"/>
              </a:rPr>
              <a:t>The Great Compromise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00"/>
                </a:solidFill>
                <a:latin typeface="Arial"/>
              </a:rPr>
              <a:t>The Senate would be viewed as the “_____________ ” house, but the House of Representative would be given “the _________ ________________,” which meant they would initiate any new bills about how the government would spend its money (or tax citizen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00"/>
                </a:solidFill>
                <a:latin typeface="Arial"/>
              </a:rPr>
              <a:t>It also settled the questions of _____________ ____________________ by having 3 separate branch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5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0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4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1440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Slavery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14400" y="8377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Founding Fathers saw the ___________________ between slavery and the sentiments of the Declaration of Independence, but the South was ________________________ on slavery for it’s _____________________ succes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The South wanted the institution of _________________ protected, AND they wanted slaves to be included in determining _____________________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00"/>
                </a:solidFill>
                <a:latin typeface="Arial"/>
              </a:rPr>
              <a:t>(to get more representation in the House of Representatives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2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Slavery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The Southern states refused to _______________ the Constitution unless the slave trade was protected &amp; slaves were counted as part of their population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The Northern states had no choice.  If they wanted a Constitution, they would have to give the Southern states (some of) ________________________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This would lead to the _______ additional compromises: the 3/5 compromise, &amp; the Commerce &amp; Slave Trade compromi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9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Three-Fifths Compromise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The _____________ Compromise - Made each ______________ worth 3/5 of a person when determining __________________________ to decide numbers in  House of Representativ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It also made each __________________ worth 3/5 of a person when determining any ____________________ levied by Congress on the stat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ommerce &amp; Slave Trade Compromise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Congress was ____________________ the power to tax the ________________ of goods from any stat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Congress is also ____________________ to act on the _______________________ for a period of at least 20 years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**In _______________ (20 years later), Congress banned the slave tra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In exchange, the Southern delegates agreed to ___________________ the new Constitution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9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3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2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052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Finalizing the Constitution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92900"/>
                </a:solidFill>
                <a:latin typeface="Arial"/>
              </a:rPr>
              <a:t>The compromises necessary resulted in a document that no delegate was 100% _______________________ with, but that most of the delegates could _________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92900"/>
                </a:solidFill>
                <a:latin typeface="Arial"/>
              </a:rPr>
              <a:t>Benjamin Franklin said </a:t>
            </a:r>
            <a:r>
              <a:rPr b="1" i="1" lang="en-US" sz="1800" spc="-1" strike="noStrike">
                <a:solidFill>
                  <a:srgbClr val="292900"/>
                </a:solidFill>
                <a:latin typeface="Arial"/>
              </a:rPr>
              <a:t>"I confess that There are several parts of this Constitution which I do not at present approve, but I am not sure I shall never approve them. ... I doubt too whether any other Convention we can obtain, may be able to make a better Constitution.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92900"/>
                </a:solidFill>
                <a:latin typeface="Arial"/>
              </a:rPr>
              <a:t>On _________________________, </a:t>
            </a:r>
            <a:r>
              <a:rPr b="1" lang="en-US" sz="2800" spc="-1" strike="noStrike">
                <a:solidFill>
                  <a:srgbClr val="292900"/>
                </a:solidFill>
                <a:latin typeface="Arial"/>
              </a:rPr>
              <a:t>55 delegates signed the final draft of the Constit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00"/>
                </a:solidFill>
                <a:latin typeface="Arial"/>
              </a:rPr>
              <a:t>It was sent to the individual states for </a:t>
            </a:r>
            <a:r>
              <a:rPr b="1" lang="en-US" sz="3000" spc="-1" strike="noStrike">
                <a:solidFill>
                  <a:srgbClr val="292900"/>
                </a:solidFill>
                <a:latin typeface="Arial"/>
              </a:rPr>
              <a:t>____________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92900"/>
                </a:solidFill>
                <a:latin typeface="Arial"/>
              </a:rPr>
              <a:t>Became the new government on ____________ _______________, when New Hampshire became the 9</a:t>
            </a:r>
            <a:r>
              <a:rPr b="1" lang="en-US" sz="3000" spc="-1" strike="noStrike" baseline="30000">
                <a:solidFill>
                  <a:srgbClr val="292900"/>
                </a:solidFill>
                <a:latin typeface="Arial"/>
              </a:rPr>
              <a:t>th</a:t>
            </a:r>
            <a:r>
              <a:rPr b="1" lang="en-US" sz="3000" spc="-1" strike="noStrike">
                <a:solidFill>
                  <a:srgbClr val="292900"/>
                </a:solidFill>
                <a:latin typeface="Arial"/>
              </a:rPr>
              <a:t> state to ratify i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9" dur="2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0240" y="-143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The Founding Father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George Washington was asked to preside (lead) over the convention; ____________ __________________ kept notes of the discussions and is often called “________ _________________ of the Constitution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The men who wrote the Constitution are called the “_______________________ ____________________;” also referred to as “the _____________________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The participants in the Convention w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all ______________________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2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The Founding Father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These men quickly agreed that th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Articles of Confederation _____________ ________________; they would have to come up with a totally new governm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They decided to keep that decision _____ ______________, since they didn’t have the permission of the States or Congress to form a new government;  essentially they were committing _______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Issues that divided the Father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________________________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292900"/>
                </a:solidFill>
                <a:latin typeface="Arial"/>
              </a:rPr>
              <a:t>Would the states or the federal government have the most pow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________________________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292900"/>
                </a:solidFill>
                <a:latin typeface="Arial"/>
              </a:rPr>
              <a:t>(How many members in Congress would each state get?) – small states wanted equal representation, large states wanted it to be determined by population of the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___________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292900"/>
                </a:solidFill>
                <a:latin typeface="Arial"/>
              </a:rPr>
              <a:t>How would slaves be counted? Would the slave trade continu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2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99"/>
                </a:solidFill>
                <a:latin typeface="Arial"/>
              </a:rPr>
              <a:t>The Power of the Federal Government</a:t>
            </a:r>
            <a:endParaRPr b="1" lang="en-US" sz="3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85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92900"/>
                </a:solidFill>
                <a:latin typeface="Arial"/>
              </a:rPr>
              <a:t>The delegates knew that they needed a ____________________ central governmen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85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92900"/>
                </a:solidFill>
                <a:latin typeface="Arial"/>
              </a:rPr>
              <a:t>Some feared a _______________________  government would be too strong, limiting states’ right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85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92900"/>
                </a:solidFill>
                <a:latin typeface="Arial"/>
              </a:rPr>
              <a:t>Others feared that states' rights would prevent a ___________________________ central government (which was happening under the Articles).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85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92900"/>
                </a:solidFill>
                <a:latin typeface="Arial"/>
              </a:rPr>
              <a:t>A compromise created _________________: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92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92900"/>
                </a:solidFill>
                <a:latin typeface="Arial"/>
              </a:rPr>
              <a:t>a strong central government with specific powers, and strong states with their own, specific pow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5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5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2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2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2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5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Representation in Congres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_________________ states wanted representation to be based on __________________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_________________ states wanted __________________ represen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00"/>
                </a:solidFill>
                <a:latin typeface="Arial"/>
              </a:rPr>
              <a:t>Neither group was willing to accept anything el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d6fc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d6fc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0" y="59832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92900"/>
                </a:solidFill>
                <a:latin typeface="Arial"/>
              </a:rPr>
              <a:t>Called for 3 _________________ of governmen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929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292900"/>
                </a:solidFill>
                <a:latin typeface="Arial"/>
              </a:rPr>
              <a:t>The legislative, executive, &amp; judicial powers would all be _________________________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92900"/>
                </a:solidFill>
                <a:latin typeface="Arial"/>
              </a:rPr>
              <a:t>Legislative branch would have two ________________ (_________________), &amp; representation in both houses would be ___________________________________ of a stat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92900"/>
                </a:solidFill>
                <a:latin typeface="Arial"/>
              </a:rPr>
              <a:t>Some states, especially smaller ones, had problems with this plan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Arial"/>
              </a:rPr>
              <a:t>The Virginia Plan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2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2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2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Arial"/>
              </a:rPr>
              <a:t>New Jersey Plan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59508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00"/>
                </a:solidFill>
                <a:latin typeface="Arial"/>
              </a:rPr>
              <a:t>Only ________ branch-___________________ Executive powers would be held by a group chosen by Congress &amp; who could be recalled by Congress (under Congress’ control).  Judicial powers would be held by a Tribunal chosen by the Executive group (so still under Congress’ contro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00"/>
                </a:solidFill>
                <a:latin typeface="Arial"/>
              </a:rPr>
              <a:t>Congress would be ______________________ (one _________________), each state ______ __________________  regardless of popul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00"/>
                </a:solidFill>
                <a:latin typeface="Arial"/>
              </a:rPr>
              <a:t>Small states like the plan, the large states hate i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4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8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Arial"/>
              </a:rPr>
              <a:t>Compromise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00"/>
                </a:solidFill>
                <a:latin typeface="Arial"/>
              </a:rPr>
              <a:t>Since the ______________ states refused to endorse the Virginia Plan, and the __________ states refused to get behind the New Jersey Plan, a _____________________ wa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00"/>
                </a:solidFill>
                <a:latin typeface="Arial"/>
              </a:rPr>
              <a:t>Since ______________ states &amp; ___________ states had very different views on slavery (and how to count slaves, for Congressional representation) a ________________________ was also needed in this ar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00"/>
                </a:solidFill>
                <a:latin typeface="Arial"/>
              </a:rPr>
              <a:t>Since Industrial and Agricultural states had different views on trade &amp; commerce, compromise was needed here, as w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5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0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5" dur="2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9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3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3T15:21:50Z</dcterms:created>
  <dc:creator>Jeff Kash</dc:creator>
  <dc:description/>
  <dc:language>en-US</dc:language>
  <cp:lastModifiedBy>Debes John</cp:lastModifiedBy>
  <cp:lastPrinted>2015-04-10T12:25:35Z</cp:lastPrinted>
  <dcterms:modified xsi:type="dcterms:W3CDTF">2015-04-10T18:10:33Z</dcterms:modified>
  <cp:revision>53</cp:revision>
  <dc:subject/>
  <dc:title>Constitutional Convention Cornell Notes</dc:title>
</cp:coreProperties>
</file>