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17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18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CB8CA2-C66E-46ED-83E8-06086A865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DEC0227-ADE6-40D6-B6E9-C86DD9244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36E53C1-4960-47AF-BE31-88B57677E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CCAC0AF-362D-492C-B11C-3F783BCB4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B22609-8C58-4129-BAE8-899940986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D677BA-D0DB-41F4-8D98-B1538B661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7D27B4-1B85-495D-B359-323D5B6EA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4ECBD48-6E35-448A-A417-7B00DD3F4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C57CA1-F19D-4FAA-B5B8-74B0D46CF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2A95CA3-91F9-4DB0-8BEB-F28835A4C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6F0127C-A6DE-475F-8E6D-C24354155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271B09B-ABB2-4B77-8F36-08F26CBFE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06C4F6-3C18-4A9F-B763-AA6C81A8B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21DFBC-9C3F-4E14-8843-077C822AE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FC9B492-C47F-4C96-99B6-E09CF3FB9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99DF220-A7F7-4831-9888-8ABA1E4B0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C0D8FB7-94FB-43D2-8D94-B73FB639A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3B7-955D-4325-A187-01BE9762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B58-CA9C-44D9-8CAF-490F0C32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F46-D527-415C-8AFC-E3BFE725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C07-9077-45CF-9DFD-0ACC1C5B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66C2-7E35-486F-802B-D96A1D1C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5DED-158E-4EF0-AAE4-74A48F1D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DF8C-0256-43D5-B865-0DA4F815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1FED-4081-48E1-89D9-02480856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FC2C-6AB7-44BA-8839-C310C400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CE8C-CA56-4514-8966-A91046E3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458C-0119-4841-9A69-5E63706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611-7C81-4001-BCB1-4E94B7B5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1281-2F79-4811-B6F8-2EFF8FF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5CFB-FB0E-4DE1-BAD6-7628CC2C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E905-5F6D-4145-A1DA-EFF31E42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BD05-E197-4EEC-936D-1FD1D99E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29D3-A119-4A3E-9E80-A9ED65FC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073A-420D-44E4-887B-67B57D91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EE2C-872F-4C9E-8E60-7CF530C5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024D-5FC1-40B1-BB87-39560300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789D-E9E0-44F8-90A0-BBECCC89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07FA-DEEF-41CA-B953-0F08D1B1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234-0DE9-48A8-A91D-4D0A0E07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7CCE-F4B9-416F-AACF-68D6168B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80DB5-B8E1-4286-A6F2-8D96569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7001-C35B-42C2-B419-D674772F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43E60-3983-453C-841E-9BAE7857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1C36-BE99-43FE-BBDE-C091F585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57BE1-6FAC-4331-8FF8-4222B647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CB24-1F3F-4EC7-A74F-C8F8D441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C115D-F0FC-4E30-955D-E5580EE2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97585-5E65-405B-BBEE-5DFB5568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9365-01D5-41E9-A762-7ED9BC3C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8AF-1516-4449-816F-69ABC81C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E50CC-80B0-4017-BD6F-F068EDEA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0E0C-CA0E-4C91-8462-F66B4C1E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ACA5-5C94-4A71-B839-5237E19B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74180-5CF7-42F5-827D-F579875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13C40-CA72-4568-8808-96EC37E3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ED626-2C17-4407-8D29-6A317E8F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484DF-0940-47FA-A0CC-F197A59C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C67BA-BF28-4EC9-AE04-6CAF20D5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4F09-D864-4C7B-8F8D-83B1BE4D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D500-3EBA-4A68-963D-2C2CE256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3F8-A14F-49AD-A278-D54AB20E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B4BFE-CA47-4A90-84DC-1A7A34F3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9355E-E899-47E6-B8A4-A3EBFA9E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13A60-F9EC-413F-AFE7-620C6E8D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B0552-E117-4EA7-A348-3B4E0BFA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3F36-9147-4EBA-B75E-B618C5D9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B07C8-DDC1-456A-9788-2B2424A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DE11A-E480-4462-9545-7ABFA183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44C18-E98C-492B-9EC1-1908D06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4AEF2-58F6-457B-88ED-72219BEE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DE8D-F764-4E9B-9A0B-91E38956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54E-9FD2-4E9B-A161-F3BCE348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68E41-EFD2-474F-AA0D-A51E2BA8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74C-977C-44DC-80C8-BFAF87D3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39F-6D5D-4072-BEC5-1928DB75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5F1-4D26-4D79-838F-3173784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4080" y="-4680"/>
                <a:ext cx="9781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59760" y="1697040"/>
                <a:ext cx="978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6240" y="1280880"/>
                <a:ext cx="9784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6240" y="145440"/>
                <a:ext cx="9784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59760" y="989640"/>
                <a:ext cx="9784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1560" y="679320"/>
                <a:ext cx="9784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3000" y="371520"/>
                <a:ext cx="9907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5000" y="3930120"/>
                <a:ext cx="9781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1840" y="3536640"/>
                <a:ext cx="978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1840" y="2397600"/>
                <a:ext cx="9784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1840" y="3228480"/>
                <a:ext cx="9784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1840" y="2931480"/>
                <a:ext cx="9784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1840" y="2615400"/>
                <a:ext cx="9907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81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080" y="4547520"/>
                <a:ext cx="9784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160" y="5654520"/>
                <a:ext cx="9784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2520" y="6190200"/>
                <a:ext cx="345960" cy="979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81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903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CA14-D088-4933-98AA-F4EC6CC40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5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66" name="Freeform 4"/>
              <p:cNvSpPr/>
              <p:nvPr/>
            </p:nvSpPr>
            <p:spPr>
              <a:xfrm flipH="1">
                <a:off x="67680" y="-4680"/>
                <a:ext cx="9748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>
                <a:off x="62640" y="169740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>
                <a:off x="70200" y="1279080"/>
                <a:ext cx="9752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>
                <a:off x="70200" y="143280"/>
                <a:ext cx="9752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>
                <a:off x="62640" y="990000"/>
                <a:ext cx="9752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>
                <a:off x="64080" y="677160"/>
                <a:ext cx="9752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>
                <a:off x="65880" y="369000"/>
                <a:ext cx="98784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>
                <a:off x="46440" y="3926880"/>
                <a:ext cx="9752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>
                <a:off x="54360" y="353664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>
                <a:off x="54720" y="2397960"/>
                <a:ext cx="9752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>
                <a:off x="54360" y="3227400"/>
                <a:ext cx="9752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>
                <a:off x="54360" y="2931480"/>
                <a:ext cx="9752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>
                <a:off x="55080" y="26139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>
                <a:off x="48960" y="4960080"/>
                <a:ext cx="9748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>
                <a:off x="56880" y="4542480"/>
                <a:ext cx="9748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>
                <a:off x="48960" y="5649840"/>
                <a:ext cx="9748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 rot="16200000">
                <a:off x="362160" y="6192000"/>
                <a:ext cx="345960" cy="976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>
                <a:off x="41400" y="6192000"/>
                <a:ext cx="97488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>
                <a:off x="41400" y="58791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FEBF-5D2B-4A60-A2F6-0E280AB77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04920" y="6172200"/>
            <a:ext cx="7238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30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131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 flipH="1" rot="5400000">
                <a:off x="8242200" y="278568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 flipH="1" rot="5400000">
                <a:off x="7893360" y="274464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 flipH="1" rot="5400000">
                <a:off x="3057120" y="2642760"/>
                <a:ext cx="9885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3"/>
              <p:cNvSpPr/>
              <p:nvPr/>
            </p:nvSpPr>
            <p:spPr>
              <a:xfrm flipH="1" rot="5400000">
                <a:off x="524916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 flipH="1" rot="5400000">
                <a:off x="168192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 flipH="1" rot="5400000">
                <a:off x="87948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 flipH="1" rot="5400000">
                <a:off x="8532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4875-C5A5-4BA4-89FD-6126D6131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94" name="Group 3"/>
            <p:cNvGrpSpPr/>
            <p:nvPr/>
          </p:nvGrpSpPr>
          <p:grpSpPr>
            <a:xfrm>
              <a:off x="-3240" y="2479680"/>
              <a:ext cx="9146880" cy="1017000"/>
              <a:chOff x="-3240" y="2479680"/>
              <a:chExt cx="9146880" cy="1017000"/>
            </a:xfrm>
          </p:grpSpPr>
          <p:sp>
            <p:nvSpPr>
              <p:cNvPr id="195" name="Freeform 4"/>
              <p:cNvSpPr/>
              <p:nvPr/>
            </p:nvSpPr>
            <p:spPr>
              <a:xfrm flipH="1" rot="5400000">
                <a:off x="4089600" y="-1576080"/>
                <a:ext cx="9892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 flipH="1" rot="5400000">
                <a:off x="6051600" y="2649240"/>
                <a:ext cx="9892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 flipH="1" rot="5400000">
                <a:off x="6590520" y="264852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 flipH="1" rot="5400000">
                <a:off x="8241840" y="2787480"/>
                <a:ext cx="9892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 flipH="1" rot="5400000">
                <a:off x="7094880" y="2750040"/>
                <a:ext cx="9892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 flipH="1" rot="5400000">
                <a:off x="7447320" y="2696040"/>
                <a:ext cx="9892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 flipH="1" rot="5400000">
                <a:off x="7893000" y="2745720"/>
                <a:ext cx="10018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 flipH="1" rot="5400000">
                <a:off x="3058200" y="264276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 flipH="1" rot="5400000">
                <a:off x="3594240" y="264060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 flipH="1" rot="5400000">
                <a:off x="5248800" y="2779560"/>
                <a:ext cx="9892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 flipH="1" rot="5400000">
                <a:off x="4099680" y="2742120"/>
                <a:ext cx="9892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 flipH="1" rot="5400000">
                <a:off x="4455000" y="2690280"/>
                <a:ext cx="9889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6"/>
              <p:cNvSpPr/>
              <p:nvPr/>
            </p:nvSpPr>
            <p:spPr>
              <a:xfrm flipH="1" rot="5400000">
                <a:off x="4893840" y="2730600"/>
                <a:ext cx="10018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7"/>
              <p:cNvSpPr/>
              <p:nvPr/>
            </p:nvSpPr>
            <p:spPr>
              <a:xfrm flipH="1" rot="5400000">
                <a:off x="1683000" y="2649240"/>
                <a:ext cx="9892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8"/>
              <p:cNvSpPr/>
              <p:nvPr/>
            </p:nvSpPr>
            <p:spPr>
              <a:xfrm flipH="1" rot="5400000">
                <a:off x="2219400" y="264852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9"/>
              <p:cNvSpPr/>
              <p:nvPr/>
            </p:nvSpPr>
            <p:spPr>
              <a:xfrm flipH="1" rot="5400000">
                <a:off x="880560" y="277776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20"/>
              <p:cNvSpPr/>
              <p:nvPr/>
            </p:nvSpPr>
            <p:spPr>
              <a:xfrm flipH="1">
                <a:off x="-3240" y="2479680"/>
                <a:ext cx="461520" cy="9907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21"/>
              <p:cNvSpPr/>
              <p:nvPr/>
            </p:nvSpPr>
            <p:spPr>
              <a:xfrm flipH="1" rot="5400000">
                <a:off x="86400" y="2690280"/>
                <a:ext cx="9889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22"/>
              <p:cNvSpPr/>
              <p:nvPr/>
            </p:nvSpPr>
            <p:spPr>
              <a:xfrm flipH="1" rot="5400000">
                <a:off x="522000" y="2730600"/>
                <a:ext cx="10018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DA15-C7C4-42D2-8D6B-CBB7F3D61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58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59" name="Freeform 4"/>
              <p:cNvSpPr/>
              <p:nvPr/>
            </p:nvSpPr>
            <p:spPr>
              <a:xfrm flipH="1">
                <a:off x="67680" y="-4680"/>
                <a:ext cx="9748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5"/>
              <p:cNvSpPr/>
              <p:nvPr/>
            </p:nvSpPr>
            <p:spPr>
              <a:xfrm flipH="1">
                <a:off x="62640" y="169740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6"/>
              <p:cNvSpPr/>
              <p:nvPr/>
            </p:nvSpPr>
            <p:spPr>
              <a:xfrm flipH="1">
                <a:off x="70200" y="1279080"/>
                <a:ext cx="9752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7"/>
              <p:cNvSpPr/>
              <p:nvPr/>
            </p:nvSpPr>
            <p:spPr>
              <a:xfrm flipH="1">
                <a:off x="70200" y="143280"/>
                <a:ext cx="9752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 flipH="1">
                <a:off x="62640" y="990000"/>
                <a:ext cx="9752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 flipH="1">
                <a:off x="64080" y="677160"/>
                <a:ext cx="9752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 flipH="1">
                <a:off x="65880" y="369000"/>
                <a:ext cx="98784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 flipH="1">
                <a:off x="46440" y="3926880"/>
                <a:ext cx="9752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 flipH="1">
                <a:off x="54360" y="353664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 flipH="1">
                <a:off x="54720" y="2397960"/>
                <a:ext cx="9752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4"/>
              <p:cNvSpPr/>
              <p:nvPr/>
            </p:nvSpPr>
            <p:spPr>
              <a:xfrm flipH="1">
                <a:off x="54360" y="3227400"/>
                <a:ext cx="9752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5"/>
              <p:cNvSpPr/>
              <p:nvPr/>
            </p:nvSpPr>
            <p:spPr>
              <a:xfrm flipH="1">
                <a:off x="54360" y="2931480"/>
                <a:ext cx="9752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6"/>
              <p:cNvSpPr/>
              <p:nvPr/>
            </p:nvSpPr>
            <p:spPr>
              <a:xfrm flipH="1">
                <a:off x="55080" y="26139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7"/>
              <p:cNvSpPr/>
              <p:nvPr/>
            </p:nvSpPr>
            <p:spPr>
              <a:xfrm flipH="1">
                <a:off x="48960" y="4960080"/>
                <a:ext cx="9748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8"/>
              <p:cNvSpPr/>
              <p:nvPr/>
            </p:nvSpPr>
            <p:spPr>
              <a:xfrm flipH="1">
                <a:off x="56880" y="4542480"/>
                <a:ext cx="9748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9"/>
              <p:cNvSpPr/>
              <p:nvPr/>
            </p:nvSpPr>
            <p:spPr>
              <a:xfrm flipH="1">
                <a:off x="48960" y="5649840"/>
                <a:ext cx="9748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20"/>
              <p:cNvSpPr/>
              <p:nvPr/>
            </p:nvSpPr>
            <p:spPr>
              <a:xfrm flipH="1" rot="16200000">
                <a:off x="362160" y="6192000"/>
                <a:ext cx="345960" cy="976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21"/>
              <p:cNvSpPr/>
              <p:nvPr/>
            </p:nvSpPr>
            <p:spPr>
              <a:xfrm flipH="1">
                <a:off x="41400" y="6192000"/>
                <a:ext cx="97488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2"/>
              <p:cNvSpPr/>
              <p:nvPr/>
            </p:nvSpPr>
            <p:spPr>
              <a:xfrm flipH="1">
                <a:off x="41400" y="58791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 Box 10"/>
          <p:cNvSpPr/>
          <p:nvPr/>
        </p:nvSpPr>
        <p:spPr>
          <a:xfrm>
            <a:off x="304920" y="6172200"/>
            <a:ext cx="7238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13F6-F447-4D21-BB0E-97F372B6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lantic Slave Trade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</a:t>
            </a:r>
            <a:br>
              <a:rPr sz="4200"/>
            </a:b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-Captur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: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traders provided _______________________ to Africa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instigate fighting, but ___________ ________________________ had a distinct advantage over tribes who did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served as the main means of 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es actively began to _____________ &amp; _________________ other Africans for the 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 </a:t>
            </a: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-Capture (cont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mort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, _______________,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, _______________________from interior to co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stal slave forts served 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 for slave tr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ehouses for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 or ___________________ for cap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 </a:t>
            </a:r>
            <a:br>
              <a:rPr sz="4200"/>
            </a:b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I-The Crossing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ing the Atlant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________________________________ to reach the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s were very small and 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-500 people in a boat with ______________ 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aptains were 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d healthy/safety in the _____________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rode on planks 6.5 feet by 1.4 f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1.5-2 feet of hea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4389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ritish Slave Ship- “Tight pack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629400" y="7617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 of the British Slave Shi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o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1788. This plan, which may undercount the human carg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o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rried, shows how tightly Africans were packed aboard slave 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ich02_12"/>
          <p:cNvPicPr/>
          <p:nvPr/>
        </p:nvPicPr>
        <p:blipFill>
          <a:blip r:embed="rId1"/>
          <a:stretch/>
        </p:blipFill>
        <p:spPr>
          <a:xfrm>
            <a:off x="990720" y="838080"/>
            <a:ext cx="5333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4389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ritish Slave Ship- “Loose pack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629400" y="762120"/>
            <a:ext cx="2286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picture depicts a British slave ship utilizing a “loose pack.”  This method was safer and more hygienic for the Africans, but resulted in lower profits for the tr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slaveship2"/>
          <p:cNvPicPr/>
          <p:nvPr/>
        </p:nvPicPr>
        <p:blipFill>
          <a:blip r:embed="rId1"/>
          <a:stretch/>
        </p:blipFill>
        <p:spPr>
          <a:xfrm>
            <a:off x="1143000" y="838080"/>
            <a:ext cx="5181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 </a:t>
            </a:r>
            <a:br>
              <a:rPr sz="4200"/>
            </a:b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I-The Crossing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fed twice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&amp; ____________________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 pulps, stews, and fr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ed meat or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people eating from one bu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washed hands spread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risings wer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bellions occurred before s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eferred ________ to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s used these uprisings as justification for harsh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I. Seasoning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 of ________________ &amp; __________________in preparation for North American pla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tal _____________________________, 4-5 months in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t to train Africans to be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ed” Africans worth _____________ ________________________ of unseasoned Af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II. The End of the Journey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capture and crossing, 2/3 (__________________________) of the captured Africans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1/3 (_________________________) survived to become _______________ in the 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III. The Ending of the Atlantic Slave Tra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trade is ________________ in the ________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__ crusad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_________ less dependent on slave tra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eat Britain bans Atlantic slave trade in 1807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trols African coast to enforc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ed States Congress outlaws slave trade in 18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 and _______________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kingdoms oppose banning slave tra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X. Conclu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ly __________________Africans are _________________ during three centuries of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_________________ that number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frican people are irrevocably dam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Millions of men are lost to slavery, 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Weakened African tribes are unable to maintain/regain their 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. 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The Age of European Exploration and Coloniz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European countries increased their ___________________________    of the world during 16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2"/>
          <p:cNvSpPr/>
          <p:nvPr/>
        </p:nvSpPr>
        <p:spPr>
          <a:xfrm>
            <a:off x="2971800" y="350532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2971800" y="4470480"/>
            <a:ext cx="4591080" cy="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. 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The Age of European Exploration and Colonization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nquer/colonize-European countries were trying to increase their power &amp; wealth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wanted ______________ to the Eastern markets of India, China, and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s first “explored” Africa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 (around Africa) to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oon ________________________ ________________like gold, salt, &amp; iv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.  The Slave Trade in Africa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kingdoms and Islamic nations conduct brisk slav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b merchants and West African kings imported white slaves from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.  The Slave Trade in Africa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_____________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in medieval Europe or indentured serv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imes members of other tribes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____________________________ were made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African slave trade ___________________________________ who would serve as 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I. The Origins of the Atlantic Slave Trade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5th century, African slaves were used as ______________________________________ (modern day Spain &amp; Portu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ly due to leftover Islamic influences in thi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uropean countries had 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685800" y="27432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990720" y="3048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I. The Origins of the Atlantic Slave Trade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  &amp;  ____________ dominated slave trade in 16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___________________________ ____________________ and other valu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ly realized that ____________________ _____________ were ideal for growing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ng for gold/silver &amp; growing sugar is _________________ &amp; they______________ ____________________ from African tr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utch, English &amp; other European nations 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85800" y="27432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990720" y="3048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V. Growth of the Atlantic Slave Trade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slave trade grew,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 -Africans were seen as “chattel,” or moveabl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were not seen as humans, and were not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were 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they were stronger laborers than 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V. Growth of the Atlantic Slave Trade (cont.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European countries colonized the ___________________, slavery follow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were captured/bought in Africa, and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orth/South America as part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4:57:25Z</dcterms:created>
  <dc:creator>alball</dc:creator>
  <dc:description/>
  <dc:language>en-US</dc:language>
  <cp:lastModifiedBy>Debes John</cp:lastModifiedBy>
  <dcterms:modified xsi:type="dcterms:W3CDTF">2014-03-12T13:21:55Z</dcterms:modified>
  <cp:revision>124</cp:revision>
  <dc:subject/>
  <dc:title>PowerPoint Presentation</dc:title>
</cp:coreProperties>
</file>