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17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18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AAE18F-FED6-4A7E-86C5-EDE1AA351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5CD13A-8DD9-4090-B137-45544642B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F47753-F4DB-49A4-8F5B-DC5768FD7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CB5AF1-1681-4AA0-AD9E-CBE18A4A0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4B633B-1E37-4FDB-8FF6-E8A5EEF26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6073BF-D330-4C64-B2A3-1561821B3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EF00D29-D8F8-40A8-A33E-8647C011E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EBEA35-3D2B-42F3-B081-7EEB86BBC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4166F8-3820-4E9B-9C74-714C602C4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615297C-022C-481D-83EA-DC8F0434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6E2E730-B684-4B6E-BA18-C0EA559A5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FD2319-DCBB-4349-9E1F-7D023A4AF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9CD221F-03A3-4826-9538-B1B7A2FF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DB572A-0CC5-4568-B0E7-CDCDA242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355F0A-21D0-47DB-8694-4F7CE62D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A5073F-95F2-428D-8898-9B21D9BA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43E7BE-42BD-4FF2-95DD-00EB3234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290-1BA8-4E20-8E6A-C0078E64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569-805F-4C00-B159-3560429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535-CB64-44CC-8837-4EEA7CAC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1E8-C557-4D28-B89F-BF8E8EC2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312E-F020-4429-9F18-16EDB5B3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D4C6-9ABB-4A5A-B09A-A37534BD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EF36-D63D-462F-A480-F6CB26B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4B20-0C91-41A9-8D04-7597D877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90B3-ED00-4621-BF53-B8C126A1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C0A9-27A9-4E9A-AAAA-0254029D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E1F9-D477-414B-AD2F-1EBE788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432-834C-4637-9464-192FB84A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3B49-58D0-4F8F-A88E-E8712F9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5D71-6587-42C9-8E81-5BB501D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0AF8-AEA7-4708-BC75-6D857767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CCC3-F7C9-4AA8-893C-39ED464F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5111-4DEA-4EC9-80DA-005480B3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B98A-2982-4367-95E2-43AEE225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23C7-04AA-4854-82E7-09C62CF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FCE9-4AEC-43A7-9A2B-1783F62A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3115-390E-4D80-98FF-D5F60C3E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E7D8-923F-494D-A586-E4536601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4BC-F6EA-4D83-B4CC-3405CA3C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F16F-8E4A-4C99-8684-A5D346C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E0B8-FCC0-4B12-B0AF-B4B6287A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0375-21F3-4710-A6A1-8D1E7B20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8C78-9755-47FD-8340-25CE5974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AC99-C7A0-4C26-A211-9F3A0D32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5C4B-2641-4F56-B045-A89D04C8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203E-DFF5-49E0-B85F-0F7EEF03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FE7D-B4C4-4F5F-ADC5-CF6D46E7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92DC-3755-4E0A-B8CF-9EA05FAA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9CAFD-85FD-4C30-89E0-49290D19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9D4-C186-4464-BFC7-604C377C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228A1-4CB0-4172-BF7B-A46C9AAB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93CE-DBEE-449B-84BD-EBE14322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120C-C178-4703-BA9F-06897F74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AC64D-581D-4C08-ACB8-B63E3211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44A6-EC32-4887-8456-54424D4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0A1F-D3F3-4768-9B5B-6E41B615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7750-B379-4DC4-9EE4-27DA4605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E3330-FCC8-43A8-B023-9021065A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0D00-9C34-4EF4-801C-E62B6CFD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0A49-C0C4-4A55-A4F3-7B1D67BD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043-EFC0-463E-947D-BF48E2E1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951D5-8178-4BBD-9E3F-4474A766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CBC26-4E08-4597-8F61-18001B81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5D704-9363-44C3-B983-3F58DC9D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A1FF1-538B-4DD1-A647-87B50C30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A226-724B-4E78-85B0-A0DB31CE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B486-6FEC-41C2-8D5F-6383E635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01E34-219C-4852-89C5-40EA9D50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4D7F7-AAE4-4B1B-8244-0310FDA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A495A-D029-4DD9-AB2A-432250BE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2E785-CB48-4AFA-A5BB-730D59F6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5B5-941A-48DF-B63D-F83EE3E0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4507-3475-4C34-A756-7580F214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362-F0C4-4519-A642-D5803024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834-477A-4D1A-96DA-703F179E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CAF-1EAB-4118-BC7B-9F0B87E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4080" y="-4680"/>
                <a:ext cx="9781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59760" y="1697040"/>
                <a:ext cx="978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6240" y="1280880"/>
                <a:ext cx="9784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6240" y="145440"/>
                <a:ext cx="9784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59760" y="989640"/>
                <a:ext cx="9784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1560" y="679320"/>
                <a:ext cx="9784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3000" y="371520"/>
                <a:ext cx="9907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5000" y="3930120"/>
                <a:ext cx="9781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1840" y="3536640"/>
                <a:ext cx="978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1840" y="2397600"/>
                <a:ext cx="9784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1840" y="3228480"/>
                <a:ext cx="9784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1840" y="2931480"/>
                <a:ext cx="9784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1840" y="2615400"/>
                <a:ext cx="9907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81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080" y="4547520"/>
                <a:ext cx="9784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160" y="5654520"/>
                <a:ext cx="9784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2520" y="6190200"/>
                <a:ext cx="345960" cy="979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81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903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FE15-EF78-4015-B428-20E461405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5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66" name="Freeform 4"/>
              <p:cNvSpPr/>
              <p:nvPr/>
            </p:nvSpPr>
            <p:spPr>
              <a:xfrm flipH="1">
                <a:off x="67680" y="-4680"/>
                <a:ext cx="9748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>
                <a:off x="62640" y="169740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>
                <a:off x="70200" y="1279080"/>
                <a:ext cx="9752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>
                <a:off x="70200" y="143280"/>
                <a:ext cx="9752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>
                <a:off x="62640" y="990000"/>
                <a:ext cx="9752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>
                <a:off x="64080" y="677160"/>
                <a:ext cx="9752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>
                <a:off x="65880" y="369000"/>
                <a:ext cx="98784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>
                <a:off x="46440" y="3926880"/>
                <a:ext cx="9752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>
                <a:off x="54360" y="353664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>
                <a:off x="54720" y="2397960"/>
                <a:ext cx="9752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>
                <a:off x="54360" y="3227400"/>
                <a:ext cx="9752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>
                <a:off x="54360" y="2931480"/>
                <a:ext cx="9752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>
                <a:off x="55080" y="26139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>
                <a:off x="48960" y="4960080"/>
                <a:ext cx="9748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>
                <a:off x="56880" y="4542480"/>
                <a:ext cx="9748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>
                <a:off x="48960" y="5649840"/>
                <a:ext cx="9748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 rot="16200000">
                <a:off x="362160" y="6192000"/>
                <a:ext cx="345960" cy="976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>
                <a:off x="41400" y="6192000"/>
                <a:ext cx="97488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>
                <a:off x="41400" y="58791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7B06-6446-4C5F-963D-DF456C5E7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04920" y="6172200"/>
            <a:ext cx="7238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30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131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6D5A-4E80-4FB1-A2AE-CB24CFBCF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94" name="Group 3"/>
            <p:cNvGrpSpPr/>
            <p:nvPr/>
          </p:nvGrpSpPr>
          <p:grpSpPr>
            <a:xfrm>
              <a:off x="-3240" y="2479680"/>
              <a:ext cx="9146880" cy="1017000"/>
              <a:chOff x="-3240" y="2479680"/>
              <a:chExt cx="9146880" cy="1017000"/>
            </a:xfrm>
          </p:grpSpPr>
          <p:sp>
            <p:nvSpPr>
              <p:cNvPr id="195" name="Freeform 4"/>
              <p:cNvSpPr/>
              <p:nvPr/>
            </p:nvSpPr>
            <p:spPr>
              <a:xfrm flipH="1" rot="5400000">
                <a:off x="4089600" y="-1576080"/>
                <a:ext cx="9892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 flipH="1" rot="5400000">
                <a:off x="6051600" y="2649240"/>
                <a:ext cx="9892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 flipH="1" rot="5400000">
                <a:off x="659052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 flipH="1" rot="5400000">
                <a:off x="8241840" y="2787480"/>
                <a:ext cx="9892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 flipH="1" rot="5400000">
                <a:off x="7094880" y="275004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 flipH="1" rot="5400000">
                <a:off x="7447320" y="2696040"/>
                <a:ext cx="9892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 flipH="1" rot="5400000">
                <a:off x="7893000" y="2745720"/>
                <a:ext cx="10018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 flipH="1" rot="5400000">
                <a:off x="3058200" y="264276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 flipH="1" rot="5400000">
                <a:off x="3594240" y="264060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 flipH="1" rot="5400000">
                <a:off x="5248800" y="2779560"/>
                <a:ext cx="9892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 flipH="1" rot="5400000">
                <a:off x="4099680" y="274212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 flipH="1" rot="5400000">
                <a:off x="4455000" y="2690280"/>
                <a:ext cx="9889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6"/>
              <p:cNvSpPr/>
              <p:nvPr/>
            </p:nvSpPr>
            <p:spPr>
              <a:xfrm flipH="1" rot="5400000">
                <a:off x="4893840" y="2730600"/>
                <a:ext cx="10018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7"/>
              <p:cNvSpPr/>
              <p:nvPr/>
            </p:nvSpPr>
            <p:spPr>
              <a:xfrm flipH="1" rot="5400000">
                <a:off x="1683000" y="2649240"/>
                <a:ext cx="9892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8"/>
              <p:cNvSpPr/>
              <p:nvPr/>
            </p:nvSpPr>
            <p:spPr>
              <a:xfrm flipH="1" rot="5400000">
                <a:off x="221940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9"/>
              <p:cNvSpPr/>
              <p:nvPr/>
            </p:nvSpPr>
            <p:spPr>
              <a:xfrm flipH="1" rot="5400000">
                <a:off x="880560" y="277776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20"/>
              <p:cNvSpPr/>
              <p:nvPr/>
            </p:nvSpPr>
            <p:spPr>
              <a:xfrm flipH="1">
                <a:off x="-3240" y="2479680"/>
                <a:ext cx="461520" cy="9907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21"/>
              <p:cNvSpPr/>
              <p:nvPr/>
            </p:nvSpPr>
            <p:spPr>
              <a:xfrm flipH="1" rot="5400000">
                <a:off x="86400" y="2690280"/>
                <a:ext cx="9889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22"/>
              <p:cNvSpPr/>
              <p:nvPr/>
            </p:nvSpPr>
            <p:spPr>
              <a:xfrm flipH="1" rot="5400000">
                <a:off x="522000" y="2730600"/>
                <a:ext cx="10018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030E-2170-42B6-B5C5-B154B8097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58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59" name="Freeform 4"/>
              <p:cNvSpPr/>
              <p:nvPr/>
            </p:nvSpPr>
            <p:spPr>
              <a:xfrm flipH="1">
                <a:off x="67680" y="-4680"/>
                <a:ext cx="9748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5"/>
              <p:cNvSpPr/>
              <p:nvPr/>
            </p:nvSpPr>
            <p:spPr>
              <a:xfrm flipH="1">
                <a:off x="62640" y="169740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6"/>
              <p:cNvSpPr/>
              <p:nvPr/>
            </p:nvSpPr>
            <p:spPr>
              <a:xfrm flipH="1">
                <a:off x="70200" y="1279080"/>
                <a:ext cx="9752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7"/>
              <p:cNvSpPr/>
              <p:nvPr/>
            </p:nvSpPr>
            <p:spPr>
              <a:xfrm flipH="1">
                <a:off x="70200" y="143280"/>
                <a:ext cx="9752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 flipH="1">
                <a:off x="62640" y="990000"/>
                <a:ext cx="9752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 flipH="1">
                <a:off x="64080" y="677160"/>
                <a:ext cx="9752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 flipH="1">
                <a:off x="65880" y="369000"/>
                <a:ext cx="98784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 flipH="1">
                <a:off x="46440" y="3926880"/>
                <a:ext cx="9752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 flipH="1">
                <a:off x="54360" y="353664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 flipH="1">
                <a:off x="54720" y="2397960"/>
                <a:ext cx="9752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4"/>
              <p:cNvSpPr/>
              <p:nvPr/>
            </p:nvSpPr>
            <p:spPr>
              <a:xfrm flipH="1">
                <a:off x="54360" y="3227400"/>
                <a:ext cx="9752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5"/>
              <p:cNvSpPr/>
              <p:nvPr/>
            </p:nvSpPr>
            <p:spPr>
              <a:xfrm flipH="1">
                <a:off x="54360" y="2931480"/>
                <a:ext cx="9752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 flipH="1">
                <a:off x="55080" y="26139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 flipH="1">
                <a:off x="48960" y="4960080"/>
                <a:ext cx="9748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8"/>
              <p:cNvSpPr/>
              <p:nvPr/>
            </p:nvSpPr>
            <p:spPr>
              <a:xfrm flipH="1">
                <a:off x="56880" y="4542480"/>
                <a:ext cx="9748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9"/>
              <p:cNvSpPr/>
              <p:nvPr/>
            </p:nvSpPr>
            <p:spPr>
              <a:xfrm flipH="1">
                <a:off x="48960" y="5649840"/>
                <a:ext cx="9748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0"/>
              <p:cNvSpPr/>
              <p:nvPr/>
            </p:nvSpPr>
            <p:spPr>
              <a:xfrm flipH="1" rot="16200000">
                <a:off x="362160" y="6192000"/>
                <a:ext cx="345960" cy="976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1"/>
              <p:cNvSpPr/>
              <p:nvPr/>
            </p:nvSpPr>
            <p:spPr>
              <a:xfrm flipH="1">
                <a:off x="41400" y="6192000"/>
                <a:ext cx="97488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2"/>
              <p:cNvSpPr/>
              <p:nvPr/>
            </p:nvSpPr>
            <p:spPr>
              <a:xfrm flipH="1">
                <a:off x="41400" y="58791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 Box 10"/>
          <p:cNvSpPr/>
          <p:nvPr/>
        </p:nvSpPr>
        <p:spPr>
          <a:xfrm>
            <a:off x="304920" y="6172200"/>
            <a:ext cx="7238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9B46-9EE0-4F5E-945E-C38F92E54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lantic Slave Trade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</a:t>
            </a:r>
            <a:br>
              <a:rPr sz="4200"/>
            </a:b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-Captur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: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traders provided _______________________ to Africa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instigate fighting, but ___________ ________________________ had a distinct advantage over tribes who did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served as the main means of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es actively began to _____________ &amp; _________________ other Africans for the 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 </a:t>
            </a: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-Capture (cont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mor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, _______________,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, _______________________from interior to co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al slave forts served 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 for slave t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ehouses for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 or ___________________ for cap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 </a:t>
            </a:r>
            <a:br>
              <a:rPr sz="4200"/>
            </a:b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I-The Crossing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ing the Atlant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________________________________ to reach the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s were very small and 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-500 people in a boat with ______________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ptains were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d healthy/safety in the _____________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rode on planks 6.5 feet by 1.4 f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1.5-2 feet of hea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4389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ritish Slave Ship- “Tight pack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629400" y="7617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 of the British Slave Shi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o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1788. This plan, which may undercount the human carg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o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rried, shows how tightly Africans were packed aboard slave 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ich02_12"/>
          <p:cNvPicPr/>
          <p:nvPr/>
        </p:nvPicPr>
        <p:blipFill>
          <a:blip r:embed="rId1"/>
          <a:stretch/>
        </p:blipFill>
        <p:spPr>
          <a:xfrm>
            <a:off x="990720" y="838080"/>
            <a:ext cx="5333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4389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ritish Slave Ship- “Loose pack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629400" y="762120"/>
            <a:ext cx="2286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picture depicts a British slave ship utilizing a “loose pack.”  This method was safer and more hygienic for the Africans, but resulted in lower profits for the tr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slaveship2"/>
          <p:cNvPicPr/>
          <p:nvPr/>
        </p:nvPicPr>
        <p:blipFill>
          <a:blip r:embed="rId1"/>
          <a:stretch/>
        </p:blipFill>
        <p:spPr>
          <a:xfrm>
            <a:off x="1143000" y="838080"/>
            <a:ext cx="5181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 </a:t>
            </a:r>
            <a:br>
              <a:rPr sz="4200"/>
            </a:b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I-The Crossing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fed twice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&amp; ____________________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 pulps, stews, and fr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ed meat or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people eating from one bu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ashed hands spread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risings wer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bellions occurred before s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eferred ________ to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s used these uprisings as justification for harsh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I. Seasoning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 of ________________ &amp; __________________in preparation for North American pla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tal _____________________________, 4-5 months in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t to train Africans to be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ed” Africans worth _____________ ________________________ of unseasoned Af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II. The End of the Journey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capture and crossing, 2/3 (__________________________) of the captured Africans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1/3 (_________________________) survived to become _______________ in the 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III. The Ending of the Atlantic Slave Tra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trade is ________________ in the ________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 crusad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_______ less dependent on slave tra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 Britain bans Atlantic slave trade in 1807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trols African coast to enforc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ed States Congress outlaws slave trade in 18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 and _______________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kingdoms oppose banning slave tra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X. Conclu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ly __________________Africans are _________________ during three centuries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_________________ that number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frican people are irrevocably dam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Millions of men are lost to slavery, 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Weakened African tribes are unable to maintain/regain their 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. 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The Age of European Exploration and Coloniz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European countries increased their ___________________________    of the world during 16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2"/>
          <p:cNvSpPr/>
          <p:nvPr/>
        </p:nvSpPr>
        <p:spPr>
          <a:xfrm>
            <a:off x="2971800" y="350532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2971800" y="4470480"/>
            <a:ext cx="4591080" cy="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. 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The Age of European Exploration and Colonization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nquer/colonize-European countries were trying to increase their power &amp; wealt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wanted ______________ to the Eastern markets of India, China, and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s first “explored” Africa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 (around Africa) to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oon ________________________ ________________like gold, salt, &amp; iv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.  The Slave Trade in Africa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kingdoms and Islamic nations conduct brisk slav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b merchants and West African kings imported white slaves from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.  The Slave Trade in Africa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_________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in medieval Europe or indentured serv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imes members of other tribes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____________________________ were mad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African slave trade ___________________________________ who would serve as 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I. The Origins of the Atlantic Slave Trade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5th century, African slaves were used as ______________________________________ (modern day Spain &amp; Portu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due to leftover Islamic influences in thi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uropean countries had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685800" y="27432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990720" y="3048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I. The Origins of the Atlantic Slave Trade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  &amp;  ____________ dominated slave trade in 16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___________________________ ____________________ and other valu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realized that ____________________ _____________ were ideal for growing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ng for gold/silver &amp; growing sugar is _________________ &amp; they______________ ____________________ from African t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utch, English &amp; other European nations 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85800" y="27432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990720" y="3048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V. Growth of the Atlantic Slave Trade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slave trade grew,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 -Africans were seen as “chattel,” or moveabl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ere not seen as humans, and were not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were 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they were stronger laborers than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V. Growth of the Atlantic Slave Trade (cont.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uropean countries colonized the ___________________, slavery follow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ere captured/bought in Africa, and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orth/South America as part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4:57:25Z</dcterms:created>
  <dc:creator>alball</dc:creator>
  <dc:description/>
  <dc:language>en-US</dc:language>
  <cp:lastModifiedBy>Debes John</cp:lastModifiedBy>
  <dcterms:modified xsi:type="dcterms:W3CDTF">2014-03-12T13:21:55Z</dcterms:modified>
  <cp:revision>124</cp:revision>
  <dc:subject/>
  <dc:title>PowerPoint Presentation</dc:title>
</cp:coreProperties>
</file>