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17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18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BF3515-AB60-4CB6-A5C1-BD3CFBC9C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15AE9E-3784-4AB1-B968-BD559E665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A94736-B08C-49EB-843A-B34816E4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CF5316-CC91-4886-B9D7-85B4C424C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9AC09F-37F0-4614-B97F-F647C7555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D042B2-C407-4C47-95E6-815364293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880B03-6FC0-417C-80B5-6532BFFE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5DEB26-D1CE-4F2E-B6ED-E1B2A395E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6E68C4-9151-41AC-9E9C-58BA1BF7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24F0E4-A741-456B-991B-FE66799E3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B95BB1-C3FC-49B6-9372-B500A67E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D69EB3-D169-4D73-AF6D-2A1303DF7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46A7FF-6BB2-4D1C-84AF-D6657D4A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AF5045-4683-4844-A71A-CFB127D0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686708-5B9A-4255-BDC5-2746A914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E97CC6-2D82-4292-B36A-2BD9F4F3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4C9869-C158-4125-AEC2-DE864F4F6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F60-C831-4606-B2F3-628EA6D7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1FE-A471-4A01-A536-F8D8B2C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D23-304E-429E-A8B7-1F60EAD6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9D8-F6E9-44B0-A4A2-8650455B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2ED-D22F-4C9C-B85A-63B02D9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58EF-EE21-4D55-BF71-139CB27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FC9B-537A-4F9B-9B64-023334B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D80-DBA6-47A3-9727-33F0AA40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2D46-3600-4766-A84B-B5DB6A2A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136D-6409-43EE-ADEA-D61F6FB7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43A5-63EC-43A9-B30F-5D6F4DC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36B-AF59-4A7A-BFF4-26D782CD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B6B-CB70-4F4F-B43B-5C5D616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E10-8B72-4263-AB9E-DB8CFFF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2F85-E5BD-48B3-A868-8540258A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5D95-B63C-4AF0-9A62-8184FE5E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95D-77D7-4F91-A873-8654380F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1DAE-DEB3-43E8-A0C4-004F98AF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D326-BFB8-4F6F-933B-CCB9C190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3EA3-BC1A-4572-BE6E-16590EC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7139-BB1A-46C6-BCE9-5A738ADD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963E-0E2C-44BD-984D-6555B944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EAC-B751-4686-A347-151CB36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8748-79C4-4EC0-B045-F052F86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F71A-6306-478A-A7D0-EBC6061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71AA-E0A4-4442-B90C-2F2EC5C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C326-B18A-47E7-9AD4-6A9F4AB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7880-6B06-41B1-95DF-E74232E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F814-4C0E-4E1E-A2DB-B09BC1D8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CAB3-16BD-47BB-8A27-993ABADC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455F-19C0-4B0A-A08C-8F709607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9266-186E-4154-8CD6-6208407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40AD-6202-4C47-85AA-4F1250D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7AA-D4F2-40B1-B167-8C461924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E099-0BB9-4440-80C7-BEB152CA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E0B1-B9FF-4E63-A343-1B67F2AE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7D71-8908-4548-A4B5-4555514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131D-FAE2-4C8C-8E0E-C12D27A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B617-7646-473A-9D97-838B356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1AFD-4EC3-466D-873B-D1CDA37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7211-DB8F-423F-9D13-D433261B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3D90-9352-45BF-B296-979D96E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C1B9-8E25-47E6-9BCD-1324973F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1B904-1C9C-4745-BE32-56C98BE5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6D2-C806-482D-A51E-DC7C16A0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7E9FC-3789-48F7-A7B3-A220FA68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0DB7-EF89-45F7-846A-C07196C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1114-0C43-4669-8EEC-0E706DD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874A-FB00-43EA-9486-415498B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4B24-5AE9-4727-BA58-A1A20D3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1308-F341-44D3-803F-8844AED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E32D5-DE88-41D8-8EF6-13EC031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D4B5-143C-46FB-B8CA-1EE1EFB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E28E9-12A4-4FA2-B74B-15E62D4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E4CED-6CD3-4FDE-BA5D-8D8652FB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1A4-6C5D-481C-B556-CB6DF812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AC11-6DE3-4424-86F6-AE9B4D96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2C8-3CE0-4E3C-9D78-42CF4F8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763-F570-4DB4-BCF9-FB0001BD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E74-CA1E-4241-BF82-2BA4FD3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4080" y="-4680"/>
                <a:ext cx="9781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9760" y="1697040"/>
                <a:ext cx="978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6240" y="1280880"/>
                <a:ext cx="978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6240" y="145440"/>
                <a:ext cx="9784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9760" y="989640"/>
                <a:ext cx="9784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1560" y="679320"/>
                <a:ext cx="9784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3000" y="371520"/>
                <a:ext cx="9907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5000" y="3930120"/>
                <a:ext cx="978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1840" y="3536640"/>
                <a:ext cx="978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1840" y="2397600"/>
                <a:ext cx="9784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1840" y="3228480"/>
                <a:ext cx="9784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1840" y="2931480"/>
                <a:ext cx="9784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1840" y="2615400"/>
                <a:ext cx="9907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8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080" y="4547520"/>
                <a:ext cx="978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160" y="5654520"/>
                <a:ext cx="9784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2520" y="6190200"/>
                <a:ext cx="345960" cy="979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81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903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431A-30A5-4CD0-A5C3-2CAF5A31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66" name="Freeform 4"/>
              <p:cNvSpPr/>
              <p:nvPr/>
            </p:nvSpPr>
            <p:spPr>
              <a:xfrm flipH="1">
                <a:off x="67680" y="-4680"/>
                <a:ext cx="9748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>
                <a:off x="62640" y="169740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>
                <a:off x="70200" y="1279080"/>
                <a:ext cx="9752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>
                <a:off x="70200" y="143280"/>
                <a:ext cx="9752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>
                <a:off x="62640" y="990000"/>
                <a:ext cx="9752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>
                <a:off x="64080" y="677160"/>
                <a:ext cx="9752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>
                <a:off x="65880" y="369000"/>
                <a:ext cx="9878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>
                <a:off x="46440" y="3926880"/>
                <a:ext cx="9752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>
                <a:off x="54360" y="353664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>
                <a:off x="54720" y="2397960"/>
                <a:ext cx="9752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>
                <a:off x="54360" y="3227400"/>
                <a:ext cx="9752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>
                <a:off x="54360" y="2931480"/>
                <a:ext cx="9752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>
                <a:off x="55080" y="26139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>
                <a:off x="48960" y="4960080"/>
                <a:ext cx="9748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>
                <a:off x="56880" y="4542480"/>
                <a:ext cx="9748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>
                <a:off x="48960" y="5649840"/>
                <a:ext cx="974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 rot="16200000">
                <a:off x="362160" y="6192000"/>
                <a:ext cx="345960" cy="976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>
                <a:off x="41400" y="6192000"/>
                <a:ext cx="9748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>
                <a:off x="41400" y="58791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2B33-C205-46BE-9329-E3BD7CCA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04920" y="6172200"/>
            <a:ext cx="7238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30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131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2CF-9D08-4024-BD92-95F5A219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94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195" name="Freeform 4"/>
              <p:cNvSpPr/>
              <p:nvPr/>
            </p:nvSpPr>
            <p:spPr>
              <a:xfrm flipH="1" rot="5400000">
                <a:off x="4089600" y="-1576080"/>
                <a:ext cx="9892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 flipH="1" rot="5400000">
                <a:off x="605160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 flipH="1" rot="5400000">
                <a:off x="659052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 flipH="1" rot="5400000">
                <a:off x="8241840" y="278748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 flipH="1" rot="5400000">
                <a:off x="7094880" y="275004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 flipH="1" rot="5400000">
                <a:off x="7447320" y="2696040"/>
                <a:ext cx="9892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 flipH="1" rot="5400000">
                <a:off x="7893000" y="2745720"/>
                <a:ext cx="10018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 flipH="1" rot="5400000">
                <a:off x="3058200" y="264276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 flipH="1" rot="5400000">
                <a:off x="3594240" y="264060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 flipH="1" rot="5400000">
                <a:off x="5248800" y="2779560"/>
                <a:ext cx="9892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 flipH="1" rot="5400000">
                <a:off x="4099680" y="274212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flipH="1" rot="5400000">
                <a:off x="4455000" y="2690280"/>
                <a:ext cx="9889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flipH="1" rot="5400000">
                <a:off x="4893840" y="2730600"/>
                <a:ext cx="10018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7"/>
              <p:cNvSpPr/>
              <p:nvPr/>
            </p:nvSpPr>
            <p:spPr>
              <a:xfrm flipH="1" rot="5400000">
                <a:off x="1683000" y="2649240"/>
                <a:ext cx="9892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8"/>
              <p:cNvSpPr/>
              <p:nvPr/>
            </p:nvSpPr>
            <p:spPr>
              <a:xfrm flipH="1" rot="5400000">
                <a:off x="221940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9"/>
              <p:cNvSpPr/>
              <p:nvPr/>
            </p:nvSpPr>
            <p:spPr>
              <a:xfrm flipH="1" rot="5400000">
                <a:off x="880560" y="277776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20"/>
              <p:cNvSpPr/>
              <p:nvPr/>
            </p:nvSpPr>
            <p:spPr>
              <a:xfrm flipH="1">
                <a:off x="-3240" y="2479680"/>
                <a:ext cx="461520" cy="9907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1"/>
              <p:cNvSpPr/>
              <p:nvPr/>
            </p:nvSpPr>
            <p:spPr>
              <a:xfrm flipH="1" rot="5400000">
                <a:off x="86400" y="2690280"/>
                <a:ext cx="9889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2"/>
              <p:cNvSpPr/>
              <p:nvPr/>
            </p:nvSpPr>
            <p:spPr>
              <a:xfrm flipH="1" rot="5400000">
                <a:off x="522000" y="2730600"/>
                <a:ext cx="10018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B9A-B18D-4ADE-870F-5F6FAA1B3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59" name="Freeform 4"/>
              <p:cNvSpPr/>
              <p:nvPr/>
            </p:nvSpPr>
            <p:spPr>
              <a:xfrm flipH="1">
                <a:off x="67680" y="-4680"/>
                <a:ext cx="9748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5"/>
              <p:cNvSpPr/>
              <p:nvPr/>
            </p:nvSpPr>
            <p:spPr>
              <a:xfrm flipH="1">
                <a:off x="62640" y="169740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 flipH="1">
                <a:off x="70200" y="1279080"/>
                <a:ext cx="9752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 flipH="1">
                <a:off x="70200" y="143280"/>
                <a:ext cx="9752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 flipH="1">
                <a:off x="62640" y="990000"/>
                <a:ext cx="9752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 flipH="1">
                <a:off x="64080" y="677160"/>
                <a:ext cx="9752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 flipH="1">
                <a:off x="65880" y="369000"/>
                <a:ext cx="9878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 flipH="1">
                <a:off x="46440" y="3926880"/>
                <a:ext cx="9752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 flipH="1">
                <a:off x="54360" y="3536640"/>
                <a:ext cx="975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 flipH="1">
                <a:off x="54720" y="2397960"/>
                <a:ext cx="9752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 flipH="1">
                <a:off x="54360" y="3227400"/>
                <a:ext cx="9752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 flipH="1">
                <a:off x="54360" y="2931480"/>
                <a:ext cx="9752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 flipH="1">
                <a:off x="55080" y="26139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 flipH="1">
                <a:off x="48960" y="4960080"/>
                <a:ext cx="9748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 flipH="1">
                <a:off x="56880" y="4542480"/>
                <a:ext cx="9748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 flipH="1">
                <a:off x="48960" y="5649840"/>
                <a:ext cx="974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0"/>
              <p:cNvSpPr/>
              <p:nvPr/>
            </p:nvSpPr>
            <p:spPr>
              <a:xfrm flipH="1" rot="16200000">
                <a:off x="362160" y="6192000"/>
                <a:ext cx="345960" cy="976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1"/>
              <p:cNvSpPr/>
              <p:nvPr/>
            </p:nvSpPr>
            <p:spPr>
              <a:xfrm flipH="1">
                <a:off x="41400" y="6192000"/>
                <a:ext cx="9748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2"/>
              <p:cNvSpPr/>
              <p:nvPr/>
            </p:nvSpPr>
            <p:spPr>
              <a:xfrm flipH="1">
                <a:off x="41400" y="5879160"/>
                <a:ext cx="987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10"/>
          <p:cNvSpPr/>
          <p:nvPr/>
        </p:nvSpPr>
        <p:spPr>
          <a:xfrm>
            <a:off x="304920" y="6172200"/>
            <a:ext cx="7238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43CE-7188-483D-8C82-FA796CE4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lantic Slave Trade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-Captur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: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traders provided _______________________ to Africa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instigate fighting, but ___________ ________________________ had a distinct advantage over tribes who did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served as the main means of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es actively began to _____________ &amp; _________________ other Africans for the 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-Capture (co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, _______________,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, _______________________from interior to co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slave forts served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for slave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ehouses for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 or ___________________ for cap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I-The Crossing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the Atlan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________________________________ to reach the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s were very small and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-500 people in a boat with ______________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ptains were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d healthy/safety in the _____________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rode on planks 6.5 feet by 1.4 f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1.5-2 feet of hea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4389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itish Slave Ship- “Tight pack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629400" y="7617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 of the British Slave Shi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o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1788. This plan, which may undercount the human carg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o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rried, shows how tightly Africans were packed aboard slave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ich02_12"/>
          <p:cNvPicPr/>
          <p:nvPr/>
        </p:nvPicPr>
        <p:blipFill>
          <a:blip r:embed="rId1"/>
          <a:stretch/>
        </p:blipFill>
        <p:spPr>
          <a:xfrm>
            <a:off x="990720" y="838080"/>
            <a:ext cx="5333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4389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itish Slave Ship- “Loose pack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629400" y="762120"/>
            <a:ext cx="228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picture depicts a British slave ship utilizing a “loose pack.”  This method was safer and more hygienic for the Africans, but resulted in lower profits for the tr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slaveship2"/>
          <p:cNvPicPr/>
          <p:nvPr/>
        </p:nvPicPr>
        <p:blipFill>
          <a:blip r:embed="rId1"/>
          <a:stretch/>
        </p:blipFill>
        <p:spPr>
          <a:xfrm>
            <a:off x="1143000" y="838080"/>
            <a:ext cx="5181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. The African-American Ordeal </a:t>
            </a:r>
            <a:br>
              <a:rPr sz="4200"/>
            </a:br>
            <a:r>
              <a:rPr b="0" i="1" lang="en-US" sz="4200" spc="-1" strike="noStrike">
                <a:solidFill>
                  <a:srgbClr val="bc1b12"/>
                </a:solidFill>
                <a:latin typeface="Times New Roman"/>
              </a:rPr>
              <a:t>Part II-The Crossing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fed twice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&amp; ____________________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 pulps, stews, and fr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ed meat or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people eating from one bu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ashed hands spread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risings we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bellions occurred before s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eferred ________ t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s used these uprisings as justification for harsh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I. Seasoning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________________ &amp; __________________in preparation for North American pla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tal _____________________________, 4-5 months in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t to train Africans to be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ed” Africans worth _____________ ________________________ of unseasoned Af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VII. The End of the Journey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apture and crossing, 2/3 (__________________________) of the captured Africans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/3 (_________________________) survived to become _______________ in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II. The Ending of the Atlantic Slave Tra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 is ________________ in the ________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 crusad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___ less dependent on slave tr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 Britain bans Atlantic slave trade in 1807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rols African coast to enforc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ed States Congress outlaws slave trade in 18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 and ______________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ingdoms oppose banning slave tr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X. 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__________________Africans are _________________ during three centuries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_________________ that number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 people are irrevocably dam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Millions of men are lost to slavery, 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Weakened African tribes are unable to maintain/regain their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. 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The Age of European Exploration and Coloniz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an countries increased their ___________________________    of the world during 1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2"/>
          <p:cNvSpPr/>
          <p:nvPr/>
        </p:nvSpPr>
        <p:spPr>
          <a:xfrm>
            <a:off x="2971800" y="350532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2971800" y="4470480"/>
            <a:ext cx="459108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. 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The Age of European Exploration and Colonization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nquer/colonize-European countries were trying to increase their power &amp; wealt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wanted ______________ to the Eastern markets of India, China,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s first “explored” Africa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 (around Africa) to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oon ________________________ ________________like gold, salt, &amp; iv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.  The Slave Trade in Africa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kingdoms and Islamic nations conduct brisk slav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 merchants and West African kings imported white slaves from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.  The Slave Trade in Africa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_______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in medieval Europe or indentured serv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imes members of other tribe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____________________________ were mad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African slave trade ___________________________________ who would serve as 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I. The Origins of the Atlantic Slave Trade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5th century, African slaves were used as ______________________________________ (modern day Spain &amp; Portu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due to leftover Islamic influences in thi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uropean countries had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" y="27432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907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II. The Origins of the Atlantic Slave Trade (cont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  &amp;  ____________ dominated slave trade in 16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___________________________ ____________________ and other valu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realized that ____________________ _____________ were ideal for growing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ng for gold/silver &amp; growing sugar is _________________ &amp; they______________ ____________________ from African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tch, English &amp; other European nations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85800" y="27432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9907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V. Growth of the Atlantic Slave Trade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slave trade grew,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 -Africans were seen as “chattel,” or moveabl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ere not seen as humans, and were not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were 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they were stronger laborers than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V. Growth of the Atlantic Slave Trade (cont.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uropean countries colonized the ___________________, slavery follow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ere captured/bought in Africa, and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orth/South America as par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4:57:25Z</dcterms:created>
  <dc:creator>alball</dc:creator>
  <dc:description/>
  <dc:language>en-US</dc:language>
  <cp:lastModifiedBy>Debes John</cp:lastModifiedBy>
  <dcterms:modified xsi:type="dcterms:W3CDTF">2014-03-12T13:21:55Z</dcterms:modified>
  <cp:revision>124</cp:revision>
  <dc:subject/>
  <dc:title>PowerPoint Presentation</dc:title>
</cp:coreProperties>
</file>