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A7B-A090-4422-8BFE-A698C627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FED-9FB0-4F2C-84A5-5E36EAD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07F-5EB7-4593-BFD5-8E243663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656-5FA4-46DC-9424-C56A13E6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92D-106B-481B-97AD-8155D3E9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637-C0A2-4FEC-8550-D0F5EF3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02E-F16B-4DC4-A84B-9E3BF72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78C-3EDE-4848-BCB3-266EFDD7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29E-740C-4F3B-8383-33E5823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4C1-EEC3-45D9-A9A5-50FF4E7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C85-F755-4B1C-A4A5-16D5BC8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74A-CE85-42E8-9E7C-99086DD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CFFA-22E7-4864-94C6-0296FB57A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5 &amp; 36: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: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 child’s ability to understand what is said _____ &amp; ________________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 language: ability to ______________________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  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____________, syllable_______________, simple sentence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 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________________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__________ 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_lobe (usually the _______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_____________ lobe                                                                     (usually in the _____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962520" y="3200400"/>
            <a:ext cx="51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___________________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_____________________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___________________ &amp; seco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___________________________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__________________________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____________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-304920" y="99072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_______________ determine what we think, but it does influence ____________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-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: Step-by-step process; _____________________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: thinking strategies that allows us to make ___________________ &amp; solve problems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: sudden realization of a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  _____________: seeking out of evidence that _______________ our ideas &amp; _______________________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 __________: approaching a problem with what has worked for us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________________________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__________________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____________________by letting our brain work on a problem without____________________ thinking about it, it’s usually __________________, &amp; it is implicit knowledge born of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dging the __________________________ of something in terms of how well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r 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_______________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_____________; our prototypes aren’t always accurate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74840" y="48434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724280"/>
            <a:ext cx="18158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724280"/>
            <a:ext cx="181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ing the _______________________ of events based on their availability in our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 memories cause us to believe events are more probable, while ___________________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______________of an event’s occurrence or its’ ________________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-726480" y="645804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44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1479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-Tendency to overestimate the accuracy of our ___________________&amp;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 __________________________-Clinging to our beliefs in the face of _________________________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-The way an issue is presented or posed (framed) can_________________________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19T16:12:10Z</dcterms:modified>
  <cp:revision>263</cp:revision>
  <dc:subject/>
  <dc:title>Slide 1</dc:title>
</cp:coreProperties>
</file>