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EAE-D466-4434-BB1C-7F494197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22C-2073-42FA-A409-D38691AD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22F-D8FA-4421-A795-392D70FC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D4F-A64F-4590-BC3A-4F7DFD47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98F7-BD3B-4FD5-B45F-B7224976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40D-F84F-4E6A-AC80-FC81CDC1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11E9-771A-4292-AA8F-D827CA5E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562-B1A1-463B-AB76-6FA9FA0A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96C5-978B-408A-B338-07FDDCFC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D12-A7A2-4AB3-B173-F6BC196F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D71-6220-4F0B-A1AF-DAD5EBC3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B3B-B6DE-48AA-84FE-BD7E94C8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cd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C517-58C3-40C9-A69E-E180141E6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AP Psycholog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t VII: Memory</a:t>
            </a:r>
            <a:br>
              <a:rPr sz="32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dules 35 &amp; 36: Problem Solving, Making Decisions, Thought &amp;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6: Thinking &amp;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tent Placeholder 2"/>
          <p:cNvSpPr/>
          <p:nvPr/>
        </p:nvSpPr>
        <p:spPr>
          <a:xfrm>
            <a:off x="-792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:smallest distinctive soun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t”-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*not the same as letters**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chat”-also 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:smallest units that carry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honemes, i.e.-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“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 at the end of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a word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gen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refixes &amp; suffixes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, ange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: system of rules that enables communication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: rules for deriving meaning from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: rules for ordering words into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4575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 language: a child’s ability to understand what is said _____ &amp; ________________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develops b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 language: ability to ______________________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bbling stage: at 4 months, spontaneous sounds One-word stage: aroun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single-word speech beg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-word stage: arou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two word sentences (also known as “telegraphic speech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 telegraphic speech, children rapidly begin using longer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am Chom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l languages share basic 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  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uns, verbs, adjectiv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______________  _____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rn with a built-in predisposition to learn grammar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Content Placeholder 2"/>
          <p:cNvSpPr/>
          <p:nvPr/>
        </p:nvSpPr>
        <p:spPr>
          <a:xfrm>
            <a:off x="14400" y="990720"/>
            <a:ext cx="91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 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uman infants are extremely proficient in learn statistical aspects of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____________, syllable_______________, simple sentence 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 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hildhood represents the best opportunity to ________________ certain aspects of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-learning window” appears to begin to close around __________ 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-144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: an impairment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result from damage to several cortic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oca’s Area: controls language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______________lobe (usually the _______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rects the muscle movements involved in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nicke’s Area:                                                controls language                                              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_____________ lobe                                                                     (usually in the _____                                                  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rehension &amp;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pression of speech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KKorek\Documents\ABCFiles\2013 Myers AP 2e\Images\ImageJPGs_Module36\ImageJPGs_Module36\MyAP2e_fig_36_02.jpg"/>
          <p:cNvPicPr/>
          <p:nvPr/>
        </p:nvPicPr>
        <p:blipFill>
          <a:blip r:embed="rId1"/>
          <a:stretch/>
        </p:blipFill>
        <p:spPr>
          <a:xfrm>
            <a:off x="3962520" y="3200400"/>
            <a:ext cx="5181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-1440" y="111276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rn neuroscience has shown that when processing language, the brain ___________________ its’ ment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neural networks are _____________________ by nouns &amp; verbs, objects &amp; actions, different vowels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neural networks are activated by one’s native ___________________ &amp; seco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 (learned lat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and Thou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njamin Lee Who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nguistic ___________________________: language determines the way we th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 __________________________-we think about things for which we have no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lingual individuals ____________ think differently in different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Influences Thin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KKorek\Documents\ABCFiles\2013 Myers AP 2e\Images\ImageJPGs_Module36\ImageJPGs_Module36\MyAP2e_fig_36_04.jpg"/>
          <p:cNvPicPr/>
          <p:nvPr/>
        </p:nvPicPr>
        <p:blipFill>
          <a:blip r:embed="rId1"/>
          <a:stretch/>
        </p:blipFill>
        <p:spPr>
          <a:xfrm>
            <a:off x="4267080" y="990720"/>
            <a:ext cx="4876920" cy="58784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-304920" y="99072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nguage _______________ determine what we think, but it does influence ____________ we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nking also influences our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5-Problem solving &amp; making decis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Problem Solving Strategi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: Step-by-step process; _____________________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: thinking strategies that allows us to make ___________________ &amp; solve problems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ster process, but more prone to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: sudden realization of a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Obstacles to Problem Solving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0" y="82692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40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  _____________: seeking out of evidence that _______________ our ideas &amp; _______________________ what refutes those id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 __________: approaching a problem with what has worked for us 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prevent us from identifying new ways to solv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ief persev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4575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mediate, ________________________ unreasoned 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for the __________________ of the hundreds of judgments &amp; decisions one makes each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olicy makers in government, business, &amp;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t of their pa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wer of intu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can ____________________by letting our brain work on a problem without____________________ thinking about it, it’s usually __________________, &amp; it is implicit knowledge born of 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dging the __________________________ of something in terms of how well the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res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ur 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ows us to make _______________ decisions/ju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luences many of our daily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lead to _____________; our prototypes aren’t always accurate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                    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474840" y="484344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o professional athletes: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” is 6’8” &amp; 240 l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” is 5’6” &amp; 190 lb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sport do you think each one p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c1.staticflickr.com/3/2818/11517766975_d6373e5263_b.jpg"/>
          <p:cNvPicPr/>
          <p:nvPr/>
        </p:nvPicPr>
        <p:blipFill>
          <a:blip r:embed="rId1"/>
          <a:stretch/>
        </p:blipFill>
        <p:spPr>
          <a:xfrm>
            <a:off x="4589640" y="4724280"/>
            <a:ext cx="1815840" cy="213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phillysportsnetwork.com/wp-content/uploads/2015/08/7-darren-sproles-rb-philadelphia-eagles_pg_600.jpg"/>
          <p:cNvPicPr/>
          <p:nvPr/>
        </p:nvPicPr>
        <p:blipFill>
          <a:blip r:embed="rId2"/>
          <a:stretch/>
        </p:blipFill>
        <p:spPr>
          <a:xfrm>
            <a:off x="6869160" y="4724280"/>
            <a:ext cx="18129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4575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imating the _______________________ of events based on their availability in our mem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 memories cause us to believe events are more probable, while ___________________ events make us believe they are less likely to occur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______________of an event’s occurrence or its’ ________________can also influence our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n violence has led to many calls for stricter gun-contro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11,208 gun homicide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32, 719 deaths due to auto accident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-726480" y="6458040"/>
            <a:ext cx="99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*Little call for stricter driver licensing regulation/lower speed limits, etc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44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verconfidence, Belief Perseverance, &amp; Fra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0" y="14796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-Tendency to overestimate the accuracy of our ___________________&amp;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 __________________________-Clinging to our beliefs in the face of _________________________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-The way an issue is presented or posed (framed) can_________________________ our decision/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6-01-19T16:12:10Z</dcterms:modified>
  <cp:revision>263</cp:revision>
  <dc:subject/>
  <dc:title>Slide 1</dc:title>
</cp:coreProperties>
</file>